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18.wmf" ContentType="image/x-wmf"/>
  <Override PartName="/ppt/media/image13.jpeg" ContentType="image/jpeg"/>
  <Override PartName="/ppt/media/image23.png" ContentType="image/png"/>
  <Override PartName="/ppt/media/image25.jpeg" ContentType="image/jpeg"/>
  <Override PartName="/ppt/media/image2.wmf" ContentType="image/x-wmf"/>
  <Override PartName="/ppt/media/image2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8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5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A08-DA06-4C01-8D9B-5711E99B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53C-B6F7-42ED-8A00-C216C301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82F-1C09-4AD3-AC3B-07FF458C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193-2F92-4439-AB86-0E1A4921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5BFD-32B0-4E60-9028-7026ECF9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49D0-CE9A-45C2-A248-6A8A69AC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F10-7334-4085-8571-E9F0F79F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0334-D3F4-4CA7-A700-1972C1DF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E5E-EE6D-4AEA-8EA8-CBDAF388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DE02-A804-4119-83C6-2F6BCB8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E69-B31F-4602-A836-AA23DEAD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D5C-7117-4B7A-9FB2-CCE629BA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ED8A-222D-4814-959C-DD3B71EB3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229600" cy="601992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219320"/>
          <a:ext cx="609624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219320"/>
                    <a:ext cx="60962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16000" y="91440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Microbial Ea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-1066680" y="0"/>
            <a:ext cx="10210680" cy="687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rcRect l="8037" t="6547" r="7441" b="7739"/>
          <a:stretch/>
        </p:blipFill>
        <p:spPr>
          <a:xfrm>
            <a:off x="2743200" y="2514600"/>
            <a:ext cx="3456000" cy="350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0" y="-9360"/>
            <a:ext cx="9144000" cy="979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8170920" y="-9360"/>
            <a:ext cx="973080" cy="971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6764400" y="272880"/>
            <a:ext cx="1386000" cy="3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6107040" y="-9360"/>
            <a:ext cx="638280" cy="971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4160" y="1600200"/>
            <a:ext cx="806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hods for Exploring the Microbial Ear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Iso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quid me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a naturally abundant organism or significant enrich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0" b="59109"/>
          <a:stretch/>
        </p:blipFill>
        <p:spPr>
          <a:xfrm>
            <a:off x="762120" y="2895480"/>
            <a:ext cx="761976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Iso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id Me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 Plate 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0" t="0" r="0" b="19639"/>
          <a:stretch/>
        </p:blipFill>
        <p:spPr>
          <a:xfrm>
            <a:off x="1523880" y="2824200"/>
            <a:ext cx="76201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Iso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id Me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eak Plate Tech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413240" y="2057400"/>
          <a:ext cx="4299120" cy="4530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3240" y="2057400"/>
                    <a:ext cx="4299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8686800" cy="68580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Koch’s Postulat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ltivation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acillus anthrac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n solid media conclusively established Germ Theory of Disea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910200">
            <a:off x="-880920" y="153720"/>
            <a:ext cx="10736280" cy="6392880"/>
          </a:xfrm>
          <a:prstGeom prst="ellipse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622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Great Plate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unt Anomal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23622" t="4724" r="8661" b="0"/>
          <a:stretch/>
        </p:blipFill>
        <p:spPr>
          <a:xfrm>
            <a:off x="304920" y="719280"/>
            <a:ext cx="3919320" cy="3852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800600" y="2100240"/>
            <a:ext cx="3817800" cy="3995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 Brief History of Microbial Biolog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icroscopic Obse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ultivation and Experi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560" y="2147760"/>
            <a:ext cx="64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Few reliable morphological character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9720" y="3443400"/>
            <a:ext cx="64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Only 0.1-1% of microbes are easily g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662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7160" y="4267080"/>
            <a:ext cx="38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lecular Paradig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752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NA sequenc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alysi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6S rRNA ge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3229" r="0" b="0"/>
          <a:stretch/>
        </p:blipFill>
        <p:spPr>
          <a:xfrm>
            <a:off x="4097160" y="304920"/>
            <a:ext cx="4753080" cy="6172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11224" t="30710" r="69544" b="53763"/>
          <a:stretch/>
        </p:blipFill>
        <p:spPr>
          <a:xfrm>
            <a:off x="3048120" y="609480"/>
            <a:ext cx="3727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9880" y="2743200"/>
            <a:ext cx="5029200" cy="3817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3962520" cy="3359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67320" y="685800"/>
            <a:ext cx="414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vealing the Extent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crobial Divers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800" y="3657600"/>
            <a:ext cx="24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2 “Kingdom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2212920"/>
            <a:ext cx="26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gt;50 “Kingdom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46440" y="533520"/>
            <a:ext cx="3682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olymerase Chai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action (PCR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0"/>
            <a:ext cx="3876480" cy="6857640"/>
            <a:chOff x="0" y="0"/>
            <a:chExt cx="3876480" cy="6857640"/>
          </a:xfrm>
        </p:grpSpPr>
        <p:sp>
          <p:nvSpPr>
            <p:cNvPr id="124" name=""/>
            <p:cNvSpPr/>
            <p:nvPr/>
          </p:nvSpPr>
          <p:spPr>
            <a:xfrm>
              <a:off x="0" y="0"/>
              <a:ext cx="3876480" cy="685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26440" y="894240"/>
              <a:ext cx="878040" cy="1800"/>
            </a:xfrm>
            <a:prstGeom prst="line">
              <a:avLst/>
            </a:prstGeom>
            <a:ln w="525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22120" y="993240"/>
              <a:ext cx="878040" cy="2160"/>
            </a:xfrm>
            <a:prstGeom prst="line">
              <a:avLst/>
            </a:prstGeom>
            <a:ln w="525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31880" y="622800"/>
              <a:ext cx="885960" cy="1800"/>
            </a:xfrm>
            <a:prstGeom prst="line">
              <a:avLst/>
            </a:prstGeom>
            <a:ln w="525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27560" y="726120"/>
              <a:ext cx="885960" cy="2160"/>
            </a:xfrm>
            <a:prstGeom prst="line">
              <a:avLst/>
            </a:prstGeom>
            <a:ln w="525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79560" y="1736640"/>
              <a:ext cx="186120" cy="2160"/>
            </a:xfrm>
            <a:prstGeom prst="line">
              <a:avLst/>
            </a:prstGeom>
            <a:ln w="525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653840" y="1792440"/>
              <a:ext cx="194760" cy="2160"/>
            </a:xfrm>
            <a:prstGeom prst="line">
              <a:avLst/>
            </a:prstGeom>
            <a:ln w="525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75240" y="1645560"/>
              <a:ext cx="878040" cy="2160"/>
            </a:xfrm>
            <a:prstGeom prst="line">
              <a:avLst/>
            </a:prstGeom>
            <a:ln w="525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75240" y="1887840"/>
              <a:ext cx="878040" cy="2160"/>
            </a:xfrm>
            <a:prstGeom prst="line">
              <a:avLst/>
            </a:prstGeom>
            <a:ln w="525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47680" y="1740960"/>
              <a:ext cx="186120" cy="2160"/>
            </a:xfrm>
            <a:prstGeom prst="line">
              <a:avLst/>
            </a:prstGeom>
            <a:ln w="525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724840" y="1792440"/>
              <a:ext cx="194760" cy="2160"/>
            </a:xfrm>
            <a:prstGeom prst="line">
              <a:avLst/>
            </a:prstGeom>
            <a:ln w="525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35800" y="1641960"/>
              <a:ext cx="888480" cy="1800"/>
            </a:xfrm>
            <a:prstGeom prst="line">
              <a:avLst/>
            </a:prstGeom>
            <a:ln w="525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35800" y="1887840"/>
              <a:ext cx="888480" cy="2160"/>
            </a:xfrm>
            <a:prstGeom prst="line">
              <a:avLst/>
            </a:prstGeom>
            <a:ln w="525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54720" y="2583720"/>
              <a:ext cx="878040" cy="1800"/>
            </a:xfrm>
            <a:prstGeom prst="line">
              <a:avLst/>
            </a:prstGeom>
            <a:ln w="525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54720" y="2981520"/>
              <a:ext cx="879840" cy="1800"/>
            </a:xfrm>
            <a:prstGeom prst="line">
              <a:avLst/>
            </a:prstGeom>
            <a:ln w="525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50600" y="2881800"/>
              <a:ext cx="196200" cy="1800"/>
            </a:xfrm>
            <a:prstGeom prst="line">
              <a:avLst/>
            </a:prstGeom>
            <a:ln w="525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47680" y="2583720"/>
              <a:ext cx="882360" cy="1800"/>
            </a:xfrm>
            <a:prstGeom prst="line">
              <a:avLst/>
            </a:prstGeom>
            <a:ln w="525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47680" y="2981520"/>
              <a:ext cx="882360" cy="1800"/>
            </a:xfrm>
            <a:prstGeom prst="line">
              <a:avLst/>
            </a:prstGeom>
            <a:ln w="525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920" y="2881800"/>
              <a:ext cx="194400" cy="1800"/>
            </a:xfrm>
            <a:prstGeom prst="line">
              <a:avLst/>
            </a:prstGeom>
            <a:ln w="525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047320" y="2683440"/>
              <a:ext cx="194760" cy="1800"/>
            </a:xfrm>
            <a:prstGeom prst="line">
              <a:avLst/>
            </a:prstGeom>
            <a:ln w="525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954720" y="2683440"/>
              <a:ext cx="194400" cy="1800"/>
            </a:xfrm>
            <a:prstGeom prst="line">
              <a:avLst/>
            </a:prstGeom>
            <a:ln w="525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9440" y="3529800"/>
              <a:ext cx="878040" cy="2160"/>
            </a:xfrm>
            <a:prstGeom prst="line">
              <a:avLst/>
            </a:prstGeom>
            <a:ln w="525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5120" y="3629520"/>
              <a:ext cx="878040" cy="1800"/>
            </a:xfrm>
            <a:prstGeom prst="line">
              <a:avLst/>
            </a:prstGeom>
            <a:ln w="525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00960" y="3809880"/>
              <a:ext cx="879840" cy="1800"/>
            </a:xfrm>
            <a:prstGeom prst="line">
              <a:avLst/>
            </a:prstGeom>
            <a:ln w="525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97000" y="3908880"/>
              <a:ext cx="879840" cy="2160"/>
            </a:xfrm>
            <a:prstGeom prst="line">
              <a:avLst/>
            </a:prstGeom>
            <a:ln w="525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08440" y="3550680"/>
              <a:ext cx="882360" cy="2160"/>
            </a:xfrm>
            <a:prstGeom prst="line">
              <a:avLst/>
            </a:prstGeom>
            <a:ln w="525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04480" y="3654360"/>
              <a:ext cx="881640" cy="1800"/>
            </a:xfrm>
            <a:prstGeom prst="line">
              <a:avLst/>
            </a:prstGeom>
            <a:ln w="525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55040" y="3809880"/>
              <a:ext cx="882360" cy="1800"/>
            </a:xfrm>
            <a:prstGeom prst="line">
              <a:avLst/>
            </a:prstGeom>
            <a:ln w="525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50720" y="3911400"/>
              <a:ext cx="882360" cy="1800"/>
            </a:xfrm>
            <a:prstGeom prst="line">
              <a:avLst/>
            </a:prstGeom>
            <a:ln w="525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61080" y="4519800"/>
              <a:ext cx="436680" cy="2160"/>
            </a:xfrm>
            <a:prstGeom prst="line">
              <a:avLst/>
            </a:prstGeom>
            <a:ln w="237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61080" y="4571280"/>
              <a:ext cx="436680" cy="2160"/>
            </a:xfrm>
            <a:prstGeom prst="line">
              <a:avLst/>
            </a:prstGeom>
            <a:ln w="237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66320" y="4658760"/>
              <a:ext cx="436680" cy="1800"/>
            </a:xfrm>
            <a:prstGeom prst="line">
              <a:avLst/>
            </a:prstGeom>
            <a:ln w="237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62000" y="4710600"/>
              <a:ext cx="437040" cy="1800"/>
            </a:xfrm>
            <a:prstGeom prst="line">
              <a:avLst/>
            </a:prstGeom>
            <a:ln w="237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48680" y="4484520"/>
              <a:ext cx="440640" cy="2160"/>
            </a:xfrm>
            <a:prstGeom prst="line">
              <a:avLst/>
            </a:prstGeom>
            <a:ln w="237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48680" y="4532400"/>
              <a:ext cx="440640" cy="1800"/>
            </a:xfrm>
            <a:prstGeom prst="line">
              <a:avLst/>
            </a:prstGeom>
            <a:ln w="237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25160" y="4830480"/>
              <a:ext cx="440640" cy="1800"/>
            </a:xfrm>
            <a:prstGeom prst="line">
              <a:avLst/>
            </a:prstGeom>
            <a:ln w="237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25160" y="4878000"/>
              <a:ext cx="440640" cy="1800"/>
            </a:xfrm>
            <a:prstGeom prst="line">
              <a:avLst/>
            </a:prstGeom>
            <a:ln w="237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70960" y="4579920"/>
              <a:ext cx="440640" cy="1800"/>
            </a:xfrm>
            <a:prstGeom prst="line">
              <a:avLst/>
            </a:prstGeom>
            <a:ln w="237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70960" y="4627440"/>
              <a:ext cx="437040" cy="2160"/>
            </a:xfrm>
            <a:prstGeom prst="line">
              <a:avLst/>
            </a:prstGeom>
            <a:ln w="237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49320" y="4791240"/>
              <a:ext cx="436680" cy="1800"/>
            </a:xfrm>
            <a:prstGeom prst="line">
              <a:avLst/>
            </a:prstGeom>
            <a:ln w="237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45000" y="4842720"/>
              <a:ext cx="440640" cy="1800"/>
            </a:xfrm>
            <a:prstGeom prst="line">
              <a:avLst/>
            </a:prstGeom>
            <a:ln w="2376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38000" y="4627440"/>
              <a:ext cx="443160" cy="2160"/>
            </a:xfrm>
            <a:prstGeom prst="line">
              <a:avLst/>
            </a:prstGeom>
            <a:ln w="237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33680" y="4679280"/>
              <a:ext cx="443160" cy="1800"/>
            </a:xfrm>
            <a:prstGeom prst="line">
              <a:avLst/>
            </a:prstGeom>
            <a:ln w="237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27760" y="4755960"/>
              <a:ext cx="440640" cy="1800"/>
            </a:xfrm>
            <a:prstGeom prst="line">
              <a:avLst/>
            </a:prstGeom>
            <a:ln w="237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3440" y="4807800"/>
              <a:ext cx="444960" cy="1800"/>
            </a:xfrm>
            <a:prstGeom prst="line">
              <a:avLst/>
            </a:prstGeom>
            <a:ln w="2376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00960" y="5474520"/>
              <a:ext cx="21924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00960" y="5503680"/>
              <a:ext cx="21924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01600" y="5546880"/>
              <a:ext cx="223200" cy="216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01600" y="5569560"/>
              <a:ext cx="21924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46920" y="5457960"/>
              <a:ext cx="21924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46920" y="5482800"/>
              <a:ext cx="21924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32280" y="5629680"/>
              <a:ext cx="22320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32280" y="5654880"/>
              <a:ext cx="21924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58240" y="5505480"/>
              <a:ext cx="219240" cy="216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53920" y="5530320"/>
              <a:ext cx="22320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95080" y="5609160"/>
              <a:ext cx="21924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95080" y="5637960"/>
              <a:ext cx="219240" cy="216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87440" y="5530320"/>
              <a:ext cx="22320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87440" y="5555160"/>
              <a:ext cx="22320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33040" y="5594760"/>
              <a:ext cx="22320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33040" y="5617080"/>
              <a:ext cx="219240" cy="216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7840" y="5729040"/>
              <a:ext cx="217080" cy="216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27840" y="5753880"/>
              <a:ext cx="217080" cy="216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74160" y="5708160"/>
              <a:ext cx="217080" cy="216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69840" y="5737320"/>
              <a:ext cx="22140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59520" y="5884200"/>
              <a:ext cx="221040" cy="216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59520" y="5907240"/>
              <a:ext cx="21924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82960" y="5756040"/>
              <a:ext cx="21960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81160" y="5784840"/>
              <a:ext cx="217080" cy="216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22320" y="5863680"/>
              <a:ext cx="21708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2320" y="5888520"/>
              <a:ext cx="21708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14320" y="5780880"/>
              <a:ext cx="22140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14320" y="5807880"/>
              <a:ext cx="22140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60640" y="5849280"/>
              <a:ext cx="221400" cy="216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60640" y="5871960"/>
              <a:ext cx="21924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07800" y="5499360"/>
              <a:ext cx="21960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7800" y="5521680"/>
              <a:ext cx="219600" cy="216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12760" y="5569560"/>
              <a:ext cx="21708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08440" y="5594760"/>
              <a:ext cx="21960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54120" y="5478480"/>
              <a:ext cx="22320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54120" y="5505480"/>
              <a:ext cx="219240" cy="216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9120" y="5654880"/>
              <a:ext cx="22320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39120" y="5677200"/>
              <a:ext cx="223200" cy="216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65080" y="5530320"/>
              <a:ext cx="21708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65080" y="5555160"/>
              <a:ext cx="21708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01920" y="5634000"/>
              <a:ext cx="21960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01920" y="5660640"/>
              <a:ext cx="21960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98600" y="5555160"/>
              <a:ext cx="21924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94280" y="5577840"/>
              <a:ext cx="223200" cy="216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39880" y="5617080"/>
              <a:ext cx="223920" cy="216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39880" y="5641920"/>
              <a:ext cx="223920" cy="216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32880" y="5753880"/>
              <a:ext cx="219600" cy="216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32880" y="5776920"/>
              <a:ext cx="21960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21880" y="5803560"/>
              <a:ext cx="221400" cy="216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21880" y="5832720"/>
              <a:ext cx="22140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82960" y="5944320"/>
              <a:ext cx="21960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82960" y="5971320"/>
              <a:ext cx="219600" cy="216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80560" y="5967000"/>
              <a:ext cx="219600" cy="216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80560" y="5991840"/>
              <a:ext cx="219600" cy="216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78560" y="5733000"/>
              <a:ext cx="221400" cy="216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78560" y="5756040"/>
              <a:ext cx="21708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33880" y="5844960"/>
              <a:ext cx="219240" cy="216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33880" y="5871960"/>
              <a:ext cx="21924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88080" y="5780880"/>
              <a:ext cx="21924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88080" y="5807880"/>
              <a:ext cx="21924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26720" y="5888520"/>
              <a:ext cx="22140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26720" y="5911200"/>
              <a:ext cx="217080" cy="216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23400" y="5803560"/>
              <a:ext cx="217080" cy="216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23400" y="5832720"/>
              <a:ext cx="21708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65040" y="5868000"/>
              <a:ext cx="22140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65040" y="5897160"/>
              <a:ext cx="22140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59800" y="5979600"/>
              <a:ext cx="219240" cy="180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55480" y="6006240"/>
              <a:ext cx="219240" cy="2160"/>
            </a:xfrm>
            <a:prstGeom prst="line">
              <a:avLst/>
            </a:prstGeom>
            <a:ln w="12600">
              <a:solidFill>
                <a:srgbClr val="48a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70960" y="5940360"/>
              <a:ext cx="217080" cy="216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66640" y="5963040"/>
              <a:ext cx="221400" cy="1800"/>
            </a:xfrm>
            <a:prstGeom prst="line">
              <a:avLst/>
            </a:prstGeom>
            <a:ln w="1260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8160" y="129960"/>
              <a:ext cx="3661560" cy="2160"/>
            </a:xfrm>
            <a:prstGeom prst="line">
              <a:avLst/>
            </a:prstGeom>
            <a:ln w="52560">
              <a:solidFill>
                <a:srgbClr val="ff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89720" y="129960"/>
              <a:ext cx="1800" cy="2160"/>
            </a:xfrm>
            <a:prstGeom prst="line">
              <a:avLst/>
            </a:prstGeom>
            <a:ln w="52560">
              <a:solidFill>
                <a:srgbClr val="ff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9720" y="129960"/>
              <a:ext cx="1800" cy="6627960"/>
            </a:xfrm>
            <a:prstGeom prst="line">
              <a:avLst/>
            </a:prstGeom>
            <a:ln w="52560">
              <a:solidFill>
                <a:srgbClr val="ff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89720" y="6758280"/>
              <a:ext cx="1800" cy="1800"/>
            </a:xfrm>
            <a:prstGeom prst="line">
              <a:avLst/>
            </a:prstGeom>
            <a:ln w="52560">
              <a:solidFill>
                <a:srgbClr val="ff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27800" y="6758280"/>
              <a:ext cx="3661560" cy="1800"/>
            </a:xfrm>
            <a:prstGeom prst="line">
              <a:avLst/>
            </a:prstGeom>
            <a:ln w="52560">
              <a:solidFill>
                <a:srgbClr val="ff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8160" y="6758280"/>
              <a:ext cx="2160" cy="1800"/>
            </a:xfrm>
            <a:prstGeom prst="line">
              <a:avLst/>
            </a:prstGeom>
            <a:ln w="52560">
              <a:solidFill>
                <a:srgbClr val="ff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128160" y="129600"/>
              <a:ext cx="2160" cy="6627960"/>
            </a:xfrm>
            <a:prstGeom prst="line">
              <a:avLst/>
            </a:prstGeom>
            <a:ln w="52560">
              <a:solidFill>
                <a:srgbClr val="ff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8160" y="129960"/>
              <a:ext cx="2160" cy="2160"/>
            </a:xfrm>
            <a:prstGeom prst="line">
              <a:avLst/>
            </a:prstGeom>
            <a:ln w="52560">
              <a:solidFill>
                <a:srgbClr val="ff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4200" y="126000"/>
              <a:ext cx="3660840" cy="1800"/>
            </a:xfrm>
            <a:prstGeom prst="line">
              <a:avLst/>
            </a:prstGeom>
            <a:ln w="46080">
              <a:solidFill>
                <a:srgbClr val="e9ce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85400" y="126000"/>
              <a:ext cx="1800" cy="1800"/>
            </a:xfrm>
            <a:prstGeom prst="line">
              <a:avLst/>
            </a:prstGeom>
            <a:ln w="46080">
              <a:solidFill>
                <a:srgbClr val="e9ce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85400" y="126000"/>
              <a:ext cx="1800" cy="6627600"/>
            </a:xfrm>
            <a:prstGeom prst="line">
              <a:avLst/>
            </a:prstGeom>
            <a:ln w="46080">
              <a:solidFill>
                <a:srgbClr val="e9ce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85400" y="6753960"/>
              <a:ext cx="1800" cy="2160"/>
            </a:xfrm>
            <a:prstGeom prst="line">
              <a:avLst/>
            </a:prstGeom>
            <a:ln w="46080">
              <a:solidFill>
                <a:srgbClr val="e9ce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23840" y="6753960"/>
              <a:ext cx="3660840" cy="2160"/>
            </a:xfrm>
            <a:prstGeom prst="line">
              <a:avLst/>
            </a:prstGeom>
            <a:ln w="46080">
              <a:solidFill>
                <a:srgbClr val="e9ce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4200" y="6753960"/>
              <a:ext cx="1800" cy="2160"/>
            </a:xfrm>
            <a:prstGeom prst="line">
              <a:avLst/>
            </a:prstGeom>
            <a:ln w="46080">
              <a:solidFill>
                <a:srgbClr val="e9ce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24200" y="126000"/>
              <a:ext cx="1800" cy="6627600"/>
            </a:xfrm>
            <a:prstGeom prst="line">
              <a:avLst/>
            </a:prstGeom>
            <a:ln w="46080">
              <a:solidFill>
                <a:srgbClr val="e9ce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4200" y="126000"/>
              <a:ext cx="1800" cy="1800"/>
            </a:xfrm>
            <a:prstGeom prst="line">
              <a:avLst/>
            </a:prstGeom>
            <a:ln w="46080">
              <a:solidFill>
                <a:srgbClr val="e9ce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9880" y="123840"/>
              <a:ext cx="3660840" cy="2160"/>
            </a:xfrm>
            <a:prstGeom prst="line">
              <a:avLst/>
            </a:prstGeom>
            <a:ln w="39600">
              <a:solidFill>
                <a:srgbClr val="cab4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81080" y="123840"/>
              <a:ext cx="2160" cy="2160"/>
            </a:xfrm>
            <a:prstGeom prst="line">
              <a:avLst/>
            </a:prstGeom>
            <a:ln w="39600">
              <a:solidFill>
                <a:srgbClr val="cab4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81080" y="123840"/>
              <a:ext cx="2160" cy="6625800"/>
            </a:xfrm>
            <a:prstGeom prst="line">
              <a:avLst/>
            </a:prstGeom>
            <a:ln w="39600">
              <a:solidFill>
                <a:srgbClr val="cab4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81080" y="6749640"/>
              <a:ext cx="2160" cy="2160"/>
            </a:xfrm>
            <a:prstGeom prst="line">
              <a:avLst/>
            </a:prstGeom>
            <a:ln w="39600">
              <a:solidFill>
                <a:srgbClr val="cab4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19520" y="6749640"/>
              <a:ext cx="3660840" cy="2160"/>
            </a:xfrm>
            <a:prstGeom prst="line">
              <a:avLst/>
            </a:prstGeom>
            <a:ln w="39600">
              <a:solidFill>
                <a:srgbClr val="cab4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9880" y="6749640"/>
              <a:ext cx="1800" cy="2160"/>
            </a:xfrm>
            <a:prstGeom prst="line">
              <a:avLst/>
            </a:prstGeom>
            <a:ln w="39600">
              <a:solidFill>
                <a:srgbClr val="cab4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19880" y="123480"/>
              <a:ext cx="1800" cy="6625800"/>
            </a:xfrm>
            <a:prstGeom prst="line">
              <a:avLst/>
            </a:prstGeom>
            <a:ln w="39600">
              <a:solidFill>
                <a:srgbClr val="cab4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9880" y="123840"/>
              <a:ext cx="1800" cy="2160"/>
            </a:xfrm>
            <a:prstGeom prst="line">
              <a:avLst/>
            </a:prstGeom>
            <a:ln w="39600">
              <a:solidFill>
                <a:srgbClr val="cab4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5920" y="119520"/>
              <a:ext cx="3660840" cy="2160"/>
            </a:xfrm>
            <a:prstGeom prst="line">
              <a:avLst/>
            </a:prstGeom>
            <a:ln w="33480">
              <a:solidFill>
                <a:srgbClr val="ab9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7120" y="119520"/>
              <a:ext cx="2160" cy="2160"/>
            </a:xfrm>
            <a:prstGeom prst="line">
              <a:avLst/>
            </a:prstGeom>
            <a:ln w="33480">
              <a:solidFill>
                <a:srgbClr val="ab9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77120" y="119520"/>
              <a:ext cx="2160" cy="6627960"/>
            </a:xfrm>
            <a:prstGeom prst="line">
              <a:avLst/>
            </a:prstGeom>
            <a:ln w="33480">
              <a:solidFill>
                <a:srgbClr val="ab9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77120" y="6747840"/>
              <a:ext cx="2160" cy="1800"/>
            </a:xfrm>
            <a:prstGeom prst="line">
              <a:avLst/>
            </a:prstGeom>
            <a:ln w="33480">
              <a:solidFill>
                <a:srgbClr val="ab9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15560" y="6747840"/>
              <a:ext cx="3660840" cy="1800"/>
            </a:xfrm>
            <a:prstGeom prst="line">
              <a:avLst/>
            </a:prstGeom>
            <a:ln w="33480">
              <a:solidFill>
                <a:srgbClr val="ab9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5920" y="6747840"/>
              <a:ext cx="1800" cy="1800"/>
            </a:xfrm>
            <a:prstGeom prst="line">
              <a:avLst/>
            </a:prstGeom>
            <a:ln w="33480">
              <a:solidFill>
                <a:srgbClr val="ab9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115920" y="119160"/>
              <a:ext cx="1800" cy="6627960"/>
            </a:xfrm>
            <a:prstGeom prst="line">
              <a:avLst/>
            </a:prstGeom>
            <a:ln w="33480">
              <a:solidFill>
                <a:srgbClr val="ab9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5920" y="119520"/>
              <a:ext cx="1800" cy="2160"/>
            </a:xfrm>
            <a:prstGeom prst="line">
              <a:avLst/>
            </a:prstGeom>
            <a:ln w="33480">
              <a:solidFill>
                <a:srgbClr val="ab9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1600" y="115920"/>
              <a:ext cx="3663360" cy="1800"/>
            </a:xfrm>
            <a:prstGeom prst="line">
              <a:avLst/>
            </a:prstGeom>
            <a:ln w="27000">
              <a:solidFill>
                <a:srgbClr val="887e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74960" y="115920"/>
              <a:ext cx="1800" cy="1800"/>
            </a:xfrm>
            <a:prstGeom prst="line">
              <a:avLst/>
            </a:prstGeom>
            <a:ln w="27000">
              <a:solidFill>
                <a:srgbClr val="887e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74960" y="115920"/>
              <a:ext cx="1800" cy="6627600"/>
            </a:xfrm>
            <a:prstGeom prst="line">
              <a:avLst/>
            </a:prstGeom>
            <a:ln w="27000">
              <a:solidFill>
                <a:srgbClr val="887e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74960" y="6743520"/>
              <a:ext cx="1800" cy="2160"/>
            </a:xfrm>
            <a:prstGeom prst="line">
              <a:avLst/>
            </a:prstGeom>
            <a:ln w="27000">
              <a:solidFill>
                <a:srgbClr val="887e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11600" y="6743520"/>
              <a:ext cx="3663360" cy="2160"/>
            </a:xfrm>
            <a:prstGeom prst="line">
              <a:avLst/>
            </a:prstGeom>
            <a:ln w="27000">
              <a:solidFill>
                <a:srgbClr val="887e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1600" y="6743520"/>
              <a:ext cx="2160" cy="2160"/>
            </a:xfrm>
            <a:prstGeom prst="line">
              <a:avLst/>
            </a:prstGeom>
            <a:ln w="27000">
              <a:solidFill>
                <a:srgbClr val="887e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11600" y="115920"/>
              <a:ext cx="2160" cy="6627600"/>
            </a:xfrm>
            <a:prstGeom prst="line">
              <a:avLst/>
            </a:prstGeom>
            <a:ln w="27000">
              <a:solidFill>
                <a:srgbClr val="887e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1600" y="115920"/>
              <a:ext cx="2160" cy="1800"/>
            </a:xfrm>
            <a:prstGeom prst="line">
              <a:avLst/>
            </a:prstGeom>
            <a:ln w="27000">
              <a:solidFill>
                <a:srgbClr val="887e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7280" y="111600"/>
              <a:ext cx="3663360" cy="1800"/>
            </a:xfrm>
            <a:prstGeom prst="line">
              <a:avLst/>
            </a:prstGeom>
            <a:ln w="20520">
              <a:solidFill>
                <a:srgbClr val="655e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71000" y="111600"/>
              <a:ext cx="2160" cy="1800"/>
            </a:xfrm>
            <a:prstGeom prst="line">
              <a:avLst/>
            </a:prstGeom>
            <a:ln w="20520">
              <a:solidFill>
                <a:srgbClr val="655e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71000" y="111600"/>
              <a:ext cx="2160" cy="6627600"/>
            </a:xfrm>
            <a:prstGeom prst="line">
              <a:avLst/>
            </a:prstGeom>
            <a:ln w="20520">
              <a:solidFill>
                <a:srgbClr val="655e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71000" y="6739560"/>
              <a:ext cx="2160" cy="2160"/>
            </a:xfrm>
            <a:prstGeom prst="line">
              <a:avLst/>
            </a:prstGeom>
            <a:ln w="20520">
              <a:solidFill>
                <a:srgbClr val="655e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07280" y="6739560"/>
              <a:ext cx="3663360" cy="2160"/>
            </a:xfrm>
            <a:prstGeom prst="line">
              <a:avLst/>
            </a:prstGeom>
            <a:ln w="20520">
              <a:solidFill>
                <a:srgbClr val="655e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7280" y="6739560"/>
              <a:ext cx="2160" cy="2160"/>
            </a:xfrm>
            <a:prstGeom prst="line">
              <a:avLst/>
            </a:prstGeom>
            <a:ln w="20520">
              <a:solidFill>
                <a:srgbClr val="655e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107280" y="111600"/>
              <a:ext cx="2160" cy="6627600"/>
            </a:xfrm>
            <a:prstGeom prst="line">
              <a:avLst/>
            </a:prstGeom>
            <a:ln w="20520">
              <a:solidFill>
                <a:srgbClr val="655e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7280" y="111600"/>
              <a:ext cx="2160" cy="1800"/>
            </a:xfrm>
            <a:prstGeom prst="line">
              <a:avLst/>
            </a:prstGeom>
            <a:ln w="20520">
              <a:solidFill>
                <a:srgbClr val="655e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2960" y="107280"/>
              <a:ext cx="3663360" cy="1800"/>
            </a:xfrm>
            <a:prstGeom prst="line">
              <a:avLst/>
            </a:prstGeom>
            <a:ln w="15840">
              <a:solidFill>
                <a:srgbClr val="3836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66680" y="107280"/>
              <a:ext cx="2160" cy="1800"/>
            </a:xfrm>
            <a:prstGeom prst="line">
              <a:avLst/>
            </a:prstGeom>
            <a:ln w="15840">
              <a:solidFill>
                <a:srgbClr val="3836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66680" y="107280"/>
              <a:ext cx="2160" cy="6627600"/>
            </a:xfrm>
            <a:prstGeom prst="line">
              <a:avLst/>
            </a:prstGeom>
            <a:ln w="15840">
              <a:solidFill>
                <a:srgbClr val="3836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66680" y="6735240"/>
              <a:ext cx="2160" cy="2160"/>
            </a:xfrm>
            <a:prstGeom prst="line">
              <a:avLst/>
            </a:prstGeom>
            <a:ln w="15840">
              <a:solidFill>
                <a:srgbClr val="3836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02960" y="6735240"/>
              <a:ext cx="3663360" cy="2160"/>
            </a:xfrm>
            <a:prstGeom prst="line">
              <a:avLst/>
            </a:prstGeom>
            <a:ln w="15840">
              <a:solidFill>
                <a:srgbClr val="3836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2960" y="6735240"/>
              <a:ext cx="2160" cy="2160"/>
            </a:xfrm>
            <a:prstGeom prst="line">
              <a:avLst/>
            </a:prstGeom>
            <a:ln w="15840">
              <a:solidFill>
                <a:srgbClr val="3836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102960" y="107280"/>
              <a:ext cx="2160" cy="6627600"/>
            </a:xfrm>
            <a:prstGeom prst="line">
              <a:avLst/>
            </a:prstGeom>
            <a:ln w="15840">
              <a:solidFill>
                <a:srgbClr val="3836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2960" y="107280"/>
              <a:ext cx="2160" cy="1800"/>
            </a:xfrm>
            <a:prstGeom prst="line">
              <a:avLst/>
            </a:prstGeom>
            <a:ln w="15840">
              <a:solidFill>
                <a:srgbClr val="3836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9360" y="102960"/>
              <a:ext cx="36630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62360" y="102960"/>
              <a:ext cx="21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762360" y="102960"/>
              <a:ext cx="2160" cy="66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62360" y="6731280"/>
              <a:ext cx="2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99000" y="6731280"/>
              <a:ext cx="366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9360" y="6731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99360" y="102600"/>
              <a:ext cx="1800" cy="66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360" y="102960"/>
              <a:ext cx="18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93160" y="1283760"/>
              <a:ext cx="194400" cy="19008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94" y="0"/>
                  </a:moveTo>
                  <a:lnTo>
                    <a:pt x="46" y="92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888200" y="1283760"/>
              <a:ext cx="99000" cy="19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88560" y="1473840"/>
              <a:ext cx="18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1793160" y="1283760"/>
              <a:ext cx="95040" cy="19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93160" y="128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93160" y="1283760"/>
              <a:ext cx="19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87560" y="1283760"/>
              <a:ext cx="2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61560" y="1097280"/>
              <a:ext cx="59760" cy="186120"/>
            </a:xfrm>
            <a:prstGeom prst="rect">
              <a:avLst/>
            </a:prstGeom>
            <a:solidFill>
              <a:srgbClr val="ff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861560" y="1283760"/>
              <a:ext cx="59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61560" y="1283760"/>
              <a:ext cx="2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1861560" y="1096920"/>
              <a:ext cx="2160" cy="1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61560" y="1097280"/>
              <a:ext cx="2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61560" y="1097280"/>
              <a:ext cx="59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21680" y="1097280"/>
              <a:ext cx="2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21680" y="1097280"/>
              <a:ext cx="2160" cy="1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21680" y="1283760"/>
              <a:ext cx="2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93160" y="2174040"/>
              <a:ext cx="190440" cy="19224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92" y="0"/>
                  </a:moveTo>
                  <a:lnTo>
                    <a:pt x="44" y="93"/>
                  </a:lnTo>
                  <a:lnTo>
                    <a:pt x="0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884240" y="2174040"/>
              <a:ext cx="99360" cy="192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84240" y="2366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1792800" y="2174040"/>
              <a:ext cx="91080" cy="192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93160" y="21740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93160" y="2174040"/>
              <a:ext cx="190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83960" y="21740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61560" y="1987560"/>
              <a:ext cx="59760" cy="186120"/>
            </a:xfrm>
            <a:prstGeom prst="rect">
              <a:avLst/>
            </a:prstGeom>
            <a:solidFill>
              <a:srgbClr val="ff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1861560" y="2174040"/>
              <a:ext cx="59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61560" y="2174040"/>
              <a:ext cx="2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1861560" y="1987200"/>
              <a:ext cx="2160" cy="1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61560" y="1987560"/>
              <a:ext cx="2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61560" y="1987560"/>
              <a:ext cx="59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21680" y="1987560"/>
              <a:ext cx="2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21680" y="1987560"/>
              <a:ext cx="2160" cy="1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21680" y="2174040"/>
              <a:ext cx="2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1749600" y="3080160"/>
              <a:ext cx="196200" cy="383040"/>
              <a:chOff x="1749600" y="3080160"/>
              <a:chExt cx="196200" cy="383040"/>
            </a:xfrm>
          </p:grpSpPr>
          <p:sp>
            <p:nvSpPr>
              <p:cNvPr id="336" name=""/>
              <p:cNvSpPr/>
              <p:nvPr/>
            </p:nvSpPr>
            <p:spPr>
              <a:xfrm>
                <a:off x="1749600" y="3270960"/>
                <a:ext cx="194400" cy="189720"/>
              </a:xfrm>
              <a:custGeom>
                <a:avLst/>
                <a:gdLst/>
                <a:ahLst/>
                <a:rect l="l" t="t" r="r" b="b"/>
                <a:pathLst>
                  <a:path w="94" h="92">
                    <a:moveTo>
                      <a:pt x="94" y="0"/>
                    </a:moveTo>
                    <a:lnTo>
                      <a:pt x="46" y="92"/>
                    </a:lnTo>
                    <a:lnTo>
                      <a:pt x="0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1844640" y="3270960"/>
                <a:ext cx="99360" cy="18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44640" y="3461040"/>
                <a:ext cx="216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1749600" y="3270600"/>
                <a:ext cx="95040" cy="18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49600" y="3270960"/>
                <a:ext cx="2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749600" y="3270960"/>
                <a:ext cx="1944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44000" y="3270960"/>
                <a:ext cx="1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815480" y="3080520"/>
                <a:ext cx="59760" cy="190440"/>
              </a:xfrm>
              <a:prstGeom prst="rect">
                <a:avLst/>
              </a:pr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1815480" y="3270960"/>
                <a:ext cx="597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815480" y="3270960"/>
                <a:ext cx="2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815480" y="3080160"/>
                <a:ext cx="2160" cy="19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815480" y="3080520"/>
                <a:ext cx="2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15480" y="3080520"/>
                <a:ext cx="597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875600" y="3080520"/>
                <a:ext cx="2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875600" y="3080520"/>
                <a:ext cx="2160" cy="19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75600" y="3270960"/>
                <a:ext cx="2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1753920" y="4165560"/>
              <a:ext cx="194760" cy="19224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94" y="0"/>
                  </a:moveTo>
                  <a:lnTo>
                    <a:pt x="46" y="93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849320" y="4165560"/>
              <a:ext cx="99360" cy="192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49320" y="4358160"/>
              <a:ext cx="18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1753920" y="4165560"/>
              <a:ext cx="95040" cy="192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53920" y="41655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53920" y="4165560"/>
              <a:ext cx="194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8680" y="41655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22320" y="3979440"/>
              <a:ext cx="57600" cy="186120"/>
            </a:xfrm>
            <a:prstGeom prst="rect">
              <a:avLst/>
            </a:prstGeom>
            <a:solidFill>
              <a:srgbClr val="ff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822320" y="4165560"/>
              <a:ext cx="57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22320" y="41655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822320" y="3979080"/>
              <a:ext cx="1800" cy="1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22320" y="3979440"/>
              <a:ext cx="18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22320" y="3979440"/>
              <a:ext cx="576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80280" y="3979440"/>
              <a:ext cx="18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80280" y="3979440"/>
              <a:ext cx="1800" cy="1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80280" y="41655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81840" y="5124600"/>
              <a:ext cx="192240" cy="19008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93" y="0"/>
                  </a:moveTo>
                  <a:lnTo>
                    <a:pt x="45" y="92"/>
                  </a:lnTo>
                  <a:lnTo>
                    <a:pt x="0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675080" y="5124600"/>
              <a:ext cx="99360" cy="19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5080" y="5314680"/>
              <a:ext cx="216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1581840" y="5124600"/>
              <a:ext cx="92880" cy="19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81840" y="5124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581840" y="5124600"/>
              <a:ext cx="192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74440" y="5124600"/>
              <a:ext cx="2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50600" y="4938120"/>
              <a:ext cx="59400" cy="186120"/>
            </a:xfrm>
            <a:prstGeom prst="rect">
              <a:avLst/>
            </a:prstGeom>
            <a:solidFill>
              <a:srgbClr val="ff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650240" y="5124600"/>
              <a:ext cx="59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50600" y="5124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1650600" y="4937760"/>
              <a:ext cx="1800" cy="1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50600" y="49381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50600" y="4938120"/>
              <a:ext cx="59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10360" y="4938120"/>
              <a:ext cx="2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10360" y="4938120"/>
              <a:ext cx="2160" cy="1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10360" y="5124600"/>
              <a:ext cx="2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65240" y="5124600"/>
              <a:ext cx="194400" cy="19008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94" y="0"/>
                  </a:moveTo>
                  <a:lnTo>
                    <a:pt x="46" y="92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060280" y="5124600"/>
              <a:ext cx="99000" cy="19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60640" y="5314680"/>
              <a:ext cx="18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1965240" y="5124600"/>
              <a:ext cx="95040" cy="19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65240" y="5124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65240" y="5124600"/>
              <a:ext cx="19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59640" y="5124600"/>
              <a:ext cx="2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31480" y="4938120"/>
              <a:ext cx="59760" cy="186120"/>
            </a:xfrm>
            <a:prstGeom prst="rect">
              <a:avLst/>
            </a:prstGeom>
            <a:solidFill>
              <a:srgbClr val="ff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031480" y="5124600"/>
              <a:ext cx="59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31480" y="5124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031480" y="4937760"/>
              <a:ext cx="1800" cy="1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31480" y="49381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31480" y="4938120"/>
              <a:ext cx="59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91600" y="49381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91600" y="4938120"/>
              <a:ext cx="1800" cy="1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91600" y="5124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1054080" y="2683080"/>
              <a:ext cx="194400" cy="1800"/>
            </a:xfrm>
            <a:prstGeom prst="line">
              <a:avLst/>
            </a:prstGeom>
            <a:ln w="3240">
              <a:solidFill>
                <a:srgbClr val="48a5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1550880" y="2881440"/>
              <a:ext cx="194400" cy="1800"/>
            </a:xfrm>
            <a:prstGeom prst="line">
              <a:avLst/>
            </a:prstGeom>
            <a:ln w="3240">
              <a:solidFill>
                <a:srgbClr val="48a5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643840" y="2881800"/>
              <a:ext cx="194760" cy="1800"/>
            </a:xfrm>
            <a:prstGeom prst="line">
              <a:avLst/>
            </a:prstGeom>
            <a:ln w="3240">
              <a:solidFill>
                <a:srgbClr val="e349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147400" y="2683080"/>
              <a:ext cx="194400" cy="1800"/>
            </a:xfrm>
            <a:prstGeom prst="line">
              <a:avLst/>
            </a:prstGeom>
            <a:ln w="3240">
              <a:solidFill>
                <a:srgbClr val="e349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531680" y="3944880"/>
            <a:ext cx="3925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Provide DNA for cl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DNA Sequenc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Etc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78520" y="1133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30600" y="1905120"/>
            <a:ext cx="40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rp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make many copies of a specific piece of D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ey compon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hermostable polymerase (usually Taq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orward and reverse primer which together target a specific gene or DNA fragm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685800" y="51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he Polymerase Chain Reac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Methods for Exploring the Microbial Eart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7652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y of meth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richment Techniq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olation Techniq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dern Molecular Meth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amples: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il Crenarchae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r8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00200" y="26668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00200" y="4191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00200" y="2666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81080" y="2209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0512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05120" y="4724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81080" y="3048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81080" y="22096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83200" y="1981080"/>
            <a:ext cx="1826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AAG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83560" y="2743200"/>
            <a:ext cx="1806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AAG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07240" y="3505320"/>
            <a:ext cx="184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AA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07240" y="4419720"/>
            <a:ext cx="184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AA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819520" y="1905120"/>
            <a:ext cx="2895480" cy="3047760"/>
            <a:chOff x="2819520" y="1905120"/>
            <a:chExt cx="2895480" cy="3047760"/>
          </a:xfrm>
        </p:grpSpPr>
        <p:sp>
          <p:nvSpPr>
            <p:cNvPr id="426" name=""/>
            <p:cNvSpPr/>
            <p:nvPr/>
          </p:nvSpPr>
          <p:spPr>
            <a:xfrm>
              <a:off x="4419720" y="1905120"/>
              <a:ext cx="0" cy="304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190760" y="49528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19720" y="3504960"/>
              <a:ext cx="129528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2819520" y="2057040"/>
              <a:ext cx="761400" cy="2438280"/>
              <a:chOff x="2819520" y="2057040"/>
              <a:chExt cx="761400" cy="2438280"/>
            </a:xfrm>
          </p:grpSpPr>
          <p:sp>
            <p:nvSpPr>
              <p:cNvPr id="430" name=""/>
              <p:cNvSpPr/>
              <p:nvPr/>
            </p:nvSpPr>
            <p:spPr>
              <a:xfrm>
                <a:off x="2895480" y="4495320"/>
                <a:ext cx="685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819520" y="3580920"/>
                <a:ext cx="685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819520" y="2818800"/>
                <a:ext cx="685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819520" y="2057040"/>
                <a:ext cx="685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4191120" y="190512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819520" y="1981080"/>
            <a:ext cx="2895480" cy="1523880"/>
            <a:chOff x="2819520" y="1981080"/>
            <a:chExt cx="2895480" cy="1523880"/>
          </a:xfrm>
        </p:grpSpPr>
        <p:sp>
          <p:nvSpPr>
            <p:cNvPr id="436" name=""/>
            <p:cNvSpPr/>
            <p:nvPr/>
          </p:nvSpPr>
          <p:spPr>
            <a:xfrm>
              <a:off x="4419720" y="1981080"/>
              <a:ext cx="0" cy="1203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95480" y="1981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91120" y="1981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4190760" y="318420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19720" y="2543040"/>
              <a:ext cx="1295280" cy="96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19520" y="274284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819520" y="2514600"/>
            <a:ext cx="2895480" cy="685800"/>
            <a:chOff x="2819520" y="2514600"/>
            <a:chExt cx="2895480" cy="685800"/>
          </a:xfrm>
        </p:grpSpPr>
        <p:sp>
          <p:nvSpPr>
            <p:cNvPr id="443" name=""/>
            <p:cNvSpPr/>
            <p:nvPr/>
          </p:nvSpPr>
          <p:spPr>
            <a:xfrm flipV="1">
              <a:off x="4343400" y="2514600"/>
              <a:ext cx="137160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19520" y="2819520"/>
              <a:ext cx="1218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43400" y="28195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190760" y="2819520"/>
              <a:ext cx="152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190760" y="3200400"/>
              <a:ext cx="152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5866920" y="2057400"/>
            <a:ext cx="2667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TT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T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04520" y="588960"/>
            <a:ext cx="60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imers Determine Specific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19320" y="339084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5676840"/>
            <a:ext cx="6705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657960" y="567540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16200000">
            <a:off x="-277560" y="4293720"/>
            <a:ext cx="22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25760" y="3543480"/>
            <a:ext cx="1803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354348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61016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876920" y="40003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76920" y="4000680"/>
            <a:ext cx="304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76160" y="4978440"/>
            <a:ext cx="167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476520" y="497844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ne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9680" y="499284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625760" y="1485720"/>
            <a:ext cx="0" cy="41907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429000" y="1485720"/>
            <a:ext cx="0" cy="41907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876920" y="1485720"/>
            <a:ext cx="0" cy="41907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25760" y="3543480"/>
            <a:ext cx="0" cy="190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1218960" y="5448240"/>
            <a:ext cx="406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41160" y="228600"/>
            <a:ext cx="44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Basic Principle of PC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9920" y="990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NA Temp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07120" y="9288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06600" y="92880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ymer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3200" y="2057400"/>
            <a:ext cx="1044720" cy="3240"/>
          </a:xfrm>
          <a:prstGeom prst="line">
            <a:avLst/>
          </a:prstGeom>
          <a:ln w="52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1760" y="2176560"/>
            <a:ext cx="1044360" cy="1440"/>
          </a:xfrm>
          <a:prstGeom prst="line">
            <a:avLst/>
          </a:prstGeom>
          <a:ln w="52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64080" y="2036880"/>
            <a:ext cx="220680" cy="2880"/>
          </a:xfrm>
          <a:prstGeom prst="line">
            <a:avLst/>
          </a:prstGeom>
          <a:ln w="52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465800" y="2394000"/>
            <a:ext cx="233280" cy="3240"/>
          </a:xfrm>
          <a:prstGeom prst="line">
            <a:avLst/>
          </a:prstGeom>
          <a:ln w="52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1928880"/>
            <a:ext cx="1044720" cy="1440"/>
          </a:xfrm>
          <a:prstGeom prst="line">
            <a:avLst/>
          </a:prstGeom>
          <a:ln w="52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657600" y="2506680"/>
            <a:ext cx="1044720" cy="3240"/>
          </a:xfrm>
          <a:prstGeom prst="line">
            <a:avLst/>
          </a:prstGeom>
          <a:ln w="52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440320" y="1917720"/>
            <a:ext cx="1044720" cy="3240"/>
          </a:xfrm>
          <a:prstGeom prst="line">
            <a:avLst/>
          </a:prstGeom>
          <a:ln w="52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40320" y="2506680"/>
            <a:ext cx="1049400" cy="1440"/>
          </a:xfrm>
          <a:prstGeom prst="line">
            <a:avLst/>
          </a:prstGeom>
          <a:ln w="52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69040" y="2387520"/>
            <a:ext cx="233280" cy="3240"/>
          </a:xfrm>
          <a:prstGeom prst="line">
            <a:avLst/>
          </a:prstGeom>
          <a:ln w="52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440320" y="2036880"/>
            <a:ext cx="231840" cy="1440"/>
          </a:xfrm>
          <a:prstGeom prst="line">
            <a:avLst/>
          </a:prstGeom>
          <a:ln w="52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939000" y="1938240"/>
            <a:ext cx="1044360" cy="3240"/>
          </a:xfrm>
          <a:prstGeom prst="line">
            <a:avLst/>
          </a:prstGeom>
          <a:ln w="52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934320" y="2057400"/>
            <a:ext cx="1044360" cy="1440"/>
          </a:xfrm>
          <a:prstGeom prst="line">
            <a:avLst/>
          </a:prstGeom>
          <a:ln w="52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45480" y="2411280"/>
            <a:ext cx="1046160" cy="3240"/>
          </a:xfrm>
          <a:prstGeom prst="line">
            <a:avLst/>
          </a:prstGeom>
          <a:ln w="52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939000" y="2529000"/>
            <a:ext cx="1049400" cy="3240"/>
          </a:xfrm>
          <a:prstGeom prst="line">
            <a:avLst/>
          </a:prstGeom>
          <a:ln w="52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5788080" y="2036880"/>
            <a:ext cx="231840" cy="1440"/>
          </a:xfrm>
          <a:prstGeom prst="line">
            <a:avLst/>
          </a:prstGeom>
          <a:ln w="3240">
            <a:solidFill>
              <a:srgbClr val="48a5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6019560" y="2387160"/>
            <a:ext cx="231480" cy="3240"/>
          </a:xfrm>
          <a:prstGeom prst="line">
            <a:avLst/>
          </a:prstGeom>
          <a:ln w="3240">
            <a:solidFill>
              <a:srgbClr val="48a5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984320" y="1919160"/>
            <a:ext cx="1044720" cy="1800"/>
          </a:xfrm>
          <a:prstGeom prst="line">
            <a:avLst/>
          </a:prstGeom>
          <a:ln w="52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981080" y="2511360"/>
            <a:ext cx="1044720" cy="3240"/>
          </a:xfrm>
          <a:prstGeom prst="line">
            <a:avLst/>
          </a:prstGeom>
          <a:ln w="52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4400" y="1523880"/>
            <a:ext cx="84240" cy="3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64240" y="1920960"/>
            <a:ext cx="119160" cy="236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56440" y="2274840"/>
            <a:ext cx="117360" cy="236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885840" y="14479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91120" y="1447920"/>
            <a:ext cx="439560" cy="861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5783040" y="1447920"/>
            <a:ext cx="236520" cy="35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1447920"/>
            <a:ext cx="236520" cy="709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3900600" cy="68770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708440" y="1219320"/>
            <a:ext cx="42069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Purpo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solate individual genes (or chunks of DNA) for further genetic analy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704480" y="4154400"/>
            <a:ext cx="363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ppli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Gene libr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Genome sequen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etc. .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7240" y="-936720"/>
            <a:ext cx="3806640" cy="7775640"/>
            <a:chOff x="57240" y="-936720"/>
            <a:chExt cx="3806640" cy="7775640"/>
          </a:xfrm>
        </p:grpSpPr>
        <p:grpSp>
          <p:nvGrpSpPr>
            <p:cNvPr id="502" name=""/>
            <p:cNvGrpSpPr/>
            <p:nvPr/>
          </p:nvGrpSpPr>
          <p:grpSpPr>
            <a:xfrm>
              <a:off x="1162080" y="5815080"/>
              <a:ext cx="1832040" cy="792000"/>
              <a:chOff x="1162080" y="5815080"/>
              <a:chExt cx="1832040" cy="792000"/>
            </a:xfrm>
          </p:grpSpPr>
          <p:sp>
            <p:nvSpPr>
              <p:cNvPr id="503" name=""/>
              <p:cNvSpPr/>
              <p:nvPr/>
            </p:nvSpPr>
            <p:spPr>
              <a:xfrm>
                <a:off x="1162080" y="5815080"/>
                <a:ext cx="1805040" cy="765000"/>
              </a:xfrm>
              <a:custGeom>
                <a:avLst/>
                <a:gdLst/>
                <a:ahLst/>
                <a:rect l="l" t="t" r="r" b="b"/>
                <a:pathLst>
                  <a:path w="1137" h="482">
                    <a:moveTo>
                      <a:pt x="1137" y="241"/>
                    </a:moveTo>
                    <a:lnTo>
                      <a:pt x="1137" y="254"/>
                    </a:lnTo>
                    <a:lnTo>
                      <a:pt x="1135" y="264"/>
                    </a:lnTo>
                    <a:lnTo>
                      <a:pt x="1132" y="277"/>
                    </a:lnTo>
                    <a:lnTo>
                      <a:pt x="1127" y="290"/>
                    </a:lnTo>
                    <a:lnTo>
                      <a:pt x="1119" y="300"/>
                    </a:lnTo>
                    <a:lnTo>
                      <a:pt x="1112" y="313"/>
                    </a:lnTo>
                    <a:lnTo>
                      <a:pt x="1104" y="323"/>
                    </a:lnTo>
                    <a:lnTo>
                      <a:pt x="1093" y="333"/>
                    </a:lnTo>
                    <a:lnTo>
                      <a:pt x="1083" y="344"/>
                    </a:lnTo>
                    <a:lnTo>
                      <a:pt x="1070" y="354"/>
                    </a:lnTo>
                    <a:lnTo>
                      <a:pt x="1055" y="364"/>
                    </a:lnTo>
                    <a:lnTo>
                      <a:pt x="1042" y="375"/>
                    </a:lnTo>
                    <a:lnTo>
                      <a:pt x="1024" y="385"/>
                    </a:lnTo>
                    <a:lnTo>
                      <a:pt x="1008" y="393"/>
                    </a:lnTo>
                    <a:lnTo>
                      <a:pt x="990" y="403"/>
                    </a:lnTo>
                    <a:lnTo>
                      <a:pt x="972" y="410"/>
                    </a:lnTo>
                    <a:lnTo>
                      <a:pt x="951" y="418"/>
                    </a:lnTo>
                    <a:lnTo>
                      <a:pt x="931" y="426"/>
                    </a:lnTo>
                    <a:lnTo>
                      <a:pt x="910" y="434"/>
                    </a:lnTo>
                    <a:lnTo>
                      <a:pt x="887" y="441"/>
                    </a:lnTo>
                    <a:lnTo>
                      <a:pt x="863" y="446"/>
                    </a:lnTo>
                    <a:lnTo>
                      <a:pt x="840" y="452"/>
                    </a:lnTo>
                    <a:lnTo>
                      <a:pt x="814" y="457"/>
                    </a:lnTo>
                    <a:lnTo>
                      <a:pt x="791" y="462"/>
                    </a:lnTo>
                    <a:lnTo>
                      <a:pt x="765" y="467"/>
                    </a:lnTo>
                    <a:lnTo>
                      <a:pt x="739" y="470"/>
                    </a:lnTo>
                    <a:lnTo>
                      <a:pt x="711" y="475"/>
                    </a:lnTo>
                    <a:lnTo>
                      <a:pt x="685" y="477"/>
                    </a:lnTo>
                    <a:lnTo>
                      <a:pt x="656" y="480"/>
                    </a:lnTo>
                    <a:lnTo>
                      <a:pt x="628" y="480"/>
                    </a:lnTo>
                    <a:lnTo>
                      <a:pt x="600" y="480"/>
                    </a:lnTo>
                    <a:lnTo>
                      <a:pt x="569" y="482"/>
                    </a:lnTo>
                    <a:lnTo>
                      <a:pt x="569" y="482"/>
                    </a:lnTo>
                    <a:lnTo>
                      <a:pt x="540" y="480"/>
                    </a:lnTo>
                    <a:lnTo>
                      <a:pt x="512" y="480"/>
                    </a:lnTo>
                    <a:lnTo>
                      <a:pt x="483" y="480"/>
                    </a:lnTo>
                    <a:lnTo>
                      <a:pt x="455" y="477"/>
                    </a:lnTo>
                    <a:lnTo>
                      <a:pt x="429" y="475"/>
                    </a:lnTo>
                    <a:lnTo>
                      <a:pt x="401" y="470"/>
                    </a:lnTo>
                    <a:lnTo>
                      <a:pt x="375" y="467"/>
                    </a:lnTo>
                    <a:lnTo>
                      <a:pt x="349" y="462"/>
                    </a:lnTo>
                    <a:lnTo>
                      <a:pt x="323" y="457"/>
                    </a:lnTo>
                    <a:lnTo>
                      <a:pt x="300" y="452"/>
                    </a:lnTo>
                    <a:lnTo>
                      <a:pt x="276" y="446"/>
                    </a:lnTo>
                    <a:lnTo>
                      <a:pt x="253" y="441"/>
                    </a:lnTo>
                    <a:lnTo>
                      <a:pt x="230" y="434"/>
                    </a:lnTo>
                    <a:lnTo>
                      <a:pt x="209" y="426"/>
                    </a:lnTo>
                    <a:lnTo>
                      <a:pt x="188" y="418"/>
                    </a:lnTo>
                    <a:lnTo>
                      <a:pt x="168" y="410"/>
                    </a:lnTo>
                    <a:lnTo>
                      <a:pt x="150" y="403"/>
                    </a:lnTo>
                    <a:lnTo>
                      <a:pt x="132" y="393"/>
                    </a:lnTo>
                    <a:lnTo>
                      <a:pt x="113" y="385"/>
                    </a:lnTo>
                    <a:lnTo>
                      <a:pt x="98" y="375"/>
                    </a:lnTo>
                    <a:lnTo>
                      <a:pt x="82" y="364"/>
                    </a:lnTo>
                    <a:lnTo>
                      <a:pt x="70" y="354"/>
                    </a:lnTo>
                    <a:lnTo>
                      <a:pt x="57" y="344"/>
                    </a:lnTo>
                    <a:lnTo>
                      <a:pt x="46" y="333"/>
                    </a:lnTo>
                    <a:lnTo>
                      <a:pt x="36" y="323"/>
                    </a:lnTo>
                    <a:lnTo>
                      <a:pt x="26" y="313"/>
                    </a:lnTo>
                    <a:lnTo>
                      <a:pt x="18" y="300"/>
                    </a:lnTo>
                    <a:lnTo>
                      <a:pt x="13" y="290"/>
                    </a:lnTo>
                    <a:lnTo>
                      <a:pt x="7" y="277"/>
                    </a:lnTo>
                    <a:lnTo>
                      <a:pt x="2" y="264"/>
                    </a:lnTo>
                    <a:lnTo>
                      <a:pt x="2" y="254"/>
                    </a:lnTo>
                    <a:lnTo>
                      <a:pt x="0" y="241"/>
                    </a:lnTo>
                    <a:lnTo>
                      <a:pt x="0" y="241"/>
                    </a:lnTo>
                    <a:lnTo>
                      <a:pt x="2" y="228"/>
                    </a:lnTo>
                    <a:lnTo>
                      <a:pt x="2" y="215"/>
                    </a:lnTo>
                    <a:lnTo>
                      <a:pt x="7" y="205"/>
                    </a:lnTo>
                    <a:lnTo>
                      <a:pt x="13" y="192"/>
                    </a:lnTo>
                    <a:lnTo>
                      <a:pt x="18" y="182"/>
                    </a:lnTo>
                    <a:lnTo>
                      <a:pt x="26" y="169"/>
                    </a:lnTo>
                    <a:lnTo>
                      <a:pt x="36" y="159"/>
                    </a:lnTo>
                    <a:lnTo>
                      <a:pt x="46" y="149"/>
                    </a:lnTo>
                    <a:lnTo>
                      <a:pt x="57" y="136"/>
                    </a:lnTo>
                    <a:lnTo>
                      <a:pt x="70" y="125"/>
                    </a:lnTo>
                    <a:lnTo>
                      <a:pt x="82" y="115"/>
                    </a:lnTo>
                    <a:lnTo>
                      <a:pt x="98" y="107"/>
                    </a:lnTo>
                    <a:lnTo>
                      <a:pt x="113" y="97"/>
                    </a:lnTo>
                    <a:lnTo>
                      <a:pt x="132" y="87"/>
                    </a:lnTo>
                    <a:lnTo>
                      <a:pt x="150" y="79"/>
                    </a:lnTo>
                    <a:lnTo>
                      <a:pt x="168" y="72"/>
                    </a:lnTo>
                    <a:lnTo>
                      <a:pt x="188" y="64"/>
                    </a:lnTo>
                    <a:lnTo>
                      <a:pt x="209" y="56"/>
                    </a:lnTo>
                    <a:lnTo>
                      <a:pt x="230" y="48"/>
                    </a:lnTo>
                    <a:lnTo>
                      <a:pt x="253" y="41"/>
                    </a:lnTo>
                    <a:lnTo>
                      <a:pt x="276" y="36"/>
                    </a:lnTo>
                    <a:lnTo>
                      <a:pt x="300" y="30"/>
                    </a:lnTo>
                    <a:lnTo>
                      <a:pt x="323" y="23"/>
                    </a:lnTo>
                    <a:lnTo>
                      <a:pt x="349" y="20"/>
                    </a:lnTo>
                    <a:lnTo>
                      <a:pt x="375" y="15"/>
                    </a:lnTo>
                    <a:lnTo>
                      <a:pt x="401" y="10"/>
                    </a:lnTo>
                    <a:lnTo>
                      <a:pt x="429" y="7"/>
                    </a:lnTo>
                    <a:lnTo>
                      <a:pt x="455" y="5"/>
                    </a:lnTo>
                    <a:lnTo>
                      <a:pt x="483" y="2"/>
                    </a:lnTo>
                    <a:lnTo>
                      <a:pt x="512" y="2"/>
                    </a:lnTo>
                    <a:lnTo>
                      <a:pt x="540" y="0"/>
                    </a:lnTo>
                    <a:lnTo>
                      <a:pt x="569" y="0"/>
                    </a:lnTo>
                    <a:lnTo>
                      <a:pt x="569" y="0"/>
                    </a:lnTo>
                    <a:lnTo>
                      <a:pt x="600" y="0"/>
                    </a:lnTo>
                    <a:lnTo>
                      <a:pt x="628" y="2"/>
                    </a:lnTo>
                    <a:lnTo>
                      <a:pt x="656" y="2"/>
                    </a:lnTo>
                    <a:lnTo>
                      <a:pt x="685" y="5"/>
                    </a:lnTo>
                    <a:lnTo>
                      <a:pt x="711" y="7"/>
                    </a:lnTo>
                    <a:lnTo>
                      <a:pt x="739" y="10"/>
                    </a:lnTo>
                    <a:lnTo>
                      <a:pt x="765" y="15"/>
                    </a:lnTo>
                    <a:lnTo>
                      <a:pt x="791" y="20"/>
                    </a:lnTo>
                    <a:lnTo>
                      <a:pt x="814" y="23"/>
                    </a:lnTo>
                    <a:lnTo>
                      <a:pt x="840" y="30"/>
                    </a:lnTo>
                    <a:lnTo>
                      <a:pt x="863" y="36"/>
                    </a:lnTo>
                    <a:lnTo>
                      <a:pt x="887" y="41"/>
                    </a:lnTo>
                    <a:lnTo>
                      <a:pt x="910" y="48"/>
                    </a:lnTo>
                    <a:lnTo>
                      <a:pt x="931" y="56"/>
                    </a:lnTo>
                    <a:lnTo>
                      <a:pt x="951" y="64"/>
                    </a:lnTo>
                    <a:lnTo>
                      <a:pt x="972" y="72"/>
                    </a:lnTo>
                    <a:lnTo>
                      <a:pt x="990" y="79"/>
                    </a:lnTo>
                    <a:lnTo>
                      <a:pt x="1008" y="87"/>
                    </a:lnTo>
                    <a:lnTo>
                      <a:pt x="1024" y="97"/>
                    </a:lnTo>
                    <a:lnTo>
                      <a:pt x="1042" y="107"/>
                    </a:lnTo>
                    <a:lnTo>
                      <a:pt x="1055" y="115"/>
                    </a:lnTo>
                    <a:lnTo>
                      <a:pt x="1070" y="125"/>
                    </a:lnTo>
                    <a:lnTo>
                      <a:pt x="1083" y="136"/>
                    </a:lnTo>
                    <a:lnTo>
                      <a:pt x="1093" y="149"/>
                    </a:lnTo>
                    <a:lnTo>
                      <a:pt x="1104" y="159"/>
                    </a:lnTo>
                    <a:lnTo>
                      <a:pt x="1112" y="169"/>
                    </a:lnTo>
                    <a:lnTo>
                      <a:pt x="1119" y="182"/>
                    </a:lnTo>
                    <a:lnTo>
                      <a:pt x="1127" y="192"/>
                    </a:lnTo>
                    <a:lnTo>
                      <a:pt x="1132" y="205"/>
                    </a:lnTo>
                    <a:lnTo>
                      <a:pt x="1135" y="215"/>
                    </a:lnTo>
                    <a:lnTo>
                      <a:pt x="1137" y="228"/>
                    </a:lnTo>
                    <a:lnTo>
                      <a:pt x="1137" y="241"/>
                    </a:lnTo>
                    <a:close/>
                  </a:path>
                </a:pathLst>
              </a:custGeom>
              <a:solidFill>
                <a:srgbClr val="c1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992320" y="6221520"/>
                <a:ext cx="1800" cy="205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992320" y="62420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2987280" y="6242040"/>
                <a:ext cx="4680" cy="1764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987640" y="62596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2984040" y="6259680"/>
                <a:ext cx="3240" cy="187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984400" y="62784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2976480" y="6278400"/>
                <a:ext cx="7920" cy="2088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976480" y="62992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2963520" y="6299280"/>
                <a:ext cx="1260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963880" y="63151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2950920" y="6315120"/>
                <a:ext cx="12600" cy="205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951280" y="63356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2938320" y="6335640"/>
                <a:ext cx="12960" cy="176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938320" y="63532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2922480" y="6353280"/>
                <a:ext cx="1584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922480" y="63691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2906640" y="6369120"/>
                <a:ext cx="1584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906640" y="63849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2885760" y="6384960"/>
                <a:ext cx="2052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886120" y="64008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2860200" y="6400800"/>
                <a:ext cx="25560" cy="176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860560" y="64184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2839680" y="6418440"/>
                <a:ext cx="2052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40040" y="6434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2811240" y="6434280"/>
                <a:ext cx="28440" cy="158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811600" y="64501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2787120" y="6450120"/>
                <a:ext cx="24120" cy="1260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787480" y="64627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2758680" y="6462720"/>
                <a:ext cx="28440" cy="158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759040" y="64785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2728800" y="6478560"/>
                <a:ext cx="30240" cy="1260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728800" y="64911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2697120" y="6491160"/>
                <a:ext cx="31680" cy="129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697120" y="65041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2664000" y="6504120"/>
                <a:ext cx="3312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664000" y="6515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2630160" y="6515280"/>
                <a:ext cx="334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630520" y="65278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2593800" y="6527880"/>
                <a:ext cx="3672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593800" y="65404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2557080" y="6540480"/>
                <a:ext cx="3636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557440" y="65484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2520720" y="6548400"/>
                <a:ext cx="3636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521080" y="65563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2479320" y="6556320"/>
                <a:ext cx="4140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79680" y="65642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2441520" y="6564240"/>
                <a:ext cx="3816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441520" y="65721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2401920" y="6572160"/>
                <a:ext cx="3960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401920" y="65800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2360160" y="6580080"/>
                <a:ext cx="41400" cy="5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360520" y="65851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2314440" y="6585120"/>
                <a:ext cx="4608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314440" y="65930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2273400" y="6593040"/>
                <a:ext cx="4104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73400" y="65977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2228760" y="6597720"/>
                <a:ext cx="4464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228760" y="66009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2184120" y="6600960"/>
                <a:ext cx="442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184480" y="6600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2138400" y="6600960"/>
                <a:ext cx="460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138400" y="6600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2088720" y="6600960"/>
                <a:ext cx="4932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089080" y="66056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089080" y="66056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089080" y="66056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 flipV="1">
                <a:off x="2044440" y="6600600"/>
                <a:ext cx="4428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044800" y="6600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1998720" y="6600960"/>
                <a:ext cx="460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98720" y="6600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1954080" y="6600960"/>
                <a:ext cx="446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54080" y="66009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 flipV="1">
                <a:off x="1908000" y="6597360"/>
                <a:ext cx="4608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908000" y="65977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>
                <a:off x="1866960" y="6592680"/>
                <a:ext cx="4104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866960" y="65930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>
                <a:off x="1822320" y="6585120"/>
                <a:ext cx="4464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22320" y="65851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 flipV="1">
                <a:off x="1781280" y="6580080"/>
                <a:ext cx="41040" cy="5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781280" y="65800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>
                <a:off x="1739520" y="6572160"/>
                <a:ext cx="4140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739880" y="65721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 flipV="1">
                <a:off x="1698120" y="6564240"/>
                <a:ext cx="4140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698480" y="65642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 flipV="1">
                <a:off x="1661760" y="6556320"/>
                <a:ext cx="3636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62120" y="65563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 flipV="1">
                <a:off x="1625400" y="6548400"/>
                <a:ext cx="3636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25760" y="65484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 flipV="1">
                <a:off x="1589040" y="6540480"/>
                <a:ext cx="3672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589040" y="65404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>
                <a:off x="1550880" y="6527520"/>
                <a:ext cx="3816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550880" y="65278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flipV="1">
                <a:off x="1519200" y="6514920"/>
                <a:ext cx="316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519200" y="65152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>
                <a:off x="1486080" y="6503760"/>
                <a:ext cx="3312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486080" y="65041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>
                <a:off x="1452240" y="6491160"/>
                <a:ext cx="33480" cy="129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452600" y="64911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 flipV="1">
                <a:off x="1423800" y="6478200"/>
                <a:ext cx="28440" cy="1260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424160" y="64785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 flipV="1">
                <a:off x="1395360" y="6462720"/>
                <a:ext cx="28800" cy="158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95360" y="64627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 flipV="1">
                <a:off x="1366560" y="6449760"/>
                <a:ext cx="28440" cy="1260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66920" y="64501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>
                <a:off x="1341000" y="6434280"/>
                <a:ext cx="2556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1360" y="64342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>
                <a:off x="1317600" y="6418440"/>
                <a:ext cx="2376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17600" y="64184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 flipV="1">
                <a:off x="1296720" y="6400440"/>
                <a:ext cx="20520" cy="176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297080" y="64008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1276200" y="6384960"/>
                <a:ext cx="2088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276200" y="63849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>
                <a:off x="1260360" y="6369120"/>
                <a:ext cx="1584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260360" y="63691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 flipV="1">
                <a:off x="1243080" y="6353280"/>
                <a:ext cx="1728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243080" y="6353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flipV="1">
                <a:off x="1227240" y="6335280"/>
                <a:ext cx="15840" cy="176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227240" y="63356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>
                <a:off x="1214280" y="6314760"/>
                <a:ext cx="12960" cy="205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214280" y="63151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>
                <a:off x="1206360" y="6299280"/>
                <a:ext cx="7920" cy="158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206360" y="62992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flipV="1">
                <a:off x="1198440" y="6278400"/>
                <a:ext cx="7920" cy="2088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198440" y="62784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1190520" y="6259680"/>
                <a:ext cx="7920" cy="1872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190520" y="62596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1190520" y="6241680"/>
                <a:ext cx="1800" cy="176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90520" y="62420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>
                <a:off x="1185480" y="6221160"/>
                <a:ext cx="4680" cy="205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185840" y="6221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185840" y="6221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185840" y="6221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1185840" y="6202080"/>
                <a:ext cx="4680" cy="1908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90520" y="62024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1190520" y="6181560"/>
                <a:ext cx="1800" cy="208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190520" y="61815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1190520" y="6164280"/>
                <a:ext cx="7920" cy="172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198440" y="61642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1198440" y="6144840"/>
                <a:ext cx="7920" cy="1908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206360" y="61452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1206360" y="6127920"/>
                <a:ext cx="7920" cy="172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214280" y="61279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1214280" y="6108480"/>
                <a:ext cx="12960" cy="190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227240" y="61088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1227240" y="6090840"/>
                <a:ext cx="15840" cy="176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243080" y="60912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1243080" y="6075360"/>
                <a:ext cx="1728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260360" y="60753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1260360" y="6054480"/>
                <a:ext cx="15840" cy="205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276200" y="60548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1276200" y="6039000"/>
                <a:ext cx="2088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297080" y="60390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1297080" y="6022440"/>
                <a:ext cx="20520" cy="1620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17600" y="6022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1317600" y="6009840"/>
                <a:ext cx="23760" cy="1260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1360" y="60102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1341360" y="5994360"/>
                <a:ext cx="2556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66920" y="59943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1366920" y="5977080"/>
                <a:ext cx="28440" cy="172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95360" y="59770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1395360" y="5965560"/>
                <a:ext cx="28800" cy="111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424160" y="59659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1424160" y="5952960"/>
                <a:ext cx="28440" cy="129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452600" y="59529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1452600" y="5940000"/>
                <a:ext cx="334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486080" y="59403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1486080" y="5928840"/>
                <a:ext cx="3312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519200" y="59292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1519200" y="5916240"/>
                <a:ext cx="316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550880" y="59166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1550880" y="5903640"/>
                <a:ext cx="3816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589040" y="59040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1589040" y="5896080"/>
                <a:ext cx="3672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625760" y="58960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1625760" y="5888160"/>
                <a:ext cx="3636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62120" y="58881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1662120" y="5875200"/>
                <a:ext cx="36360" cy="129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698480" y="58752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1698480" y="5872320"/>
                <a:ext cx="41400" cy="2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39880" y="5872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1739880" y="5862240"/>
                <a:ext cx="41400" cy="97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781280" y="58626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1781280" y="5854680"/>
                <a:ext cx="4104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22320" y="58546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1822320" y="5851080"/>
                <a:ext cx="4464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866960" y="58514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1866960" y="5846400"/>
                <a:ext cx="4104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908000" y="58467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1908000" y="5843160"/>
                <a:ext cx="4608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954080" y="58435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954080" y="5843520"/>
                <a:ext cx="446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998720" y="58435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1998720" y="5838480"/>
                <a:ext cx="4608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044800" y="58388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044800" y="5838840"/>
                <a:ext cx="442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89080" y="58388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089080" y="58388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089080" y="58388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089080" y="5838840"/>
                <a:ext cx="4932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1177920" y="5656320"/>
              <a:ext cx="1835280" cy="792000"/>
              <a:chOff x="1177920" y="5656320"/>
              <a:chExt cx="1835280" cy="792000"/>
            </a:xfrm>
          </p:grpSpPr>
          <p:sp>
            <p:nvSpPr>
              <p:cNvPr id="704" name=""/>
              <p:cNvSpPr/>
              <p:nvPr/>
            </p:nvSpPr>
            <p:spPr>
              <a:xfrm>
                <a:off x="2138400" y="58388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138400" y="5838840"/>
                <a:ext cx="4608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184480" y="58435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184480" y="5843520"/>
                <a:ext cx="4428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228760" y="58435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228760" y="5843520"/>
                <a:ext cx="4464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273400" y="58467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273400" y="5846760"/>
                <a:ext cx="4104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314440" y="58514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314440" y="5851440"/>
                <a:ext cx="4608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360520" y="58546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360520" y="5854680"/>
                <a:ext cx="4140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401920" y="58626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401920" y="5862600"/>
                <a:ext cx="39600" cy="97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441520" y="58723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441520" y="5872320"/>
                <a:ext cx="38160" cy="2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479680" y="58752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479680" y="5875200"/>
                <a:ext cx="41400" cy="129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521080" y="58881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521080" y="5888160"/>
                <a:ext cx="3636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557440" y="58960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557440" y="5896080"/>
                <a:ext cx="3636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593800" y="59040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593800" y="5904000"/>
                <a:ext cx="3672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630520" y="59166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630520" y="5916600"/>
                <a:ext cx="334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664000" y="59292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664000" y="5929200"/>
                <a:ext cx="3312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697120" y="59403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697120" y="5940360"/>
                <a:ext cx="316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728800" y="59529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728800" y="5952960"/>
                <a:ext cx="30240" cy="129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759040" y="59659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759040" y="5965920"/>
                <a:ext cx="28440" cy="111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787480" y="59770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787480" y="5977080"/>
                <a:ext cx="24120" cy="172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811600" y="59943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811600" y="5994360"/>
                <a:ext cx="28440" cy="158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840040" y="60102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840040" y="6010200"/>
                <a:ext cx="20520" cy="1260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860560" y="60228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860560" y="6022800"/>
                <a:ext cx="25560" cy="1620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886120" y="60390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886120" y="6039000"/>
                <a:ext cx="2052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906640" y="60548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06640" y="6054840"/>
                <a:ext cx="15840" cy="205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922480" y="60753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922480" y="6075360"/>
                <a:ext cx="1584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938320" y="60912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938320" y="6091200"/>
                <a:ext cx="12960" cy="176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951280" y="61088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951280" y="6108840"/>
                <a:ext cx="12600" cy="190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963880" y="61279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963880" y="6127920"/>
                <a:ext cx="12600" cy="172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976480" y="61452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76480" y="6145200"/>
                <a:ext cx="7920" cy="1908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984400" y="61642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984400" y="6164280"/>
                <a:ext cx="3240" cy="1728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987640" y="61815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987640" y="6181560"/>
                <a:ext cx="4680" cy="2088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992320" y="62024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992320" y="6202440"/>
                <a:ext cx="1800" cy="190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992320" y="62215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177920" y="5656320"/>
                <a:ext cx="1809720" cy="765000"/>
              </a:xfrm>
              <a:custGeom>
                <a:avLst/>
                <a:gdLst/>
                <a:ahLst/>
                <a:rect l="l" t="t" r="r" b="b"/>
                <a:pathLst>
                  <a:path w="1140" h="482">
                    <a:moveTo>
                      <a:pt x="1140" y="241"/>
                    </a:moveTo>
                    <a:lnTo>
                      <a:pt x="1138" y="254"/>
                    </a:lnTo>
                    <a:lnTo>
                      <a:pt x="1135" y="267"/>
                    </a:lnTo>
                    <a:lnTo>
                      <a:pt x="1133" y="277"/>
                    </a:lnTo>
                    <a:lnTo>
                      <a:pt x="1127" y="290"/>
                    </a:lnTo>
                    <a:lnTo>
                      <a:pt x="1122" y="300"/>
                    </a:lnTo>
                    <a:lnTo>
                      <a:pt x="1114" y="313"/>
                    </a:lnTo>
                    <a:lnTo>
                      <a:pt x="1104" y="323"/>
                    </a:lnTo>
                    <a:lnTo>
                      <a:pt x="1094" y="336"/>
                    </a:lnTo>
                    <a:lnTo>
                      <a:pt x="1083" y="346"/>
                    </a:lnTo>
                    <a:lnTo>
                      <a:pt x="1071" y="356"/>
                    </a:lnTo>
                    <a:lnTo>
                      <a:pt x="1055" y="367"/>
                    </a:lnTo>
                    <a:lnTo>
                      <a:pt x="1042" y="374"/>
                    </a:lnTo>
                    <a:lnTo>
                      <a:pt x="1027" y="385"/>
                    </a:lnTo>
                    <a:lnTo>
                      <a:pt x="1008" y="395"/>
                    </a:lnTo>
                    <a:lnTo>
                      <a:pt x="990" y="403"/>
                    </a:lnTo>
                    <a:lnTo>
                      <a:pt x="972" y="410"/>
                    </a:lnTo>
                    <a:lnTo>
                      <a:pt x="952" y="418"/>
                    </a:lnTo>
                    <a:lnTo>
                      <a:pt x="931" y="426"/>
                    </a:lnTo>
                    <a:lnTo>
                      <a:pt x="910" y="433"/>
                    </a:lnTo>
                    <a:lnTo>
                      <a:pt x="887" y="441"/>
                    </a:lnTo>
                    <a:lnTo>
                      <a:pt x="864" y="446"/>
                    </a:lnTo>
                    <a:lnTo>
                      <a:pt x="840" y="454"/>
                    </a:lnTo>
                    <a:lnTo>
                      <a:pt x="817" y="459"/>
                    </a:lnTo>
                    <a:lnTo>
                      <a:pt x="791" y="464"/>
                    </a:lnTo>
                    <a:lnTo>
                      <a:pt x="765" y="467"/>
                    </a:lnTo>
                    <a:lnTo>
                      <a:pt x="740" y="472"/>
                    </a:lnTo>
                    <a:lnTo>
                      <a:pt x="711" y="475"/>
                    </a:lnTo>
                    <a:lnTo>
                      <a:pt x="685" y="477"/>
                    </a:lnTo>
                    <a:lnTo>
                      <a:pt x="657" y="480"/>
                    </a:lnTo>
                    <a:lnTo>
                      <a:pt x="628" y="480"/>
                    </a:lnTo>
                    <a:lnTo>
                      <a:pt x="600" y="482"/>
                    </a:lnTo>
                    <a:lnTo>
                      <a:pt x="569" y="482"/>
                    </a:lnTo>
                    <a:lnTo>
                      <a:pt x="569" y="482"/>
                    </a:lnTo>
                    <a:lnTo>
                      <a:pt x="540" y="482"/>
                    </a:lnTo>
                    <a:lnTo>
                      <a:pt x="512" y="480"/>
                    </a:lnTo>
                    <a:lnTo>
                      <a:pt x="484" y="480"/>
                    </a:lnTo>
                    <a:lnTo>
                      <a:pt x="455" y="477"/>
                    </a:lnTo>
                    <a:lnTo>
                      <a:pt x="429" y="475"/>
                    </a:lnTo>
                    <a:lnTo>
                      <a:pt x="401" y="472"/>
                    </a:lnTo>
                    <a:lnTo>
                      <a:pt x="375" y="467"/>
                    </a:lnTo>
                    <a:lnTo>
                      <a:pt x="349" y="464"/>
                    </a:lnTo>
                    <a:lnTo>
                      <a:pt x="323" y="459"/>
                    </a:lnTo>
                    <a:lnTo>
                      <a:pt x="300" y="454"/>
                    </a:lnTo>
                    <a:lnTo>
                      <a:pt x="277" y="446"/>
                    </a:lnTo>
                    <a:lnTo>
                      <a:pt x="253" y="441"/>
                    </a:lnTo>
                    <a:lnTo>
                      <a:pt x="230" y="433"/>
                    </a:lnTo>
                    <a:lnTo>
                      <a:pt x="210" y="426"/>
                    </a:lnTo>
                    <a:lnTo>
                      <a:pt x="189" y="418"/>
                    </a:lnTo>
                    <a:lnTo>
                      <a:pt x="168" y="410"/>
                    </a:lnTo>
                    <a:lnTo>
                      <a:pt x="150" y="403"/>
                    </a:lnTo>
                    <a:lnTo>
                      <a:pt x="132" y="395"/>
                    </a:lnTo>
                    <a:lnTo>
                      <a:pt x="114" y="385"/>
                    </a:lnTo>
                    <a:lnTo>
                      <a:pt x="98" y="374"/>
                    </a:lnTo>
                    <a:lnTo>
                      <a:pt x="83" y="367"/>
                    </a:lnTo>
                    <a:lnTo>
                      <a:pt x="70" y="356"/>
                    </a:lnTo>
                    <a:lnTo>
                      <a:pt x="57" y="346"/>
                    </a:lnTo>
                    <a:lnTo>
                      <a:pt x="47" y="336"/>
                    </a:lnTo>
                    <a:lnTo>
                      <a:pt x="36" y="323"/>
                    </a:lnTo>
                    <a:lnTo>
                      <a:pt x="26" y="313"/>
                    </a:lnTo>
                    <a:lnTo>
                      <a:pt x="18" y="300"/>
                    </a:lnTo>
                    <a:lnTo>
                      <a:pt x="13" y="290"/>
                    </a:lnTo>
                    <a:lnTo>
                      <a:pt x="8" y="277"/>
                    </a:lnTo>
                    <a:lnTo>
                      <a:pt x="5" y="267"/>
                    </a:lnTo>
                    <a:lnTo>
                      <a:pt x="3" y="254"/>
                    </a:lnTo>
                    <a:lnTo>
                      <a:pt x="0" y="241"/>
                    </a:lnTo>
                    <a:lnTo>
                      <a:pt x="0" y="241"/>
                    </a:lnTo>
                    <a:lnTo>
                      <a:pt x="3" y="228"/>
                    </a:lnTo>
                    <a:lnTo>
                      <a:pt x="5" y="218"/>
                    </a:lnTo>
                    <a:lnTo>
                      <a:pt x="8" y="205"/>
                    </a:lnTo>
                    <a:lnTo>
                      <a:pt x="13" y="192"/>
                    </a:lnTo>
                    <a:lnTo>
                      <a:pt x="18" y="182"/>
                    </a:lnTo>
                    <a:lnTo>
                      <a:pt x="26" y="169"/>
                    </a:lnTo>
                    <a:lnTo>
                      <a:pt x="36" y="159"/>
                    </a:lnTo>
                    <a:lnTo>
                      <a:pt x="47" y="148"/>
                    </a:lnTo>
                    <a:lnTo>
                      <a:pt x="57" y="138"/>
                    </a:lnTo>
                    <a:lnTo>
                      <a:pt x="70" y="128"/>
                    </a:lnTo>
                    <a:lnTo>
                      <a:pt x="83" y="118"/>
                    </a:lnTo>
                    <a:lnTo>
                      <a:pt x="98" y="107"/>
                    </a:lnTo>
                    <a:lnTo>
                      <a:pt x="114" y="97"/>
                    </a:lnTo>
                    <a:lnTo>
                      <a:pt x="132" y="89"/>
                    </a:lnTo>
                    <a:lnTo>
                      <a:pt x="150" y="79"/>
                    </a:lnTo>
                    <a:lnTo>
                      <a:pt x="168" y="71"/>
                    </a:lnTo>
                    <a:lnTo>
                      <a:pt x="189" y="64"/>
                    </a:lnTo>
                    <a:lnTo>
                      <a:pt x="210" y="56"/>
                    </a:lnTo>
                    <a:lnTo>
                      <a:pt x="230" y="48"/>
                    </a:lnTo>
                    <a:lnTo>
                      <a:pt x="253" y="43"/>
                    </a:lnTo>
                    <a:lnTo>
                      <a:pt x="277" y="35"/>
                    </a:lnTo>
                    <a:lnTo>
                      <a:pt x="300" y="30"/>
                    </a:lnTo>
                    <a:lnTo>
                      <a:pt x="323" y="25"/>
                    </a:lnTo>
                    <a:lnTo>
                      <a:pt x="349" y="20"/>
                    </a:lnTo>
                    <a:lnTo>
                      <a:pt x="375" y="15"/>
                    </a:lnTo>
                    <a:lnTo>
                      <a:pt x="401" y="12"/>
                    </a:lnTo>
                    <a:lnTo>
                      <a:pt x="429" y="7"/>
                    </a:lnTo>
                    <a:lnTo>
                      <a:pt x="455" y="5"/>
                    </a:lnTo>
                    <a:lnTo>
                      <a:pt x="484" y="5"/>
                    </a:lnTo>
                    <a:lnTo>
                      <a:pt x="512" y="2"/>
                    </a:lnTo>
                    <a:lnTo>
                      <a:pt x="540" y="2"/>
                    </a:lnTo>
                    <a:lnTo>
                      <a:pt x="569" y="0"/>
                    </a:lnTo>
                    <a:lnTo>
                      <a:pt x="569" y="0"/>
                    </a:lnTo>
                    <a:lnTo>
                      <a:pt x="600" y="2"/>
                    </a:lnTo>
                    <a:lnTo>
                      <a:pt x="628" y="2"/>
                    </a:lnTo>
                    <a:lnTo>
                      <a:pt x="657" y="5"/>
                    </a:lnTo>
                    <a:lnTo>
                      <a:pt x="685" y="5"/>
                    </a:lnTo>
                    <a:lnTo>
                      <a:pt x="711" y="7"/>
                    </a:lnTo>
                    <a:lnTo>
                      <a:pt x="740" y="12"/>
                    </a:lnTo>
                    <a:lnTo>
                      <a:pt x="765" y="15"/>
                    </a:lnTo>
                    <a:lnTo>
                      <a:pt x="791" y="20"/>
                    </a:lnTo>
                    <a:lnTo>
                      <a:pt x="817" y="25"/>
                    </a:lnTo>
                    <a:lnTo>
                      <a:pt x="840" y="30"/>
                    </a:lnTo>
                    <a:lnTo>
                      <a:pt x="864" y="35"/>
                    </a:lnTo>
                    <a:lnTo>
                      <a:pt x="887" y="43"/>
                    </a:lnTo>
                    <a:lnTo>
                      <a:pt x="910" y="48"/>
                    </a:lnTo>
                    <a:lnTo>
                      <a:pt x="931" y="56"/>
                    </a:lnTo>
                    <a:lnTo>
                      <a:pt x="952" y="64"/>
                    </a:lnTo>
                    <a:lnTo>
                      <a:pt x="972" y="71"/>
                    </a:lnTo>
                    <a:lnTo>
                      <a:pt x="990" y="79"/>
                    </a:lnTo>
                    <a:lnTo>
                      <a:pt x="1008" y="89"/>
                    </a:lnTo>
                    <a:lnTo>
                      <a:pt x="1027" y="97"/>
                    </a:lnTo>
                    <a:lnTo>
                      <a:pt x="1042" y="107"/>
                    </a:lnTo>
                    <a:lnTo>
                      <a:pt x="1055" y="118"/>
                    </a:lnTo>
                    <a:lnTo>
                      <a:pt x="1071" y="128"/>
                    </a:lnTo>
                    <a:lnTo>
                      <a:pt x="1083" y="138"/>
                    </a:lnTo>
                    <a:lnTo>
                      <a:pt x="1094" y="148"/>
                    </a:lnTo>
                    <a:lnTo>
                      <a:pt x="1104" y="159"/>
                    </a:lnTo>
                    <a:lnTo>
                      <a:pt x="1114" y="169"/>
                    </a:lnTo>
                    <a:lnTo>
                      <a:pt x="1122" y="182"/>
                    </a:lnTo>
                    <a:lnTo>
                      <a:pt x="1127" y="192"/>
                    </a:lnTo>
                    <a:lnTo>
                      <a:pt x="1133" y="205"/>
                    </a:lnTo>
                    <a:lnTo>
                      <a:pt x="1135" y="218"/>
                    </a:lnTo>
                    <a:lnTo>
                      <a:pt x="1138" y="228"/>
                    </a:lnTo>
                    <a:lnTo>
                      <a:pt x="1140" y="241"/>
                    </a:lnTo>
                    <a:close/>
                  </a:path>
                </a:pathLst>
              </a:custGeom>
              <a:solidFill>
                <a:srgbClr val="c1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3008160" y="6062760"/>
                <a:ext cx="5040" cy="205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08160" y="60832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3005280" y="6083280"/>
                <a:ext cx="2880" cy="205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005280" y="6103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3000240" y="6103800"/>
                <a:ext cx="5040" cy="1584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000240" y="61196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2992320" y="6119640"/>
                <a:ext cx="7920" cy="2088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992320" y="61405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2984400" y="6140520"/>
                <a:ext cx="7920" cy="158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984400" y="61563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2971440" y="6156360"/>
                <a:ext cx="12600" cy="205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971800" y="61768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2955960" y="6176880"/>
                <a:ext cx="1584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955960" y="61927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2937960" y="6192720"/>
                <a:ext cx="17640" cy="208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938320" y="62136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2922480" y="6213600"/>
                <a:ext cx="15840" cy="172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922480" y="62308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2901600" y="6230880"/>
                <a:ext cx="2052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01960" y="62467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2878200" y="6246720"/>
                <a:ext cx="2376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878200" y="62625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2857320" y="6262560"/>
                <a:ext cx="20520" cy="129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857680" y="6275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2831760" y="6275520"/>
                <a:ext cx="2556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832120" y="62913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2803320" y="6291360"/>
                <a:ext cx="28440" cy="158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803680" y="63072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2774880" y="6307200"/>
                <a:ext cx="28800" cy="1260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74880" y="63198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2746080" y="6319800"/>
                <a:ext cx="28440" cy="1260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746440" y="63324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2712600" y="6332400"/>
                <a:ext cx="3348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12960" y="63435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>
                <a:off x="2679840" y="6343560"/>
                <a:ext cx="33120" cy="129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679840" y="6356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2647440" y="6356520"/>
                <a:ext cx="3204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647800" y="63691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2609640" y="6369120"/>
                <a:ext cx="3780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610000" y="63817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2573280" y="6381720"/>
                <a:ext cx="3672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73280" y="63896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2536560" y="6389640"/>
                <a:ext cx="3636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6920" y="64008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2500200" y="6400800"/>
                <a:ext cx="36720" cy="936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00200" y="64101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2459160" y="6410160"/>
                <a:ext cx="41040" cy="828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459160" y="64184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2417400" y="6418440"/>
                <a:ext cx="41400" cy="2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417760" y="64213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2376000" y="6421320"/>
                <a:ext cx="4140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376360" y="64292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2331720" y="6429240"/>
                <a:ext cx="44280" cy="5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332080" y="6434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2290320" y="6434280"/>
                <a:ext cx="4140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290680" y="64389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2244600" y="6438960"/>
                <a:ext cx="4608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44600" y="64422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2199960" y="6442200"/>
                <a:ext cx="442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200320" y="64422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2154240" y="6442200"/>
                <a:ext cx="4608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54240" y="64468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2104560" y="6446880"/>
                <a:ext cx="4932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104920" y="64468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104920" y="64468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104920" y="64468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2060280" y="6446880"/>
                <a:ext cx="442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060640" y="64468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 flipV="1">
                <a:off x="2016000" y="6441840"/>
                <a:ext cx="4464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016000" y="64422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1969920" y="6442200"/>
                <a:ext cx="460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969920" y="64422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 flipV="1">
                <a:off x="1925280" y="6438600"/>
                <a:ext cx="4428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925640" y="6438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 flipV="1">
                <a:off x="1883880" y="6433920"/>
                <a:ext cx="4140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884240" y="64342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 flipV="1">
                <a:off x="1838160" y="6429240"/>
                <a:ext cx="46080" cy="5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838160" y="64292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 flipV="1">
                <a:off x="1798560" y="6421320"/>
                <a:ext cx="3960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798560" y="64213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 flipV="1">
                <a:off x="1757520" y="6418440"/>
                <a:ext cx="41040" cy="2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757520" y="64184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flipV="1">
                <a:off x="1715760" y="6409800"/>
                <a:ext cx="41400" cy="828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716120" y="64101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 flipV="1">
                <a:off x="1679400" y="6400800"/>
                <a:ext cx="36720" cy="936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679400" y="64008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 flipV="1">
                <a:off x="1641240" y="6389280"/>
                <a:ext cx="3780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641600" y="63896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 flipV="1">
                <a:off x="1604880" y="6381720"/>
                <a:ext cx="3672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604880" y="63817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 flipV="1">
                <a:off x="1568160" y="6368760"/>
                <a:ext cx="3636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68520" y="63691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 flipV="1">
                <a:off x="1534680" y="6356160"/>
                <a:ext cx="334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535040" y="63565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 flipV="1">
                <a:off x="1501920" y="6343560"/>
                <a:ext cx="33120" cy="129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501920" y="63435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 flipV="1">
                <a:off x="1469520" y="6332040"/>
                <a:ext cx="3204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469880" y="63324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 flipV="1">
                <a:off x="1441080" y="6319440"/>
                <a:ext cx="28440" cy="1260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441440" y="6319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 flipV="1">
                <a:off x="1411200" y="6306840"/>
                <a:ext cx="30240" cy="1260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411200" y="63072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 flipV="1">
                <a:off x="1382400" y="6291360"/>
                <a:ext cx="28440" cy="158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382760" y="62913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 flipV="1">
                <a:off x="1359000" y="6275520"/>
                <a:ext cx="2376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359000" y="6275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 flipV="1">
                <a:off x="1333080" y="6262560"/>
                <a:ext cx="25560" cy="129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333440" y="62625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 flipV="1">
                <a:off x="1312560" y="6246720"/>
                <a:ext cx="2052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312920" y="62467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 flipV="1">
                <a:off x="1292040" y="6230880"/>
                <a:ext cx="2052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292400" y="62308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 flipV="1">
                <a:off x="1275840" y="6213600"/>
                <a:ext cx="16200" cy="172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276200" y="62136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 flipV="1">
                <a:off x="1260360" y="6192720"/>
                <a:ext cx="15840" cy="208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260360" y="61927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 flipV="1">
                <a:off x="1243080" y="6176880"/>
                <a:ext cx="1728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243080" y="61768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 flipV="1">
                <a:off x="1231560" y="6156000"/>
                <a:ext cx="11160" cy="205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231920" y="61563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 flipV="1">
                <a:off x="1224000" y="6140520"/>
                <a:ext cx="7920" cy="158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4000" y="6140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 flipV="1">
                <a:off x="1213920" y="6119640"/>
                <a:ext cx="9720" cy="2088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214280" y="61196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 flipV="1">
                <a:off x="1211400" y="6103800"/>
                <a:ext cx="2880" cy="1584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211400" y="6103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 flipV="1">
                <a:off x="1206360" y="6082920"/>
                <a:ext cx="5040" cy="205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206360" y="60832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 flipV="1">
                <a:off x="1203480" y="6062400"/>
                <a:ext cx="2880" cy="205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203480" y="60627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203480" y="60627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203480" y="60627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1203480" y="6041880"/>
                <a:ext cx="2880" cy="2088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206360" y="60418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1206360" y="6026040"/>
                <a:ext cx="5040" cy="1584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211400" y="60260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1211400" y="5679720"/>
              <a:ext cx="1803240" cy="384480"/>
              <a:chOff x="1211400" y="5679720"/>
              <a:chExt cx="1803240" cy="384480"/>
            </a:xfrm>
          </p:grpSpPr>
          <p:sp>
            <p:nvSpPr>
              <p:cNvPr id="905" name=""/>
              <p:cNvSpPr/>
              <p:nvPr/>
            </p:nvSpPr>
            <p:spPr>
              <a:xfrm flipV="1">
                <a:off x="1211400" y="6005160"/>
                <a:ext cx="2880" cy="205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214280" y="60055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1214280" y="5984640"/>
                <a:ext cx="9720" cy="2052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224000" y="59850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1224000" y="5969160"/>
                <a:ext cx="7920" cy="158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231920" y="59691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V="1">
                <a:off x="1231920" y="5948280"/>
                <a:ext cx="11160" cy="208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243080" y="59482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1243080" y="5932440"/>
                <a:ext cx="1728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260360" y="59324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V="1">
                <a:off x="1260360" y="5916600"/>
                <a:ext cx="1584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276200" y="59166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1276200" y="5900760"/>
                <a:ext cx="1620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292400" y="59007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1292400" y="5882760"/>
                <a:ext cx="20520" cy="176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312920" y="58831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1312920" y="5867280"/>
                <a:ext cx="2052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333440" y="58672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1333440" y="5851440"/>
                <a:ext cx="2556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359000" y="58514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1359000" y="5834160"/>
                <a:ext cx="23760" cy="172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382760" y="58341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1382760" y="5822640"/>
                <a:ext cx="28440" cy="111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411200" y="58230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V="1">
                <a:off x="1411200" y="5807160"/>
                <a:ext cx="30240" cy="158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441440" y="58071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1441440" y="5794200"/>
                <a:ext cx="28440" cy="129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469880" y="57942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>
                <a:off x="1469880" y="5781240"/>
                <a:ext cx="3204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501920" y="57816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1501920" y="5768640"/>
                <a:ext cx="3312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35040" y="57690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1535040" y="5757480"/>
                <a:ext cx="3348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568520" y="57578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1568520" y="5749920"/>
                <a:ext cx="3636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604880" y="57499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1604880" y="5736960"/>
                <a:ext cx="3672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641600" y="5737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1641600" y="5729400"/>
                <a:ext cx="3780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679400" y="57294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V="1">
                <a:off x="1679400" y="5721480"/>
                <a:ext cx="3672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716120" y="57214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1716120" y="5711400"/>
                <a:ext cx="41400" cy="97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757520" y="57117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1757520" y="5703840"/>
                <a:ext cx="4104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798560" y="57038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1798560" y="5700240"/>
                <a:ext cx="3960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838160" y="57006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1838160" y="5692680"/>
                <a:ext cx="4608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884240" y="56926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V="1">
                <a:off x="1884240" y="5687640"/>
                <a:ext cx="4140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925640" y="56880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925640" y="5688000"/>
                <a:ext cx="442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969920" y="56880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1969920" y="5682960"/>
                <a:ext cx="4608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016000" y="56833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016000" y="5683320"/>
                <a:ext cx="446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060640" y="5683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2060640" y="5679720"/>
                <a:ext cx="4428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104920" y="56800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104920" y="56800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104920" y="56800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104920" y="5680080"/>
                <a:ext cx="4932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154240" y="5683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154240" y="5683320"/>
                <a:ext cx="460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200320" y="5683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200320" y="5683320"/>
                <a:ext cx="4428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244600" y="56880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244600" y="5688000"/>
                <a:ext cx="460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290680" y="56880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290680" y="5688000"/>
                <a:ext cx="4140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332080" y="56926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332080" y="5692680"/>
                <a:ext cx="4428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376360" y="57006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376360" y="5700600"/>
                <a:ext cx="4140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417760" y="57038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417760" y="5703840"/>
                <a:ext cx="4140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459160" y="57117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459160" y="5711760"/>
                <a:ext cx="41040" cy="97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500200" y="57214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500200" y="5721480"/>
                <a:ext cx="3672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536920" y="57294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536920" y="5729400"/>
                <a:ext cx="3636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573280" y="57373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573280" y="5737320"/>
                <a:ext cx="3672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610000" y="57499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610000" y="5749920"/>
                <a:ext cx="3780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647800" y="57578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647800" y="5757840"/>
                <a:ext cx="3204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679840" y="57690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679840" y="5769000"/>
                <a:ext cx="3312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712960" y="57816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712960" y="5781600"/>
                <a:ext cx="334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746440" y="57942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746440" y="5794200"/>
                <a:ext cx="28440" cy="129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774880" y="58071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774880" y="5807160"/>
                <a:ext cx="28800" cy="158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803680" y="58230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803680" y="5823000"/>
                <a:ext cx="28440" cy="111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832120" y="58341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832120" y="5834160"/>
                <a:ext cx="25560" cy="172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857680" y="58514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857680" y="5851440"/>
                <a:ext cx="2052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878200" y="58672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878200" y="5867280"/>
                <a:ext cx="2376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901960" y="58831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901960" y="5883120"/>
                <a:ext cx="20520" cy="176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922480" y="59007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922480" y="5900760"/>
                <a:ext cx="1584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938320" y="59166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938320" y="5916600"/>
                <a:ext cx="1764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955960" y="59324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955960" y="5932440"/>
                <a:ext cx="1584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971800" y="59482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971800" y="5948280"/>
                <a:ext cx="12600" cy="208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984400" y="59691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984400" y="5969160"/>
                <a:ext cx="7920" cy="158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992320" y="59850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992320" y="5985000"/>
                <a:ext cx="7920" cy="2052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000240" y="60055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000240" y="6005520"/>
                <a:ext cx="5040" cy="205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005280" y="60260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005280" y="6026040"/>
                <a:ext cx="2880" cy="1584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08160" y="60418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08160" y="6041880"/>
                <a:ext cx="5040" cy="2088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13200" y="60627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649520" y="5838840"/>
                <a:ext cx="164880" cy="52200"/>
              </a:xfrm>
              <a:custGeom>
                <a:avLst/>
                <a:gdLst/>
                <a:ahLst/>
                <a:rect l="l" t="t" r="r" b="b"/>
                <a:pathLst>
                  <a:path w="104" h="33">
                    <a:moveTo>
                      <a:pt x="104" y="15"/>
                    </a:moveTo>
                    <a:lnTo>
                      <a:pt x="104" y="21"/>
                    </a:lnTo>
                    <a:lnTo>
                      <a:pt x="101" y="23"/>
                    </a:lnTo>
                    <a:lnTo>
                      <a:pt x="96" y="26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3" y="31"/>
                    </a:lnTo>
                    <a:lnTo>
                      <a:pt x="62" y="31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42" y="31"/>
                    </a:lnTo>
                    <a:lnTo>
                      <a:pt x="31" y="31"/>
                    </a:lnTo>
                    <a:lnTo>
                      <a:pt x="24" y="28"/>
                    </a:lnTo>
                    <a:lnTo>
                      <a:pt x="13" y="28"/>
                    </a:lnTo>
                    <a:lnTo>
                      <a:pt x="8" y="26"/>
                    </a:lnTo>
                    <a:lnTo>
                      <a:pt x="3" y="2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3" y="10"/>
                    </a:lnTo>
                    <a:lnTo>
                      <a:pt x="8" y="8"/>
                    </a:lnTo>
                    <a:lnTo>
                      <a:pt x="13" y="5"/>
                    </a:lnTo>
                    <a:lnTo>
                      <a:pt x="24" y="3"/>
                    </a:lnTo>
                    <a:lnTo>
                      <a:pt x="31" y="3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8" y="5"/>
                    </a:lnTo>
                    <a:lnTo>
                      <a:pt x="96" y="8"/>
                    </a:lnTo>
                    <a:lnTo>
                      <a:pt x="101" y="10"/>
                    </a:lnTo>
                    <a:lnTo>
                      <a:pt x="104" y="13"/>
                    </a:lnTo>
                    <a:lnTo>
                      <a:pt x="104" y="15"/>
                    </a:lnTo>
                    <a:close/>
                  </a:path>
                </a:pathLst>
              </a:custGeom>
              <a:solidFill>
                <a:srgbClr val="e34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838160" y="5888160"/>
                <a:ext cx="1800" cy="792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838160" y="589608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1835280" y="5896080"/>
                <a:ext cx="2880" cy="4680"/>
              </a:xfrm>
              <a:prstGeom prst="line">
                <a:avLst/>
              </a:prstGeom>
              <a:ln w="745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835280" y="590076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1827360" y="5900760"/>
                <a:ext cx="7920" cy="324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827360" y="590400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1814400" y="5904000"/>
                <a:ext cx="12960" cy="4680"/>
              </a:xfrm>
              <a:prstGeom prst="line">
                <a:avLst/>
              </a:prstGeom>
              <a:ln w="651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814400" y="590868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1801440" y="5908680"/>
                <a:ext cx="126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801800" y="590868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1788840" y="5908680"/>
                <a:ext cx="12600" cy="3240"/>
              </a:xfrm>
              <a:prstGeom prst="line">
                <a:avLst/>
              </a:prstGeom>
              <a:ln w="651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789200" y="591192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1773360" y="5911920"/>
                <a:ext cx="158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773360" y="591192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1757520" y="5911920"/>
                <a:ext cx="15840" cy="4680"/>
              </a:xfrm>
              <a:prstGeom prst="line">
                <a:avLst/>
              </a:prstGeom>
              <a:ln w="619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757520" y="591660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57520" y="591660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757520" y="591660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 flipV="1">
                <a:off x="1739520" y="5911560"/>
                <a:ext cx="17640" cy="4680"/>
              </a:xfrm>
              <a:prstGeom prst="line">
                <a:avLst/>
              </a:prstGeom>
              <a:ln w="619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739880" y="591192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724040" y="5911920"/>
                <a:ext cx="158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724040" y="591192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 flipV="1">
                <a:off x="1711080" y="5908320"/>
                <a:ext cx="12600" cy="3240"/>
              </a:xfrm>
              <a:prstGeom prst="line">
                <a:avLst/>
              </a:prstGeom>
              <a:ln w="651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11440" y="590868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1695600" y="5908680"/>
                <a:ext cx="158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695600" y="590868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 flipV="1">
                <a:off x="1687680" y="5903640"/>
                <a:ext cx="7920" cy="468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687680" y="590400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 flipV="1">
                <a:off x="1679040" y="5900400"/>
                <a:ext cx="8280" cy="324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679400" y="590076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 flipV="1">
                <a:off x="1674360" y="5895720"/>
                <a:ext cx="4680" cy="4680"/>
              </a:xfrm>
              <a:prstGeom prst="line">
                <a:avLst/>
              </a:prstGeom>
              <a:ln w="745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674720" y="589608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1674720" y="5888160"/>
                <a:ext cx="1800" cy="792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674720" y="588816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674720" y="588816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674720" y="588816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1674720" y="5883120"/>
                <a:ext cx="1800" cy="50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674720" y="5883120"/>
                <a:ext cx="180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V="1">
                <a:off x="1674720" y="5880240"/>
                <a:ext cx="4680" cy="2880"/>
              </a:xfrm>
              <a:prstGeom prst="line">
                <a:avLst/>
              </a:prstGeom>
              <a:ln w="745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679400" y="588024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V="1">
                <a:off x="1679400" y="5875200"/>
                <a:ext cx="8280" cy="504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687680" y="587520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V="1">
                <a:off x="1687680" y="5872320"/>
                <a:ext cx="7920" cy="288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695600" y="587232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1695600" y="5867280"/>
                <a:ext cx="15840" cy="5040"/>
              </a:xfrm>
              <a:prstGeom prst="line">
                <a:avLst/>
              </a:prstGeom>
              <a:ln w="619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711440" y="586728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711440" y="5867280"/>
                <a:ext cx="1260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724040" y="586728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V="1">
                <a:off x="1724040" y="5862240"/>
                <a:ext cx="15840" cy="4680"/>
              </a:xfrm>
              <a:prstGeom prst="line">
                <a:avLst/>
              </a:prstGeom>
              <a:ln w="619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739880" y="586260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739880" y="5862600"/>
                <a:ext cx="176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757520" y="586260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757520" y="586260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757520" y="586260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757520" y="5862600"/>
                <a:ext cx="158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773360" y="586260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773360" y="5862600"/>
                <a:ext cx="15840" cy="4680"/>
              </a:xfrm>
              <a:prstGeom prst="line">
                <a:avLst/>
              </a:prstGeom>
              <a:ln w="619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789200" y="586728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789200" y="5867280"/>
                <a:ext cx="1260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801800" y="586728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801800" y="5867280"/>
                <a:ext cx="12600" cy="5040"/>
              </a:xfrm>
              <a:prstGeom prst="line">
                <a:avLst/>
              </a:prstGeom>
              <a:ln w="651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814400" y="587232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814400" y="5872320"/>
                <a:ext cx="12960" cy="2880"/>
              </a:xfrm>
              <a:prstGeom prst="line">
                <a:avLst/>
              </a:prstGeom>
              <a:ln w="651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7360" y="587520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827360" y="5875200"/>
                <a:ext cx="7920" cy="504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835280" y="588024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835280" y="5880240"/>
                <a:ext cx="2880" cy="2880"/>
              </a:xfrm>
              <a:prstGeom prst="line">
                <a:avLst/>
              </a:prstGeom>
              <a:ln w="745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838160" y="5883120"/>
                <a:ext cx="180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838160" y="5883120"/>
                <a:ext cx="1800" cy="50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838160" y="588816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998720" y="5958000"/>
                <a:ext cx="168120" cy="47520"/>
              </a:xfrm>
              <a:custGeom>
                <a:avLst/>
                <a:gdLst/>
                <a:ahLst/>
                <a:rect l="l" t="t" r="r" b="b"/>
                <a:pathLst>
                  <a:path w="106" h="30">
                    <a:moveTo>
                      <a:pt x="106" y="15"/>
                    </a:moveTo>
                    <a:lnTo>
                      <a:pt x="104" y="17"/>
                    </a:lnTo>
                    <a:lnTo>
                      <a:pt x="101" y="20"/>
                    </a:lnTo>
                    <a:lnTo>
                      <a:pt x="96" y="23"/>
                    </a:lnTo>
                    <a:lnTo>
                      <a:pt x="91" y="25"/>
                    </a:lnTo>
                    <a:lnTo>
                      <a:pt x="83" y="28"/>
                    </a:lnTo>
                    <a:lnTo>
                      <a:pt x="73" y="30"/>
                    </a:lnTo>
                    <a:lnTo>
                      <a:pt x="65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42" y="30"/>
                    </a:lnTo>
                    <a:lnTo>
                      <a:pt x="34" y="30"/>
                    </a:lnTo>
                    <a:lnTo>
                      <a:pt x="23" y="28"/>
                    </a:lnTo>
                    <a:lnTo>
                      <a:pt x="16" y="25"/>
                    </a:lnTo>
                    <a:lnTo>
                      <a:pt x="11" y="23"/>
                    </a:lnTo>
                    <a:lnTo>
                      <a:pt x="5" y="20"/>
                    </a:lnTo>
                    <a:lnTo>
                      <a:pt x="3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3" y="12"/>
                    </a:lnTo>
                    <a:lnTo>
                      <a:pt x="5" y="10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23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65" y="0"/>
                    </a:lnTo>
                    <a:lnTo>
                      <a:pt x="73" y="0"/>
                    </a:lnTo>
                    <a:lnTo>
                      <a:pt x="83" y="2"/>
                    </a:lnTo>
                    <a:lnTo>
                      <a:pt x="91" y="5"/>
                    </a:lnTo>
                    <a:lnTo>
                      <a:pt x="96" y="5"/>
                    </a:lnTo>
                    <a:lnTo>
                      <a:pt x="101" y="10"/>
                    </a:lnTo>
                    <a:lnTo>
                      <a:pt x="104" y="12"/>
                    </a:lnTo>
                    <a:lnTo>
                      <a:pt x="106" y="15"/>
                    </a:lnTo>
                    <a:close/>
                  </a:path>
                </a:pathLst>
              </a:custGeom>
              <a:solidFill>
                <a:srgbClr val="48a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2187360" y="6005520"/>
                <a:ext cx="4680" cy="4680"/>
              </a:xfrm>
              <a:prstGeom prst="line">
                <a:avLst/>
              </a:prstGeom>
              <a:ln w="745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187720" y="601020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1596960" y="5807160"/>
              <a:ext cx="946080" cy="376200"/>
              <a:chOff x="1596960" y="5807160"/>
              <a:chExt cx="946080" cy="376200"/>
            </a:xfrm>
          </p:grpSpPr>
          <p:sp>
            <p:nvSpPr>
              <p:cNvPr id="1106" name=""/>
              <p:cNvSpPr/>
              <p:nvPr/>
            </p:nvSpPr>
            <p:spPr>
              <a:xfrm flipH="1">
                <a:off x="2184120" y="6010200"/>
                <a:ext cx="3240" cy="3240"/>
              </a:xfrm>
              <a:prstGeom prst="line">
                <a:avLst/>
              </a:prstGeom>
              <a:ln w="745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184480" y="601344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>
                <a:off x="2174400" y="6013440"/>
                <a:ext cx="9720" cy="468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174760" y="6018120"/>
                <a:ext cx="1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2166840" y="6018120"/>
                <a:ext cx="7920" cy="468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166840" y="6022800"/>
                <a:ext cx="1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>
                <a:off x="2153880" y="6022800"/>
                <a:ext cx="12600" cy="3240"/>
              </a:xfrm>
              <a:prstGeom prst="line">
                <a:avLst/>
              </a:prstGeom>
              <a:ln w="651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154240" y="602604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2138400" y="6026040"/>
                <a:ext cx="15840" cy="5040"/>
              </a:xfrm>
              <a:prstGeom prst="line">
                <a:avLst/>
              </a:prstGeom>
              <a:ln w="619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138400" y="603108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>
                <a:off x="2125440" y="6031080"/>
                <a:ext cx="126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125800" y="603108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2104920" y="6031080"/>
                <a:ext cx="2088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104920" y="603108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104920" y="603108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104920" y="603108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2089080" y="6031080"/>
                <a:ext cx="158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089080" y="603108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>
                <a:off x="2076120" y="6031080"/>
                <a:ext cx="126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076480" y="603108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 flipV="1">
                <a:off x="2060640" y="6026040"/>
                <a:ext cx="15840" cy="5040"/>
              </a:xfrm>
              <a:prstGeom prst="line">
                <a:avLst/>
              </a:prstGeom>
              <a:ln w="619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060640" y="602604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 flipV="1">
                <a:off x="2047680" y="6022440"/>
                <a:ext cx="12600" cy="3240"/>
              </a:xfrm>
              <a:prstGeom prst="line">
                <a:avLst/>
              </a:prstGeom>
              <a:ln w="651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048040" y="602280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H="1" flipV="1">
                <a:off x="2039400" y="6017760"/>
                <a:ext cx="8280" cy="468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039760" y="6018120"/>
                <a:ext cx="1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 flipV="1">
                <a:off x="2031840" y="6013080"/>
                <a:ext cx="7920" cy="468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031840" y="601344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 flipV="1">
                <a:off x="2026800" y="6009840"/>
                <a:ext cx="4680" cy="3240"/>
              </a:xfrm>
              <a:prstGeom prst="line">
                <a:avLst/>
              </a:prstGeom>
              <a:ln w="745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027160" y="6010200"/>
                <a:ext cx="1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 flipV="1">
                <a:off x="2023560" y="6005160"/>
                <a:ext cx="3240" cy="4680"/>
              </a:xfrm>
              <a:prstGeom prst="line">
                <a:avLst/>
              </a:prstGeom>
              <a:ln w="745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023920" y="600552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023920" y="600552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023920" y="600552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2023920" y="6001920"/>
                <a:ext cx="3240" cy="3240"/>
              </a:xfrm>
              <a:prstGeom prst="line">
                <a:avLst/>
              </a:prstGeom>
              <a:ln w="745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027160" y="6002280"/>
                <a:ext cx="1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2027160" y="5997240"/>
                <a:ext cx="4680" cy="4680"/>
              </a:xfrm>
              <a:prstGeom prst="line">
                <a:avLst/>
              </a:prstGeom>
              <a:ln w="745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031840" y="599760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V="1">
                <a:off x="2031840" y="5989680"/>
                <a:ext cx="7920" cy="7920"/>
              </a:xfrm>
              <a:prstGeom prst="line">
                <a:avLst/>
              </a:prstGeom>
              <a:ln w="745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039760" y="598968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2039760" y="5989680"/>
                <a:ext cx="828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2048040" y="598968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2048040" y="5984640"/>
                <a:ext cx="12600" cy="4680"/>
              </a:xfrm>
              <a:prstGeom prst="line">
                <a:avLst/>
              </a:prstGeom>
              <a:ln w="651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060640" y="598500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>
                <a:off x="2060640" y="5981400"/>
                <a:ext cx="15840" cy="3240"/>
              </a:xfrm>
              <a:prstGeom prst="line">
                <a:avLst/>
              </a:prstGeom>
              <a:ln w="619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076480" y="598176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076480" y="5981760"/>
                <a:ext cx="126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089080" y="598176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089080" y="5981760"/>
                <a:ext cx="158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104920" y="598176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104920" y="598176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104920" y="598176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104920" y="5981760"/>
                <a:ext cx="2088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125800" y="598176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125800" y="5981760"/>
                <a:ext cx="126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138400" y="598176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138400" y="5981760"/>
                <a:ext cx="15840" cy="3240"/>
              </a:xfrm>
              <a:prstGeom prst="line">
                <a:avLst/>
              </a:prstGeom>
              <a:ln w="619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154240" y="598500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154240" y="5985000"/>
                <a:ext cx="12600" cy="4680"/>
              </a:xfrm>
              <a:prstGeom prst="line">
                <a:avLst/>
              </a:prstGeom>
              <a:ln w="651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166840" y="598968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166840" y="5989680"/>
                <a:ext cx="792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174760" y="598968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174760" y="5989680"/>
                <a:ext cx="9720" cy="7920"/>
              </a:xfrm>
              <a:prstGeom prst="line">
                <a:avLst/>
              </a:prstGeom>
              <a:ln w="745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184480" y="599760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184480" y="5997600"/>
                <a:ext cx="3240" cy="4680"/>
              </a:xfrm>
              <a:prstGeom prst="line">
                <a:avLst/>
              </a:prstGeom>
              <a:ln w="745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187720" y="600228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187720" y="6002280"/>
                <a:ext cx="4680" cy="3240"/>
              </a:xfrm>
              <a:prstGeom prst="line">
                <a:avLst/>
              </a:prstGeom>
              <a:ln w="745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2192400" y="600552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352600" y="5807160"/>
                <a:ext cx="163440" cy="47520"/>
              </a:xfrm>
              <a:custGeom>
                <a:avLst/>
                <a:gdLst/>
                <a:ahLst/>
                <a:rect l="l" t="t" r="r" b="b"/>
                <a:pathLst>
                  <a:path w="103" h="30">
                    <a:moveTo>
                      <a:pt x="103" y="15"/>
                    </a:moveTo>
                    <a:lnTo>
                      <a:pt x="103" y="17"/>
                    </a:lnTo>
                    <a:lnTo>
                      <a:pt x="100" y="23"/>
                    </a:lnTo>
                    <a:lnTo>
                      <a:pt x="95" y="25"/>
                    </a:lnTo>
                    <a:lnTo>
                      <a:pt x="87" y="28"/>
                    </a:lnTo>
                    <a:lnTo>
                      <a:pt x="80" y="28"/>
                    </a:lnTo>
                    <a:lnTo>
                      <a:pt x="72" y="30"/>
                    </a:lnTo>
                    <a:lnTo>
                      <a:pt x="62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41" y="30"/>
                    </a:lnTo>
                    <a:lnTo>
                      <a:pt x="31" y="30"/>
                    </a:lnTo>
                    <a:lnTo>
                      <a:pt x="23" y="28"/>
                    </a:lnTo>
                    <a:lnTo>
                      <a:pt x="15" y="28"/>
                    </a:lnTo>
                    <a:lnTo>
                      <a:pt x="7" y="25"/>
                    </a:lnTo>
                    <a:lnTo>
                      <a:pt x="2" y="23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15" y="5"/>
                    </a:lnTo>
                    <a:lnTo>
                      <a:pt x="23" y="2"/>
                    </a:lnTo>
                    <a:lnTo>
                      <a:pt x="31" y="2"/>
                    </a:lnTo>
                    <a:lnTo>
                      <a:pt x="4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62" y="0"/>
                    </a:lnTo>
                    <a:lnTo>
                      <a:pt x="72" y="2"/>
                    </a:lnTo>
                    <a:lnTo>
                      <a:pt x="80" y="2"/>
                    </a:lnTo>
                    <a:lnTo>
                      <a:pt x="87" y="5"/>
                    </a:lnTo>
                    <a:lnTo>
                      <a:pt x="95" y="7"/>
                    </a:lnTo>
                    <a:lnTo>
                      <a:pt x="100" y="10"/>
                    </a:lnTo>
                    <a:lnTo>
                      <a:pt x="103" y="12"/>
                    </a:lnTo>
                    <a:lnTo>
                      <a:pt x="103" y="15"/>
                    </a:lnTo>
                    <a:close/>
                  </a:path>
                </a:pathLst>
              </a:custGeom>
              <a:solidFill>
                <a:srgbClr val="48a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541600" y="5854680"/>
                <a:ext cx="1440" cy="468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541600" y="585936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2536560" y="5859360"/>
                <a:ext cx="4680" cy="792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536920" y="586728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2529000" y="5867280"/>
                <a:ext cx="7920" cy="504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529000" y="587232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>
                <a:off x="2516040" y="5872320"/>
                <a:ext cx="12960" cy="2880"/>
              </a:xfrm>
              <a:prstGeom prst="line">
                <a:avLst/>
              </a:prstGeom>
              <a:ln w="651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516040" y="5875200"/>
                <a:ext cx="1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2503080" y="5875200"/>
                <a:ext cx="126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503440" y="5875200"/>
                <a:ext cx="1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2490480" y="5875200"/>
                <a:ext cx="12600" cy="5040"/>
              </a:xfrm>
              <a:prstGeom prst="line">
                <a:avLst/>
              </a:prstGeom>
              <a:ln w="651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490840" y="588024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2475000" y="5880240"/>
                <a:ext cx="158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475000" y="588024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>
                <a:off x="2459160" y="5880240"/>
                <a:ext cx="158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459160" y="588024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459160" y="588024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459160" y="588024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>
                <a:off x="2441160" y="5880240"/>
                <a:ext cx="176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2441520" y="588024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2425680" y="5880240"/>
                <a:ext cx="158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425680" y="588024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 flipV="1">
                <a:off x="2412720" y="5875200"/>
                <a:ext cx="12600" cy="5040"/>
              </a:xfrm>
              <a:prstGeom prst="line">
                <a:avLst/>
              </a:prstGeom>
              <a:ln w="651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413080" y="587520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>
                <a:off x="2401560" y="5875200"/>
                <a:ext cx="1116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401920" y="587520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 flipV="1">
                <a:off x="2388960" y="5872320"/>
                <a:ext cx="12600" cy="2880"/>
              </a:xfrm>
              <a:prstGeom prst="line">
                <a:avLst/>
              </a:prstGeom>
              <a:ln w="651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389320" y="587232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 flipV="1">
                <a:off x="2381400" y="5867280"/>
                <a:ext cx="7920" cy="504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381400" y="586728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 flipV="1">
                <a:off x="2376360" y="5859360"/>
                <a:ext cx="5040" cy="792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376360" y="5859360"/>
                <a:ext cx="1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2376360" y="5854320"/>
                <a:ext cx="1800" cy="468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76360" y="585468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376360" y="585468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376360" y="585468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2376360" y="5851080"/>
                <a:ext cx="1800" cy="32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376360" y="5851440"/>
                <a:ext cx="1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V="1">
                <a:off x="2376360" y="5846400"/>
                <a:ext cx="5040" cy="4680"/>
              </a:xfrm>
              <a:prstGeom prst="line">
                <a:avLst/>
              </a:prstGeom>
              <a:ln w="745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381400" y="584676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V="1">
                <a:off x="2381400" y="5843160"/>
                <a:ext cx="7920" cy="324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389320" y="584352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V="1">
                <a:off x="2389320" y="5838480"/>
                <a:ext cx="12600" cy="4680"/>
              </a:xfrm>
              <a:prstGeom prst="line">
                <a:avLst/>
              </a:prstGeom>
              <a:ln w="651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401920" y="583884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V="1">
                <a:off x="2401920" y="5833800"/>
                <a:ext cx="11160" cy="4680"/>
              </a:xfrm>
              <a:prstGeom prst="line">
                <a:avLst/>
              </a:prstGeom>
              <a:ln w="651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413080" y="583416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413080" y="5834160"/>
                <a:ext cx="126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425680" y="583416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V="1">
                <a:off x="2425680" y="5830560"/>
                <a:ext cx="15840" cy="3240"/>
              </a:xfrm>
              <a:prstGeom prst="line">
                <a:avLst/>
              </a:prstGeom>
              <a:ln w="619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441520" y="583092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441520" y="5830920"/>
                <a:ext cx="176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459160" y="583092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459160" y="583092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459160" y="583092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459160" y="5830920"/>
                <a:ext cx="158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475000" y="583092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475000" y="5830920"/>
                <a:ext cx="15840" cy="3240"/>
              </a:xfrm>
              <a:prstGeom prst="line">
                <a:avLst/>
              </a:prstGeom>
              <a:ln w="619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490840" y="583416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490840" y="5834160"/>
                <a:ext cx="126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503440" y="583416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503440" y="5834160"/>
                <a:ext cx="12600" cy="4680"/>
              </a:xfrm>
              <a:prstGeom prst="line">
                <a:avLst/>
              </a:prstGeom>
              <a:ln w="651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516040" y="583884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516040" y="5838840"/>
                <a:ext cx="12960" cy="4680"/>
              </a:xfrm>
              <a:prstGeom prst="line">
                <a:avLst/>
              </a:prstGeom>
              <a:ln w="651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529000" y="584352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529000" y="5843520"/>
                <a:ext cx="7920" cy="324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536920" y="584676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536920" y="5846760"/>
                <a:ext cx="4680" cy="4680"/>
              </a:xfrm>
              <a:prstGeom prst="line">
                <a:avLst/>
              </a:prstGeom>
              <a:ln w="745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541600" y="585144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541600" y="5851440"/>
                <a:ext cx="1440" cy="32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541600" y="585468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596960" y="6103800"/>
                <a:ext cx="168480" cy="52560"/>
              </a:xfrm>
              <a:custGeom>
                <a:avLst/>
                <a:gdLst/>
                <a:ahLst/>
                <a:rect l="l" t="t" r="r" b="b"/>
                <a:pathLst>
                  <a:path w="106" h="33">
                    <a:moveTo>
                      <a:pt x="106" y="18"/>
                    </a:moveTo>
                    <a:lnTo>
                      <a:pt x="106" y="21"/>
                    </a:lnTo>
                    <a:lnTo>
                      <a:pt x="101" y="23"/>
                    </a:lnTo>
                    <a:lnTo>
                      <a:pt x="98" y="26"/>
                    </a:lnTo>
                    <a:lnTo>
                      <a:pt x="90" y="28"/>
                    </a:lnTo>
                    <a:lnTo>
                      <a:pt x="83" y="31"/>
                    </a:lnTo>
                    <a:lnTo>
                      <a:pt x="75" y="31"/>
                    </a:lnTo>
                    <a:lnTo>
                      <a:pt x="64" y="33"/>
                    </a:lnTo>
                    <a:lnTo>
                      <a:pt x="54" y="33"/>
                    </a:lnTo>
                    <a:lnTo>
                      <a:pt x="54" y="33"/>
                    </a:lnTo>
                    <a:lnTo>
                      <a:pt x="44" y="33"/>
                    </a:lnTo>
                    <a:lnTo>
                      <a:pt x="33" y="31"/>
                    </a:lnTo>
                    <a:lnTo>
                      <a:pt x="23" y="31"/>
                    </a:lnTo>
                    <a:lnTo>
                      <a:pt x="15" y="28"/>
                    </a:lnTo>
                    <a:lnTo>
                      <a:pt x="10" y="26"/>
                    </a:lnTo>
                    <a:lnTo>
                      <a:pt x="5" y="23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3"/>
                    </a:lnTo>
                    <a:lnTo>
                      <a:pt x="5" y="10"/>
                    </a:lnTo>
                    <a:lnTo>
                      <a:pt x="10" y="8"/>
                    </a:lnTo>
                    <a:lnTo>
                      <a:pt x="15" y="5"/>
                    </a:lnTo>
                    <a:lnTo>
                      <a:pt x="23" y="5"/>
                    </a:lnTo>
                    <a:lnTo>
                      <a:pt x="33" y="3"/>
                    </a:lnTo>
                    <a:lnTo>
                      <a:pt x="44" y="3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64" y="3"/>
                    </a:lnTo>
                    <a:lnTo>
                      <a:pt x="75" y="3"/>
                    </a:lnTo>
                    <a:lnTo>
                      <a:pt x="83" y="5"/>
                    </a:lnTo>
                    <a:lnTo>
                      <a:pt x="90" y="5"/>
                    </a:lnTo>
                    <a:lnTo>
                      <a:pt x="98" y="8"/>
                    </a:lnTo>
                    <a:lnTo>
                      <a:pt x="101" y="10"/>
                    </a:lnTo>
                    <a:lnTo>
                      <a:pt x="106" y="13"/>
                    </a:lnTo>
                    <a:lnTo>
                      <a:pt x="106" y="18"/>
                    </a:lnTo>
                    <a:close/>
                  </a:path>
                </a:pathLst>
              </a:custGeom>
              <a:solidFill>
                <a:srgbClr val="e34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789200" y="6156360"/>
                <a:ext cx="1440" cy="468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789200" y="616104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1781280" y="6161040"/>
                <a:ext cx="7920" cy="324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781280" y="616428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1777680" y="6164280"/>
                <a:ext cx="3240" cy="4680"/>
              </a:xfrm>
              <a:prstGeom prst="line">
                <a:avLst/>
              </a:prstGeom>
              <a:ln w="745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778040" y="616896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1765080" y="6168960"/>
                <a:ext cx="12600" cy="4680"/>
              </a:xfrm>
              <a:prstGeom prst="line">
                <a:avLst/>
              </a:prstGeom>
              <a:ln w="651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765440" y="617364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1752480" y="6173640"/>
                <a:ext cx="12960" cy="3240"/>
              </a:xfrm>
              <a:prstGeom prst="line">
                <a:avLst/>
              </a:prstGeom>
              <a:ln w="651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752480" y="6176880"/>
                <a:ext cx="180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1739520" y="6176880"/>
                <a:ext cx="1260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739880" y="617688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1724040" y="6176880"/>
                <a:ext cx="15840" cy="4680"/>
              </a:xfrm>
              <a:prstGeom prst="line">
                <a:avLst/>
              </a:prstGeom>
              <a:ln w="619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724040" y="618156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>
                <a:off x="1708200" y="6181560"/>
                <a:ext cx="158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708200" y="618156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708200" y="618156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708200" y="618156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1690200" y="6181560"/>
                <a:ext cx="176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690560" y="6181560"/>
                <a:ext cx="180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 flipV="1">
                <a:off x="1674720" y="6176520"/>
                <a:ext cx="15840" cy="4680"/>
              </a:xfrm>
              <a:prstGeom prst="line">
                <a:avLst/>
              </a:prstGeom>
              <a:ln w="619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674720" y="6176880"/>
                <a:ext cx="180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H="1">
                <a:off x="1658880" y="6176880"/>
                <a:ext cx="158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658880" y="6176880"/>
                <a:ext cx="180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H="1" flipV="1">
                <a:off x="1645920" y="6173280"/>
                <a:ext cx="12600" cy="3240"/>
              </a:xfrm>
              <a:prstGeom prst="line">
                <a:avLst/>
              </a:prstGeom>
              <a:ln w="651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646280" y="617364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 flipV="1">
                <a:off x="1638360" y="6168600"/>
                <a:ext cx="7920" cy="468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638360" y="616896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 flipV="1">
                <a:off x="1628280" y="6163920"/>
                <a:ext cx="9720" cy="468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628640" y="616428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H="1" flipV="1">
                <a:off x="1625760" y="6160680"/>
                <a:ext cx="2880" cy="3240"/>
              </a:xfrm>
              <a:prstGeom prst="line">
                <a:avLst/>
              </a:prstGeom>
              <a:ln w="745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625760" y="616104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 flipV="1">
                <a:off x="1620720" y="6156000"/>
                <a:ext cx="5040" cy="4680"/>
              </a:xfrm>
              <a:prstGeom prst="line">
                <a:avLst/>
              </a:prstGeom>
              <a:ln w="745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620720" y="615636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620720" y="615636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620720" y="615636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1620720" y="6148440"/>
                <a:ext cx="5040" cy="792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625760" y="614844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V="1">
                <a:off x="1625760" y="6144840"/>
                <a:ext cx="2880" cy="3240"/>
              </a:xfrm>
              <a:prstGeom prst="line">
                <a:avLst/>
              </a:prstGeom>
              <a:ln w="745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628640" y="614520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V="1">
                <a:off x="1628640" y="6140160"/>
                <a:ext cx="9720" cy="468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638360" y="614052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1638360" y="6136920"/>
                <a:ext cx="7920" cy="324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646280" y="613728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646280" y="6137280"/>
                <a:ext cx="126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658880" y="613728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V="1">
                <a:off x="1658880" y="6132240"/>
                <a:ext cx="15840" cy="4680"/>
              </a:xfrm>
              <a:prstGeom prst="line">
                <a:avLst/>
              </a:prstGeom>
              <a:ln w="619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674720" y="613260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674720" y="6132600"/>
                <a:ext cx="158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690560" y="613260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V="1">
                <a:off x="1690560" y="6127560"/>
                <a:ext cx="17640" cy="4680"/>
              </a:xfrm>
              <a:prstGeom prst="line">
                <a:avLst/>
              </a:prstGeom>
              <a:ln w="619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708200" y="612792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708200" y="612792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708200" y="612792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708200" y="6127920"/>
                <a:ext cx="15840" cy="4680"/>
              </a:xfrm>
              <a:prstGeom prst="line">
                <a:avLst/>
              </a:prstGeom>
              <a:ln w="619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724040" y="613260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724040" y="6132600"/>
                <a:ext cx="158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739880" y="613260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739880" y="6132600"/>
                <a:ext cx="12600" cy="4680"/>
              </a:xfrm>
              <a:prstGeom prst="line">
                <a:avLst/>
              </a:prstGeom>
              <a:ln w="651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752480" y="613728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500040" y="768240"/>
              <a:ext cx="3152520" cy="5496120"/>
              <a:chOff x="500040" y="768240"/>
              <a:chExt cx="3152520" cy="5496120"/>
            </a:xfrm>
          </p:grpSpPr>
          <p:sp>
            <p:nvSpPr>
              <p:cNvPr id="1307" name=""/>
              <p:cNvSpPr/>
              <p:nvPr/>
            </p:nvSpPr>
            <p:spPr>
              <a:xfrm>
                <a:off x="1752480" y="6137280"/>
                <a:ext cx="1296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765440" y="613728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765440" y="6137280"/>
                <a:ext cx="12600" cy="3240"/>
              </a:xfrm>
              <a:prstGeom prst="line">
                <a:avLst/>
              </a:prstGeom>
              <a:ln w="651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778040" y="614052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778040" y="6140520"/>
                <a:ext cx="3240" cy="4680"/>
              </a:xfrm>
              <a:prstGeom prst="line">
                <a:avLst/>
              </a:prstGeom>
              <a:ln w="745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781280" y="614520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81280" y="6145200"/>
                <a:ext cx="7920" cy="324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89200" y="614844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789200" y="6148440"/>
                <a:ext cx="1440" cy="792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789200" y="615636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031840" y="6189840"/>
                <a:ext cx="168480" cy="48960"/>
              </a:xfrm>
              <a:custGeom>
                <a:avLst/>
                <a:gdLst/>
                <a:ahLst/>
                <a:rect l="l" t="t" r="r" b="b"/>
                <a:pathLst>
                  <a:path w="106" h="31">
                    <a:moveTo>
                      <a:pt x="106" y="15"/>
                    </a:moveTo>
                    <a:lnTo>
                      <a:pt x="106" y="18"/>
                    </a:lnTo>
                    <a:lnTo>
                      <a:pt x="101" y="20"/>
                    </a:lnTo>
                    <a:lnTo>
                      <a:pt x="96" y="23"/>
                    </a:lnTo>
                    <a:lnTo>
                      <a:pt x="90" y="26"/>
                    </a:lnTo>
                    <a:lnTo>
                      <a:pt x="83" y="28"/>
                    </a:lnTo>
                    <a:lnTo>
                      <a:pt x="75" y="31"/>
                    </a:lnTo>
                    <a:lnTo>
                      <a:pt x="65" y="31"/>
                    </a:lnTo>
                    <a:lnTo>
                      <a:pt x="54" y="31"/>
                    </a:lnTo>
                    <a:lnTo>
                      <a:pt x="54" y="31"/>
                    </a:lnTo>
                    <a:lnTo>
                      <a:pt x="44" y="31"/>
                    </a:lnTo>
                    <a:lnTo>
                      <a:pt x="33" y="31"/>
                    </a:lnTo>
                    <a:lnTo>
                      <a:pt x="23" y="28"/>
                    </a:lnTo>
                    <a:lnTo>
                      <a:pt x="15" y="26"/>
                    </a:lnTo>
                    <a:lnTo>
                      <a:pt x="10" y="23"/>
                    </a:lnTo>
                    <a:lnTo>
                      <a:pt x="5" y="20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5" y="10"/>
                    </a:lnTo>
                    <a:lnTo>
                      <a:pt x="10" y="8"/>
                    </a:lnTo>
                    <a:lnTo>
                      <a:pt x="15" y="5"/>
                    </a:lnTo>
                    <a:lnTo>
                      <a:pt x="23" y="2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65" y="0"/>
                    </a:lnTo>
                    <a:lnTo>
                      <a:pt x="75" y="0"/>
                    </a:lnTo>
                    <a:lnTo>
                      <a:pt x="83" y="2"/>
                    </a:lnTo>
                    <a:lnTo>
                      <a:pt x="90" y="5"/>
                    </a:lnTo>
                    <a:lnTo>
                      <a:pt x="96" y="8"/>
                    </a:lnTo>
                    <a:lnTo>
                      <a:pt x="101" y="10"/>
                    </a:lnTo>
                    <a:lnTo>
                      <a:pt x="106" y="13"/>
                    </a:lnTo>
                    <a:lnTo>
                      <a:pt x="106" y="15"/>
                    </a:lnTo>
                    <a:close/>
                  </a:path>
                </a:pathLst>
              </a:custGeom>
              <a:solidFill>
                <a:srgbClr val="48a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224080" y="6238800"/>
                <a:ext cx="1440" cy="32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224080" y="624204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2216160" y="6242040"/>
                <a:ext cx="7920" cy="468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216160" y="624672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2208240" y="6246720"/>
                <a:ext cx="7920" cy="324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208240" y="624996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2200320" y="6249960"/>
                <a:ext cx="7920" cy="468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200320" y="625464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2187360" y="6254640"/>
                <a:ext cx="12600" cy="5040"/>
              </a:xfrm>
              <a:prstGeom prst="line">
                <a:avLst/>
              </a:prstGeom>
              <a:ln w="651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187720" y="625968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>
                <a:off x="2174760" y="6259680"/>
                <a:ext cx="12960" cy="2880"/>
              </a:xfrm>
              <a:prstGeom prst="line">
                <a:avLst/>
              </a:prstGeom>
              <a:ln w="651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174760" y="6262560"/>
                <a:ext cx="1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>
                <a:off x="2158920" y="6262560"/>
                <a:ext cx="158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158920" y="6262560"/>
                <a:ext cx="1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>
                <a:off x="2143080" y="6262560"/>
                <a:ext cx="158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143080" y="6262560"/>
                <a:ext cx="1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143080" y="6262560"/>
                <a:ext cx="1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143080" y="6262560"/>
                <a:ext cx="1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>
                <a:off x="2125800" y="6262560"/>
                <a:ext cx="1728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125800" y="626256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2109960" y="6262560"/>
                <a:ext cx="158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109960" y="626256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 flipV="1">
                <a:off x="2093400" y="6259680"/>
                <a:ext cx="16200" cy="2880"/>
              </a:xfrm>
              <a:prstGeom prst="line">
                <a:avLst/>
              </a:prstGeom>
              <a:ln w="619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093760" y="625968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 flipV="1">
                <a:off x="2080800" y="6254640"/>
                <a:ext cx="12600" cy="5040"/>
              </a:xfrm>
              <a:prstGeom prst="line">
                <a:avLst/>
              </a:prstGeom>
              <a:ln w="651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2081160" y="6254640"/>
                <a:ext cx="1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 flipV="1">
                <a:off x="2073240" y="6249600"/>
                <a:ext cx="7920" cy="468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073240" y="624996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 flipV="1">
                <a:off x="2065320" y="6246360"/>
                <a:ext cx="7920" cy="324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065320" y="624672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 flipV="1">
                <a:off x="2060280" y="6241680"/>
                <a:ext cx="4680" cy="4680"/>
              </a:xfrm>
              <a:prstGeom prst="line">
                <a:avLst/>
              </a:prstGeom>
              <a:ln w="745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060640" y="624204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 flipV="1">
                <a:off x="2055600" y="6238440"/>
                <a:ext cx="4680" cy="3240"/>
              </a:xfrm>
              <a:prstGeom prst="line">
                <a:avLst/>
              </a:prstGeom>
              <a:ln w="745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055960" y="623880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055960" y="623880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055960" y="623880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2055960" y="6233760"/>
                <a:ext cx="4680" cy="4680"/>
              </a:xfrm>
              <a:prstGeom prst="line">
                <a:avLst/>
              </a:prstGeom>
              <a:ln w="745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060640" y="623412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2060640" y="6230520"/>
                <a:ext cx="4680" cy="3240"/>
              </a:xfrm>
              <a:prstGeom prst="line">
                <a:avLst/>
              </a:prstGeom>
              <a:ln w="745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065320" y="623088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V="1">
                <a:off x="2065320" y="6225840"/>
                <a:ext cx="7920" cy="468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073240" y="622620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V="1">
                <a:off x="2073240" y="6221160"/>
                <a:ext cx="7920" cy="468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081160" y="622152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V="1">
                <a:off x="2081160" y="6217920"/>
                <a:ext cx="12600" cy="3240"/>
              </a:xfrm>
              <a:prstGeom prst="line">
                <a:avLst/>
              </a:prstGeom>
              <a:ln w="651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093760" y="621828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2093760" y="6213240"/>
                <a:ext cx="16200" cy="4680"/>
              </a:xfrm>
              <a:prstGeom prst="line">
                <a:avLst/>
              </a:prstGeom>
              <a:ln w="6192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109960" y="621360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109960" y="6213600"/>
                <a:ext cx="158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125800" y="621360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125800" y="6213600"/>
                <a:ext cx="1728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143080" y="621360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143080" y="621360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143080" y="621360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143080" y="6213600"/>
                <a:ext cx="158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158920" y="621360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158920" y="6213600"/>
                <a:ext cx="158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174760" y="6213600"/>
                <a:ext cx="1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174760" y="6213600"/>
                <a:ext cx="12960" cy="4680"/>
              </a:xfrm>
              <a:prstGeom prst="line">
                <a:avLst/>
              </a:prstGeom>
              <a:ln w="651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187720" y="621828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187720" y="6218280"/>
                <a:ext cx="12600" cy="3240"/>
              </a:xfrm>
              <a:prstGeom prst="line">
                <a:avLst/>
              </a:prstGeom>
              <a:ln w="651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200320" y="622152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200320" y="6221520"/>
                <a:ext cx="7920" cy="468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208240" y="622620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208240" y="6226200"/>
                <a:ext cx="7920" cy="468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216160" y="623088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216160" y="6230880"/>
                <a:ext cx="7920" cy="3240"/>
              </a:xfrm>
              <a:prstGeom prst="line">
                <a:avLst/>
              </a:prstGeom>
              <a:ln w="6984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224080" y="6234120"/>
                <a:ext cx="144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224080" y="6234120"/>
                <a:ext cx="1440" cy="468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224080" y="6238800"/>
                <a:ext cx="144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417760" y="6070680"/>
                <a:ext cx="168120" cy="54000"/>
              </a:xfrm>
              <a:custGeom>
                <a:avLst/>
                <a:gdLst/>
                <a:ahLst/>
                <a:rect l="l" t="t" r="r" b="b"/>
                <a:pathLst>
                  <a:path w="106" h="34">
                    <a:moveTo>
                      <a:pt x="106" y="16"/>
                    </a:moveTo>
                    <a:lnTo>
                      <a:pt x="103" y="21"/>
                    </a:lnTo>
                    <a:lnTo>
                      <a:pt x="101" y="24"/>
                    </a:lnTo>
                    <a:lnTo>
                      <a:pt x="96" y="26"/>
                    </a:lnTo>
                    <a:lnTo>
                      <a:pt x="90" y="29"/>
                    </a:lnTo>
                    <a:lnTo>
                      <a:pt x="83" y="29"/>
                    </a:lnTo>
                    <a:lnTo>
                      <a:pt x="72" y="31"/>
                    </a:lnTo>
                    <a:lnTo>
                      <a:pt x="62" y="31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41" y="31"/>
                    </a:lnTo>
                    <a:lnTo>
                      <a:pt x="31" y="31"/>
                    </a:lnTo>
                    <a:lnTo>
                      <a:pt x="23" y="29"/>
                    </a:lnTo>
                    <a:lnTo>
                      <a:pt x="15" y="29"/>
                    </a:lnTo>
                    <a:lnTo>
                      <a:pt x="8" y="26"/>
                    </a:lnTo>
                    <a:lnTo>
                      <a:pt x="5" y="24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5" y="11"/>
                    </a:lnTo>
                    <a:lnTo>
                      <a:pt x="8" y="8"/>
                    </a:lnTo>
                    <a:lnTo>
                      <a:pt x="15" y="6"/>
                    </a:lnTo>
                    <a:lnTo>
                      <a:pt x="23" y="3"/>
                    </a:lnTo>
                    <a:lnTo>
                      <a:pt x="31" y="3"/>
                    </a:lnTo>
                    <a:lnTo>
                      <a:pt x="41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2" y="3"/>
                    </a:lnTo>
                    <a:lnTo>
                      <a:pt x="83" y="3"/>
                    </a:lnTo>
                    <a:lnTo>
                      <a:pt x="90" y="6"/>
                    </a:lnTo>
                    <a:lnTo>
                      <a:pt x="96" y="8"/>
                    </a:lnTo>
                    <a:lnTo>
                      <a:pt x="101" y="11"/>
                    </a:lnTo>
                    <a:lnTo>
                      <a:pt x="103" y="13"/>
                    </a:lnTo>
                    <a:lnTo>
                      <a:pt x="106" y="16"/>
                    </a:lnTo>
                    <a:close/>
                  </a:path>
                </a:pathLst>
              </a:custGeom>
              <a:solidFill>
                <a:srgbClr val="e34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>
                <a:off x="2606400" y="6119640"/>
                <a:ext cx="3240" cy="828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606760" y="612792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>
                <a:off x="2601720" y="6127920"/>
                <a:ext cx="4680" cy="4680"/>
              </a:xfrm>
              <a:prstGeom prst="line">
                <a:avLst/>
              </a:prstGeom>
              <a:ln w="745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602080" y="613260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2593440" y="6132600"/>
                <a:ext cx="8280" cy="468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593800" y="613728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H="1">
                <a:off x="2585880" y="6137280"/>
                <a:ext cx="7920" cy="324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585880" y="614052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>
                <a:off x="2572920" y="6140520"/>
                <a:ext cx="126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573280" y="614052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>
                <a:off x="2557440" y="6140520"/>
                <a:ext cx="15840" cy="4680"/>
              </a:xfrm>
              <a:prstGeom prst="line">
                <a:avLst/>
              </a:prstGeom>
              <a:ln w="619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557440" y="614520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2541600" y="6145200"/>
                <a:ext cx="158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541600" y="614520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>
                <a:off x="2523600" y="6145200"/>
                <a:ext cx="17640" cy="3240"/>
              </a:xfrm>
              <a:prstGeom prst="line">
                <a:avLst/>
              </a:prstGeom>
              <a:ln w="619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523960" y="614844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523960" y="614844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2523960" y="614844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 flipV="1">
                <a:off x="2508120" y="6144840"/>
                <a:ext cx="15840" cy="3240"/>
              </a:xfrm>
              <a:prstGeom prst="line">
                <a:avLst/>
              </a:prstGeom>
              <a:ln w="619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508120" y="614520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2490840" y="6145200"/>
                <a:ext cx="1728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490840" y="614520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 flipV="1">
                <a:off x="2479320" y="6140160"/>
                <a:ext cx="11160" cy="4680"/>
              </a:xfrm>
              <a:prstGeom prst="line">
                <a:avLst/>
              </a:prstGeom>
              <a:ln w="651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479680" y="614052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2466720" y="6140520"/>
                <a:ext cx="126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2467080" y="614052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 flipV="1">
                <a:off x="2454120" y="6136920"/>
                <a:ext cx="12960" cy="3240"/>
              </a:xfrm>
              <a:prstGeom prst="line">
                <a:avLst/>
              </a:prstGeom>
              <a:ln w="651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2454120" y="613728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 flipV="1">
                <a:off x="2451240" y="6132240"/>
                <a:ext cx="2880" cy="4680"/>
              </a:xfrm>
              <a:prstGeom prst="line">
                <a:avLst/>
              </a:prstGeom>
              <a:ln w="745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451240" y="613260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 flipV="1">
                <a:off x="2441160" y="6127560"/>
                <a:ext cx="9720" cy="468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2441520" y="612792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V="1">
                <a:off x="2441520" y="6119280"/>
                <a:ext cx="1800" cy="828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441520" y="6119640"/>
                <a:ext cx="180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441520" y="6119640"/>
                <a:ext cx="180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441520" y="6119640"/>
                <a:ext cx="180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V="1">
                <a:off x="2441520" y="6116760"/>
                <a:ext cx="1800" cy="288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2441520" y="611676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V="1">
                <a:off x="2441520" y="6111720"/>
                <a:ext cx="9720" cy="504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451240" y="611172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V="1">
                <a:off x="2451240" y="6108840"/>
                <a:ext cx="2880" cy="2880"/>
              </a:xfrm>
              <a:prstGeom prst="line">
                <a:avLst/>
              </a:prstGeom>
              <a:ln w="745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454120" y="610884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V="1">
                <a:off x="2454120" y="6103800"/>
                <a:ext cx="12960" cy="5040"/>
              </a:xfrm>
              <a:prstGeom prst="line">
                <a:avLst/>
              </a:prstGeom>
              <a:ln w="651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467080" y="610380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V="1">
                <a:off x="2467080" y="6098760"/>
                <a:ext cx="12600" cy="4680"/>
              </a:xfrm>
              <a:prstGeom prst="line">
                <a:avLst/>
              </a:prstGeom>
              <a:ln w="651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479680" y="609912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479680" y="6099120"/>
                <a:ext cx="1116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490840" y="609912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V="1">
                <a:off x="2490840" y="6095520"/>
                <a:ext cx="17280" cy="3240"/>
              </a:xfrm>
              <a:prstGeom prst="line">
                <a:avLst/>
              </a:prstGeom>
              <a:ln w="619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508120" y="6095880"/>
                <a:ext cx="180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2508120" y="6095880"/>
                <a:ext cx="158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523960" y="6095880"/>
                <a:ext cx="180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523960" y="6095880"/>
                <a:ext cx="180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523960" y="6095880"/>
                <a:ext cx="180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523960" y="6095880"/>
                <a:ext cx="176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541600" y="609588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541600" y="6095880"/>
                <a:ext cx="15840" cy="3240"/>
              </a:xfrm>
              <a:prstGeom prst="line">
                <a:avLst/>
              </a:prstGeom>
              <a:ln w="619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557440" y="609912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557440" y="6099120"/>
                <a:ext cx="158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573280" y="6099120"/>
                <a:ext cx="180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573280" y="6099120"/>
                <a:ext cx="12600" cy="4680"/>
              </a:xfrm>
              <a:prstGeom prst="line">
                <a:avLst/>
              </a:prstGeom>
              <a:ln w="651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585880" y="6103800"/>
                <a:ext cx="180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585880" y="6103800"/>
                <a:ext cx="7920" cy="504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593800" y="6108840"/>
                <a:ext cx="1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93800" y="6108840"/>
                <a:ext cx="8280" cy="2880"/>
              </a:xfrm>
              <a:prstGeom prst="line">
                <a:avLst/>
              </a:prstGeom>
              <a:ln w="6984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602080" y="611172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602080" y="6111720"/>
                <a:ext cx="4680" cy="5040"/>
              </a:xfrm>
              <a:prstGeom prst="line">
                <a:avLst/>
              </a:prstGeom>
              <a:ln w="745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606760" y="6116760"/>
                <a:ext cx="144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606760" y="6116760"/>
                <a:ext cx="3240" cy="2880"/>
              </a:xfrm>
              <a:prstGeom prst="line">
                <a:avLst/>
              </a:prstGeom>
              <a:ln w="7452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610000" y="6119640"/>
                <a:ext cx="144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185840" y="6062760"/>
                <a:ext cx="1440" cy="1350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992320" y="6087960"/>
                <a:ext cx="1800" cy="13356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00040" y="797040"/>
                <a:ext cx="4446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00040" y="901800"/>
                <a:ext cx="4446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162080" y="768240"/>
                <a:ext cx="442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162080" y="857160"/>
                <a:ext cx="442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3649320" y="792000"/>
                <a:ext cx="3240" cy="2556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649680" y="8175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49680" y="817560"/>
                <a:ext cx="1440" cy="1908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649680" y="8366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>
                <a:off x="3644640" y="836640"/>
                <a:ext cx="468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645000" y="85716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H="1">
                <a:off x="3639960" y="857160"/>
                <a:ext cx="5040" cy="2556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639960" y="8827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3637080" y="882720"/>
                <a:ext cx="2880" cy="190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637080" y="9018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H="1">
                <a:off x="3632040" y="901800"/>
                <a:ext cx="504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632040" y="9223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H="1">
                <a:off x="3624120" y="92232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624120" y="94284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3616200" y="942840"/>
                <a:ext cx="7920" cy="2088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616200" y="9637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H="1">
                <a:off x="3608280" y="96372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608280" y="98424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H="1">
                <a:off x="3600360" y="984240"/>
                <a:ext cx="7920" cy="1584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600360" y="100008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H="1">
                <a:off x="3587400" y="1000080"/>
                <a:ext cx="12600" cy="2052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587760" y="102060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H="1">
                <a:off x="3574800" y="1020600"/>
                <a:ext cx="12600" cy="162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575160" y="10368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H="1">
                <a:off x="3562200" y="1036800"/>
                <a:ext cx="12960" cy="158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562200" y="105264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H="1">
                <a:off x="3551400" y="1052640"/>
                <a:ext cx="10800" cy="1728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551400" y="106992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H="1">
                <a:off x="3538440" y="1069920"/>
                <a:ext cx="12960" cy="158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538440" y="108576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3521160" y="1085760"/>
                <a:ext cx="1728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521160" y="110160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H="1">
                <a:off x="3505320" y="1101600"/>
                <a:ext cx="15840" cy="129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505320" y="11145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H="1">
                <a:off x="3489480" y="1114560"/>
                <a:ext cx="1584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489480" y="11304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>
                <a:off x="3471480" y="1130400"/>
                <a:ext cx="1764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471840" y="11430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>
                <a:off x="3456000" y="1143000"/>
                <a:ext cx="1584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456000" y="115560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>
                <a:off x="3440160" y="1155600"/>
                <a:ext cx="15840" cy="111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440160" y="116676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"/>
            <p:cNvGrpSpPr/>
            <p:nvPr/>
          </p:nvGrpSpPr>
          <p:grpSpPr>
            <a:xfrm>
              <a:off x="2769840" y="355320"/>
              <a:ext cx="832320" cy="878040"/>
              <a:chOff x="2769840" y="355320"/>
              <a:chExt cx="832320" cy="878040"/>
            </a:xfrm>
          </p:grpSpPr>
          <p:sp>
            <p:nvSpPr>
              <p:cNvPr id="1508" name=""/>
              <p:cNvSpPr/>
              <p:nvPr/>
            </p:nvSpPr>
            <p:spPr>
              <a:xfrm flipH="1">
                <a:off x="3419280" y="1166760"/>
                <a:ext cx="2052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419640" y="11746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3401640" y="1174680"/>
                <a:ext cx="1764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402000" y="11872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>
                <a:off x="3382560" y="1187280"/>
                <a:ext cx="19080" cy="828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382920" y="119556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3362040" y="1195560"/>
                <a:ext cx="2052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362400" y="120348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>
                <a:off x="3341520" y="1203480"/>
                <a:ext cx="20880" cy="936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341520" y="121284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3320640" y="1212840"/>
                <a:ext cx="20520" cy="324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321000" y="121608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>
                <a:off x="3300120" y="1216080"/>
                <a:ext cx="20520" cy="46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300480" y="12207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>
                <a:off x="3274560" y="1220760"/>
                <a:ext cx="25560" cy="324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274920" y="12240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>
                <a:off x="3254040" y="1224000"/>
                <a:ext cx="20520" cy="46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254400" y="12286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>
                <a:off x="3233520" y="1228680"/>
                <a:ext cx="2052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233880" y="12286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H="1">
                <a:off x="3209400" y="1228680"/>
                <a:ext cx="24120" cy="324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209760" y="12319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209760" y="12319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209760" y="12319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H="1" flipV="1">
                <a:off x="3188880" y="1228320"/>
                <a:ext cx="20520" cy="324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189240" y="122868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H="1">
                <a:off x="3165480" y="1228680"/>
                <a:ext cx="2376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165480" y="12286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H="1" flipV="1">
                <a:off x="3144600" y="1223640"/>
                <a:ext cx="20520" cy="46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144960" y="12240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H="1" flipV="1">
                <a:off x="3124080" y="1220400"/>
                <a:ext cx="20880" cy="324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124080" y="122076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H="1" flipV="1">
                <a:off x="3098880" y="1215720"/>
                <a:ext cx="25200" cy="468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098880" y="121608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H="1" flipV="1">
                <a:off x="3078000" y="1212480"/>
                <a:ext cx="20880" cy="324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078000" y="121284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 flipV="1">
                <a:off x="3057120" y="1203480"/>
                <a:ext cx="20520" cy="936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057480" y="120348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 flipV="1">
                <a:off x="3041640" y="1195560"/>
                <a:ext cx="1584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041640" y="11955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 flipV="1">
                <a:off x="3020760" y="1186920"/>
                <a:ext cx="20520" cy="828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021120" y="11872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 flipV="1">
                <a:off x="3000240" y="1174320"/>
                <a:ext cx="2088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000240" y="117468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H="1" flipV="1">
                <a:off x="2984400" y="1166760"/>
                <a:ext cx="1584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984400" y="116676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H="1" flipV="1">
                <a:off x="2963520" y="1155240"/>
                <a:ext cx="20520" cy="111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963880" y="115560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 flipV="1">
                <a:off x="2945880" y="1142640"/>
                <a:ext cx="1764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946240" y="11430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 flipV="1">
                <a:off x="2930400" y="1130040"/>
                <a:ext cx="1584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930400" y="11304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 flipV="1">
                <a:off x="2914560" y="1114560"/>
                <a:ext cx="1584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914560" y="111456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 flipV="1">
                <a:off x="2897280" y="1101600"/>
                <a:ext cx="17280" cy="129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897280" y="110160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H="1" flipV="1">
                <a:off x="2885760" y="1085760"/>
                <a:ext cx="11160" cy="158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886120" y="108576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H="1" flipV="1">
                <a:off x="2868120" y="1069920"/>
                <a:ext cx="1764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868480" y="106992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 flipV="1">
                <a:off x="2857680" y="1052640"/>
                <a:ext cx="10800" cy="1728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857680" y="10526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H="1" flipV="1">
                <a:off x="2844720" y="1036800"/>
                <a:ext cx="12960" cy="158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844720" y="10368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 flipV="1">
                <a:off x="2831760" y="1020240"/>
                <a:ext cx="12600" cy="162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832120" y="102060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 flipV="1">
                <a:off x="2824200" y="99972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824200" y="10000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 flipV="1">
                <a:off x="2811240" y="984240"/>
                <a:ext cx="12600" cy="158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811600" y="9842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 flipV="1">
                <a:off x="2803680" y="96336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803680" y="9637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 flipV="1">
                <a:off x="2795760" y="942840"/>
                <a:ext cx="7920" cy="2088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795760" y="94284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 flipV="1">
                <a:off x="2790720" y="921960"/>
                <a:ext cx="504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790720" y="9223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H="1" flipV="1">
                <a:off x="2782800" y="90144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2782800" y="9018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 flipV="1">
                <a:off x="2777760" y="882360"/>
                <a:ext cx="4680" cy="190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2778120" y="8827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 flipV="1">
                <a:off x="2774520" y="856800"/>
                <a:ext cx="3240" cy="2556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2774880" y="85716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H="1" flipV="1">
                <a:off x="2769840" y="836280"/>
                <a:ext cx="468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770200" y="8366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V="1">
                <a:off x="2770200" y="817200"/>
                <a:ext cx="1440" cy="1908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770200" y="8175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V="1">
                <a:off x="2770200" y="791640"/>
                <a:ext cx="1440" cy="2556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770200" y="79200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770200" y="79200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770200" y="79200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>
                <a:off x="2770200" y="771120"/>
                <a:ext cx="1440" cy="2052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770200" y="7714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2770200" y="747720"/>
                <a:ext cx="1440" cy="2376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2770200" y="7477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2770200" y="726840"/>
                <a:ext cx="468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2774880" y="7272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>
                <a:off x="2774880" y="706320"/>
                <a:ext cx="3240" cy="208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778120" y="70632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>
                <a:off x="2778120" y="682560"/>
                <a:ext cx="4680" cy="2376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2782800" y="68256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V="1">
                <a:off x="2782800" y="66168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790720" y="66204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flipV="1">
                <a:off x="2790720" y="641160"/>
                <a:ext cx="504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795760" y="6415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flipV="1">
                <a:off x="2795760" y="620640"/>
                <a:ext cx="7920" cy="2088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803680" y="62064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V="1">
                <a:off x="2803680" y="604800"/>
                <a:ext cx="7920" cy="1584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811600" y="60480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V="1">
                <a:off x="2811600" y="583920"/>
                <a:ext cx="12600" cy="2052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824200" y="58428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V="1">
                <a:off x="2824200" y="568440"/>
                <a:ext cx="7920" cy="1584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832120" y="5684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V="1">
                <a:off x="2832120" y="547560"/>
                <a:ext cx="12600" cy="2088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2844720" y="54756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2844720" y="531720"/>
                <a:ext cx="12960" cy="158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857680" y="53172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2857680" y="515880"/>
                <a:ext cx="10800" cy="158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868480" y="51588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2868480" y="498600"/>
                <a:ext cx="17640" cy="1728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886120" y="4986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V="1">
                <a:off x="2886120" y="482760"/>
                <a:ext cx="11160" cy="158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897280" y="4827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V="1">
                <a:off x="2897280" y="469800"/>
                <a:ext cx="17280" cy="129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914560" y="46980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V="1">
                <a:off x="2914560" y="453960"/>
                <a:ext cx="1584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930400" y="45396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2930400" y="441000"/>
                <a:ext cx="1584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946240" y="44136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V="1">
                <a:off x="2946240" y="429840"/>
                <a:ext cx="17640" cy="111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963880" y="4302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flipV="1">
                <a:off x="2963880" y="417240"/>
                <a:ext cx="2052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984400" y="4176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flipV="1">
                <a:off x="2984400" y="409680"/>
                <a:ext cx="1584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000240" y="40968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V="1">
                <a:off x="3000240" y="396720"/>
                <a:ext cx="20880" cy="129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021120" y="39672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V="1">
                <a:off x="3021120" y="388800"/>
                <a:ext cx="2052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041640" y="38880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V="1">
                <a:off x="3041640" y="380880"/>
                <a:ext cx="1584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057480" y="38088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3057480" y="375840"/>
                <a:ext cx="20520" cy="46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078000" y="37620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V="1">
                <a:off x="3078000" y="368280"/>
                <a:ext cx="2088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098880" y="36828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V="1">
                <a:off x="3098880" y="364680"/>
                <a:ext cx="25200" cy="324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124080" y="36504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V="1">
                <a:off x="3124080" y="360000"/>
                <a:ext cx="20880" cy="46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144960" y="3603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3144960" y="355320"/>
                <a:ext cx="20520" cy="46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165480" y="35568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165480" y="355680"/>
                <a:ext cx="2376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189240" y="35568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189240" y="355680"/>
                <a:ext cx="2052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209760" y="35568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209760" y="35568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209760" y="35568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209760" y="355680"/>
                <a:ext cx="2412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233880" y="35568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233880" y="355680"/>
                <a:ext cx="2052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254400" y="35568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254400" y="355680"/>
                <a:ext cx="20520" cy="46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274920" y="36036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274920" y="360360"/>
                <a:ext cx="25560" cy="468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300480" y="36504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00480" y="365040"/>
                <a:ext cx="20520" cy="324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321000" y="36828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321000" y="368280"/>
                <a:ext cx="2052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341520" y="37620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341520" y="376200"/>
                <a:ext cx="20880" cy="46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362400" y="3808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362400" y="380880"/>
                <a:ext cx="2052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382920" y="38880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3382920" y="388800"/>
                <a:ext cx="1908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402000" y="39672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402000" y="396720"/>
                <a:ext cx="17640" cy="129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419640" y="40968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3419640" y="409680"/>
                <a:ext cx="2052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440160" y="4176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440160" y="417600"/>
                <a:ext cx="1584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56000" y="4302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456000" y="430200"/>
                <a:ext cx="15840" cy="111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471840" y="4413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471840" y="441360"/>
                <a:ext cx="1764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489480" y="45396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489480" y="453960"/>
                <a:ext cx="1584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505320" y="46980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3505320" y="469800"/>
                <a:ext cx="15840" cy="129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521160" y="4827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21160" y="482760"/>
                <a:ext cx="1728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538440" y="4986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38440" y="498600"/>
                <a:ext cx="12960" cy="1728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3551400" y="5158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3551400" y="515880"/>
                <a:ext cx="10800" cy="158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562200" y="53172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3562200" y="531720"/>
                <a:ext cx="12960" cy="158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575160" y="54756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575160" y="547560"/>
                <a:ext cx="12600" cy="2088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587760" y="5684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587760" y="568440"/>
                <a:ext cx="12600" cy="158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600360" y="58428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2355480" y="189000"/>
              <a:ext cx="1298880" cy="2851200"/>
              <a:chOff x="2355480" y="189000"/>
              <a:chExt cx="1298880" cy="2851200"/>
            </a:xfrm>
          </p:grpSpPr>
          <p:sp>
            <p:nvSpPr>
              <p:cNvPr id="1709" name=""/>
              <p:cNvSpPr/>
              <p:nvPr/>
            </p:nvSpPr>
            <p:spPr>
              <a:xfrm>
                <a:off x="3600360" y="58428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608280" y="60480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608280" y="604800"/>
                <a:ext cx="7920" cy="1584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616200" y="62064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616200" y="620640"/>
                <a:ext cx="7920" cy="2088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624120" y="6415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624120" y="64152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632040" y="66204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632040" y="662040"/>
                <a:ext cx="504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637080" y="68256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637080" y="682560"/>
                <a:ext cx="2880" cy="2376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639960" y="70632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639960" y="706320"/>
                <a:ext cx="5040" cy="208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645000" y="7272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645000" y="727200"/>
                <a:ext cx="468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649680" y="7477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649680" y="747720"/>
                <a:ext cx="1440" cy="2376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649680" y="7714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649680" y="771480"/>
                <a:ext cx="324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652920" y="79200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209760" y="189000"/>
                <a:ext cx="1800" cy="31752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593800" y="2136600"/>
                <a:ext cx="44316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593800" y="2222640"/>
                <a:ext cx="44316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041640" y="2178000"/>
                <a:ext cx="2052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062160" y="219060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062160" y="2190600"/>
                <a:ext cx="20880" cy="129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083040" y="22035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083040" y="2203560"/>
                <a:ext cx="15840" cy="111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098880" y="22147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098880" y="2214720"/>
                <a:ext cx="20520" cy="1728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119400" y="22320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119400" y="2232000"/>
                <a:ext cx="1584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135240" y="224784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135240" y="2247840"/>
                <a:ext cx="1764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152880" y="226044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152880" y="2260440"/>
                <a:ext cx="12600" cy="1908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165480" y="227952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165480" y="2279520"/>
                <a:ext cx="15840" cy="176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181320" y="22971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181320" y="2297160"/>
                <a:ext cx="12600" cy="158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193920" y="23130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193920" y="2313000"/>
                <a:ext cx="11160" cy="2052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205080" y="233352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205080" y="2333520"/>
                <a:ext cx="12960" cy="158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218040" y="234936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218040" y="2349360"/>
                <a:ext cx="7920" cy="2088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225960" y="23702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225960" y="2370240"/>
                <a:ext cx="12600" cy="2052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238560" y="23907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238560" y="239076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246480" y="24112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246480" y="2411280"/>
                <a:ext cx="7920" cy="1908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254400" y="243036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254400" y="2430360"/>
                <a:ext cx="4680" cy="208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259080" y="245124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259080" y="2451240"/>
                <a:ext cx="7920" cy="25200"/>
              </a:xfrm>
              <a:prstGeom prst="line">
                <a:avLst/>
              </a:prstGeom>
              <a:ln w="85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267000" y="247644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267000" y="2476440"/>
                <a:ext cx="4680" cy="190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271680" y="24955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271680" y="2495520"/>
                <a:ext cx="324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274920" y="251604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74920" y="2516040"/>
                <a:ext cx="1800" cy="2556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274920" y="25416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74920" y="2541600"/>
                <a:ext cx="468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279600" y="256212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279600" y="2562120"/>
                <a:ext cx="1800" cy="1908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279600" y="258120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279600" y="2581200"/>
                <a:ext cx="1800" cy="2556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279600" y="260676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H="1">
                <a:off x="3274560" y="2606760"/>
                <a:ext cx="468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274920" y="262728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74920" y="2627280"/>
                <a:ext cx="1800" cy="2376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74920" y="265104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H="1">
                <a:off x="3271320" y="2651040"/>
                <a:ext cx="3240" cy="208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271680" y="26719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H="1">
                <a:off x="3263760" y="2671920"/>
                <a:ext cx="7920" cy="23760"/>
              </a:xfrm>
              <a:prstGeom prst="line">
                <a:avLst/>
              </a:prstGeom>
              <a:ln w="85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263760" y="269568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H="1">
                <a:off x="3258720" y="2695680"/>
                <a:ext cx="468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259080" y="27162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>
                <a:off x="3251160" y="271620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251160" y="273672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H="1">
                <a:off x="3243240" y="2736720"/>
                <a:ext cx="7920" cy="24120"/>
              </a:xfrm>
              <a:prstGeom prst="line">
                <a:avLst/>
              </a:prstGeom>
              <a:ln w="85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243240" y="27608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H="1">
                <a:off x="3233880" y="2760840"/>
                <a:ext cx="936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233880" y="27813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>
                <a:off x="3222360" y="2781360"/>
                <a:ext cx="11160" cy="2052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222720" y="28018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222720" y="28018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222720" y="28018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H="1">
                <a:off x="3209760" y="2801880"/>
                <a:ext cx="12960" cy="2052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209760" y="282240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H="1">
                <a:off x="3196800" y="2822400"/>
                <a:ext cx="12600" cy="2088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197160" y="284328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H="1">
                <a:off x="3181320" y="2843280"/>
                <a:ext cx="1584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181320" y="28591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H="1">
                <a:off x="3168360" y="2859120"/>
                <a:ext cx="12600" cy="158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168720" y="28749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H="1">
                <a:off x="3152880" y="2874960"/>
                <a:ext cx="15840" cy="2052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3152880" y="28954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H="1">
                <a:off x="3134880" y="2895480"/>
                <a:ext cx="17640" cy="129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135240" y="290844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H="1">
                <a:off x="3119400" y="2908440"/>
                <a:ext cx="1584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119400" y="292428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H="1">
                <a:off x="3103560" y="2924280"/>
                <a:ext cx="1584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103560" y="29401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3086280" y="2940120"/>
                <a:ext cx="1728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086280" y="29527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H="1">
                <a:off x="3065400" y="2952720"/>
                <a:ext cx="2088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065400" y="296532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3045960" y="2965320"/>
                <a:ext cx="19080" cy="111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046320" y="297648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3029040" y="2976480"/>
                <a:ext cx="17280" cy="97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029040" y="29862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3008160" y="2986200"/>
                <a:ext cx="20880" cy="111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008160" y="299736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>
                <a:off x="2987280" y="2997360"/>
                <a:ext cx="2052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2987640" y="300528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2966760" y="3005280"/>
                <a:ext cx="20520" cy="936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2967120" y="30146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>
                <a:off x="2943360" y="3014640"/>
                <a:ext cx="23760" cy="324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2943360" y="301788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>
                <a:off x="2922480" y="3017880"/>
                <a:ext cx="2088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2922480" y="30258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2901600" y="3025800"/>
                <a:ext cx="20520" cy="46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901960" y="30304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>
                <a:off x="2881080" y="3030480"/>
                <a:ext cx="20520" cy="324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881440" y="30337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H="1">
                <a:off x="2857680" y="3033720"/>
                <a:ext cx="2376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857680" y="30337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2836800" y="3033720"/>
                <a:ext cx="2088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836800" y="30337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H="1">
                <a:off x="2811600" y="3033720"/>
                <a:ext cx="25200" cy="468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811600" y="303840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 flipV="1">
                <a:off x="2790720" y="3033360"/>
                <a:ext cx="20880" cy="46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2790720" y="30337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>
                <a:off x="2766960" y="3033720"/>
                <a:ext cx="2376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2766960" y="30337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 flipV="1">
                <a:off x="2746080" y="3030120"/>
                <a:ext cx="20520" cy="324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2746440" y="30304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 flipV="1">
                <a:off x="2725560" y="3025440"/>
                <a:ext cx="20880" cy="46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2725560" y="30258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H="1" flipV="1">
                <a:off x="2700360" y="3022200"/>
                <a:ext cx="25200" cy="324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2700360" y="302256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 flipV="1">
                <a:off x="2679480" y="3017520"/>
                <a:ext cx="20520" cy="46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679840" y="301788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 flipV="1">
                <a:off x="2658960" y="3009960"/>
                <a:ext cx="2088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2658960" y="300996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H="1" flipV="1">
                <a:off x="2635200" y="3002040"/>
                <a:ext cx="23760" cy="7920"/>
              </a:xfrm>
              <a:prstGeom prst="line">
                <a:avLst/>
              </a:prstGeom>
              <a:ln w="85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2635200" y="300204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H="1" flipV="1">
                <a:off x="2614320" y="2989080"/>
                <a:ext cx="2052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2614680" y="29894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 flipV="1">
                <a:off x="2593800" y="2980800"/>
                <a:ext cx="20880" cy="828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593800" y="298116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593800" y="298116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593800" y="298116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 flipV="1">
                <a:off x="2572920" y="2968200"/>
                <a:ext cx="2052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2573280" y="296856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 flipV="1">
                <a:off x="2552400" y="2957040"/>
                <a:ext cx="20520" cy="111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2552760" y="295740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H="1" flipV="1">
                <a:off x="2536920" y="2940120"/>
                <a:ext cx="15840" cy="1728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2536920" y="29401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 flipV="1">
                <a:off x="2516040" y="2928600"/>
                <a:ext cx="20880" cy="111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2516040" y="292896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H="1" flipV="1">
                <a:off x="2500200" y="2910960"/>
                <a:ext cx="15840" cy="176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500200" y="291132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 flipV="1">
                <a:off x="2482920" y="2895480"/>
                <a:ext cx="1728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482920" y="28954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 flipV="1">
                <a:off x="2471400" y="2879640"/>
                <a:ext cx="11160" cy="158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2471760" y="287964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H="1" flipV="1">
                <a:off x="2453760" y="2863800"/>
                <a:ext cx="1764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2454120" y="286380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H="1" flipV="1">
                <a:off x="2441160" y="2842920"/>
                <a:ext cx="12600" cy="2052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2441520" y="284328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 flipV="1">
                <a:off x="2430000" y="2825280"/>
                <a:ext cx="11160" cy="176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2430360" y="282564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H="1" flipV="1">
                <a:off x="2417400" y="2806200"/>
                <a:ext cx="12600" cy="1908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417760" y="280656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 flipV="1">
                <a:off x="2409840" y="278568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409840" y="27860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 flipV="1">
                <a:off x="2396880" y="2765160"/>
                <a:ext cx="12600" cy="2052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2397240" y="27655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H="1" flipV="1">
                <a:off x="2389320" y="2744640"/>
                <a:ext cx="7920" cy="2088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2389320" y="274464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H="1" flipV="1">
                <a:off x="2381400" y="272376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2381400" y="27241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 flipV="1">
                <a:off x="2376360" y="2703240"/>
                <a:ext cx="504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2376360" y="27036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 flipV="1">
                <a:off x="2368440" y="2684160"/>
                <a:ext cx="7920" cy="1908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2368440" y="26845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 flipH="1" flipV="1">
                <a:off x="2363400" y="2663640"/>
                <a:ext cx="468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2363760" y="26640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 flipV="1">
                <a:off x="2360160" y="2638080"/>
                <a:ext cx="3240" cy="2556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360520" y="263844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2360520" y="2617560"/>
                <a:ext cx="1800" cy="2052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2360520" y="26179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 flipV="1">
                <a:off x="2355480" y="2598480"/>
                <a:ext cx="4680" cy="190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2355840" y="25988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2355840" y="2572920"/>
                <a:ext cx="1440" cy="2556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2355840" y="25732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2355840" y="2552400"/>
                <a:ext cx="1440" cy="2052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9" name=""/>
            <p:cNvGrpSpPr/>
            <p:nvPr/>
          </p:nvGrpSpPr>
          <p:grpSpPr>
            <a:xfrm>
              <a:off x="846000" y="2043000"/>
              <a:ext cx="2252880" cy="952560"/>
              <a:chOff x="846000" y="2043000"/>
              <a:chExt cx="2252880" cy="952560"/>
            </a:xfrm>
          </p:grpSpPr>
          <p:sp>
            <p:nvSpPr>
              <p:cNvPr id="1910" name=""/>
              <p:cNvSpPr/>
              <p:nvPr/>
            </p:nvSpPr>
            <p:spPr>
              <a:xfrm>
                <a:off x="2355840" y="25527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V="1">
                <a:off x="2355840" y="2529000"/>
                <a:ext cx="4680" cy="2376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2360520" y="25290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V="1">
                <a:off x="2360520" y="2508120"/>
                <a:ext cx="1800" cy="2088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360520" y="250812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V="1">
                <a:off x="2360520" y="2484360"/>
                <a:ext cx="3240" cy="2376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2363760" y="248436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V="1">
                <a:off x="2363760" y="246348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371680" y="246384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V="1">
                <a:off x="2371680" y="2442960"/>
                <a:ext cx="468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2376360" y="24433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2376360" y="2418840"/>
                <a:ext cx="7920" cy="24120"/>
              </a:xfrm>
              <a:prstGeom prst="line">
                <a:avLst/>
              </a:prstGeom>
              <a:ln w="85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384280" y="241920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V="1">
                <a:off x="2384280" y="239832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392200" y="239868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V="1">
                <a:off x="2392200" y="2377800"/>
                <a:ext cx="97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401920" y="23781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V="1">
                <a:off x="2401920" y="2357280"/>
                <a:ext cx="11160" cy="2088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413080" y="23572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413080" y="23572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413080" y="23572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V="1">
                <a:off x="2413080" y="2328480"/>
                <a:ext cx="17280" cy="284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430360" y="232884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V="1">
                <a:off x="2430360" y="2300040"/>
                <a:ext cx="20880" cy="284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2451240" y="23004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V="1">
                <a:off x="2451240" y="2276640"/>
                <a:ext cx="20520" cy="237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2471760" y="22766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V="1">
                <a:off x="2471760" y="2250720"/>
                <a:ext cx="23760" cy="2556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2495520" y="225108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V="1">
                <a:off x="2495520" y="2231640"/>
                <a:ext cx="20520" cy="1908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516040" y="22320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V="1">
                <a:off x="2516040" y="2211120"/>
                <a:ext cx="28800" cy="2052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544840" y="221148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V="1">
                <a:off x="2544840" y="2190600"/>
                <a:ext cx="25200" cy="2088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570040" y="219060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2570040" y="2174760"/>
                <a:ext cx="32040" cy="1584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549520" y="2055960"/>
                <a:ext cx="81000" cy="30636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>
                <a:off x="3016080" y="2043000"/>
                <a:ext cx="82800" cy="3016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506600" y="2133720"/>
                <a:ext cx="2052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527120" y="21463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527120" y="2146320"/>
                <a:ext cx="15840" cy="111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542960" y="215748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542960" y="2157480"/>
                <a:ext cx="20880" cy="1728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563840" y="217476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563840" y="2174760"/>
                <a:ext cx="15840" cy="111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579680" y="218592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579680" y="2185920"/>
                <a:ext cx="17280" cy="176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596960" y="220356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596960" y="2203560"/>
                <a:ext cx="1584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12800" y="22194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612800" y="2219400"/>
                <a:ext cx="1584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628640" y="223524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628640" y="2235240"/>
                <a:ext cx="1764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646280" y="225108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646280" y="2251080"/>
                <a:ext cx="12600" cy="2052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658880" y="227160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658880" y="2271600"/>
                <a:ext cx="11160" cy="176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670040" y="22892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670040" y="2289240"/>
                <a:ext cx="12600" cy="1908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682640" y="23083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682640" y="230832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690560" y="232884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690560" y="2328840"/>
                <a:ext cx="12960" cy="2052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03520" y="234936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03520" y="2349360"/>
                <a:ext cx="7920" cy="2088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711440" y="23702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711440" y="2370240"/>
                <a:ext cx="468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716120" y="23907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716120" y="239076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724040" y="24112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724040" y="2411280"/>
                <a:ext cx="4680" cy="190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728720" y="243036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728720" y="2430360"/>
                <a:ext cx="7920" cy="2088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736640" y="245124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736640" y="2451240"/>
                <a:ext cx="1800" cy="252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736640" y="247644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736640" y="2476440"/>
                <a:ext cx="3240" cy="190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739880" y="24955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739880" y="2495520"/>
                <a:ext cx="1440" cy="2052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739880" y="251604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739880" y="2516040"/>
                <a:ext cx="4680" cy="2556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44560" y="25416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H="1">
                <a:off x="1739520" y="2541600"/>
                <a:ext cx="468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39880" y="256212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39880" y="2562120"/>
                <a:ext cx="1440" cy="2376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39880" y="25858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H="1">
                <a:off x="1736280" y="2585880"/>
                <a:ext cx="3240" cy="208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36640" y="260676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H="1">
                <a:off x="1731600" y="2606760"/>
                <a:ext cx="4680" cy="2376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31960" y="26305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>
                <a:off x="1728360" y="2630520"/>
                <a:ext cx="324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28720" y="265104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H="1">
                <a:off x="1719360" y="2651040"/>
                <a:ext cx="9360" cy="2088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19360" y="26719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flipH="1">
                <a:off x="1715760" y="2671920"/>
                <a:ext cx="3240" cy="2376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16120" y="269568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H="1">
                <a:off x="1708200" y="269568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08200" y="27162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H="1">
                <a:off x="1695240" y="2716200"/>
                <a:ext cx="12600" cy="2052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695600" y="273672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H="1">
                <a:off x="1687680" y="2736720"/>
                <a:ext cx="7920" cy="2088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687680" y="27576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687680" y="27576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687680" y="27576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H="1">
                <a:off x="1674720" y="2757600"/>
                <a:ext cx="12960" cy="2052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674720" y="27781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H="1">
                <a:off x="1661760" y="2778120"/>
                <a:ext cx="12600" cy="1908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662120" y="27972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>
                <a:off x="1646280" y="2797200"/>
                <a:ext cx="15840" cy="2052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646280" y="281772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>
                <a:off x="1633320" y="2817720"/>
                <a:ext cx="12600" cy="176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633680" y="28353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H="1">
                <a:off x="1617840" y="2835360"/>
                <a:ext cx="1584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617840" y="28512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H="1">
                <a:off x="1599840" y="2851200"/>
                <a:ext cx="1764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600200" y="28670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flipH="1">
                <a:off x="1584360" y="2867040"/>
                <a:ext cx="1584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584360" y="288288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1568520" y="2882880"/>
                <a:ext cx="1584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568520" y="28954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H="1">
                <a:off x="1547640" y="2895480"/>
                <a:ext cx="20880" cy="129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547640" y="290844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H="1">
                <a:off x="1530360" y="2908440"/>
                <a:ext cx="1728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530360" y="29210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H="1">
                <a:off x="1510920" y="2921040"/>
                <a:ext cx="19080" cy="111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511280" y="29322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>
                <a:off x="1490400" y="2932200"/>
                <a:ext cx="2052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490760" y="29448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H="1">
                <a:off x="1469880" y="2944800"/>
                <a:ext cx="2088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469880" y="29527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H="1">
                <a:off x="1449000" y="2952720"/>
                <a:ext cx="2052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449360" y="296064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flipH="1">
                <a:off x="1428480" y="2960640"/>
                <a:ext cx="2052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428840" y="296856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H="1">
                <a:off x="1407960" y="2968560"/>
                <a:ext cx="2088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407960" y="297648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H="1">
                <a:off x="1387080" y="2976480"/>
                <a:ext cx="20520" cy="46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387440" y="298116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H="1">
                <a:off x="1366560" y="2981160"/>
                <a:ext cx="20520" cy="504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366920" y="29862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H="1">
                <a:off x="1341000" y="2986200"/>
                <a:ext cx="25560" cy="324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1341360" y="298944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H="1">
                <a:off x="1321920" y="2989440"/>
                <a:ext cx="19080" cy="46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322280" y="29941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H="1">
                <a:off x="1297080" y="2994120"/>
                <a:ext cx="252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297080" y="29941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H="1">
                <a:off x="1276200" y="2994120"/>
                <a:ext cx="2088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1276200" y="29941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H="1">
                <a:off x="1255320" y="2994120"/>
                <a:ext cx="2052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1255680" y="29941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H="1" flipV="1">
                <a:off x="1231920" y="2989080"/>
                <a:ext cx="23760" cy="468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1231920" y="29894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H="1">
                <a:off x="1211040" y="2989440"/>
                <a:ext cx="2052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1211400" y="29894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H="1" flipV="1">
                <a:off x="1185480" y="2985840"/>
                <a:ext cx="25560" cy="324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1185840" y="29862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H="1" flipV="1">
                <a:off x="1164960" y="2981160"/>
                <a:ext cx="20520" cy="504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1165320" y="298116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H="1" flipV="1">
                <a:off x="1144440" y="2973240"/>
                <a:ext cx="2088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144440" y="297324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H="1" flipV="1">
                <a:off x="1120680" y="2965320"/>
                <a:ext cx="23760" cy="7920"/>
              </a:xfrm>
              <a:prstGeom prst="line">
                <a:avLst/>
              </a:prstGeom>
              <a:ln w="85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120680" y="296532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H="1" flipV="1">
                <a:off x="1099800" y="2957400"/>
                <a:ext cx="20520" cy="79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1100160" y="295740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H="1" flipV="1">
                <a:off x="1079280" y="2948040"/>
                <a:ext cx="20520" cy="936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1079640" y="29480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flipH="1" flipV="1">
                <a:off x="1058760" y="2936520"/>
                <a:ext cx="20880" cy="111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1058760" y="293688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1058760" y="293688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1058760" y="293688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 flipV="1">
                <a:off x="1037880" y="2923920"/>
                <a:ext cx="2052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1038240" y="292428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 flipV="1">
                <a:off x="1017360" y="2911320"/>
                <a:ext cx="20520" cy="129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1017720" y="291132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H="1" flipV="1">
                <a:off x="996840" y="2900520"/>
                <a:ext cx="20880" cy="108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996840" y="29005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H="1" flipV="1">
                <a:off x="981000" y="2882520"/>
                <a:ext cx="15840" cy="176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981000" y="288288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H="1" flipV="1">
                <a:off x="965160" y="2867040"/>
                <a:ext cx="15840" cy="15840"/>
              </a:xfrm>
              <a:prstGeom prst="line">
                <a:avLst/>
              </a:prstGeom>
              <a:ln w="98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965160" y="286704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H="1" flipV="1">
                <a:off x="947880" y="2854080"/>
                <a:ext cx="17280" cy="126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947880" y="28544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H="1" flipV="1">
                <a:off x="932040" y="2835000"/>
                <a:ext cx="15840" cy="1908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932040" y="28353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H="1" flipV="1">
                <a:off x="919080" y="2817360"/>
                <a:ext cx="12960" cy="176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919080" y="281772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H="1" flipV="1">
                <a:off x="906120" y="2801880"/>
                <a:ext cx="12600" cy="158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906480" y="28018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H="1" flipV="1">
                <a:off x="894960" y="2781000"/>
                <a:ext cx="11160" cy="2052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895320" y="27813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H="1" flipV="1">
                <a:off x="882360" y="2765520"/>
                <a:ext cx="12600" cy="158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882720" y="27655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 flipV="1">
                <a:off x="869760" y="2744640"/>
                <a:ext cx="12600" cy="2088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870120" y="274464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flipH="1" flipV="1">
                <a:off x="861480" y="2723760"/>
                <a:ext cx="828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861840" y="27241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H="1" flipV="1">
                <a:off x="853920" y="270324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853920" y="27036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H="1" flipV="1">
                <a:off x="846000" y="2684160"/>
                <a:ext cx="7920" cy="1908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846000" y="268452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0" name=""/>
            <p:cNvGrpSpPr/>
            <p:nvPr/>
          </p:nvGrpSpPr>
          <p:grpSpPr>
            <a:xfrm>
              <a:off x="266760" y="404640"/>
              <a:ext cx="2381040" cy="3800520"/>
              <a:chOff x="266760" y="404640"/>
              <a:chExt cx="2381040" cy="3800520"/>
            </a:xfrm>
          </p:grpSpPr>
          <p:sp>
            <p:nvSpPr>
              <p:cNvPr id="2111" name=""/>
              <p:cNvSpPr/>
              <p:nvPr/>
            </p:nvSpPr>
            <p:spPr>
              <a:xfrm flipH="1" flipV="1">
                <a:off x="836640" y="2663640"/>
                <a:ext cx="936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836640" y="26640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flipH="1" flipV="1">
                <a:off x="833040" y="2638080"/>
                <a:ext cx="3240" cy="2556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833400" y="263844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H="1" flipV="1">
                <a:off x="828360" y="2617560"/>
                <a:ext cx="468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828720" y="26179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H="1" flipV="1">
                <a:off x="825120" y="2598480"/>
                <a:ext cx="3240" cy="190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825480" y="25988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 flipV="1">
                <a:off x="820440" y="2572920"/>
                <a:ext cx="4680" cy="2556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820800" y="257328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820800" y="2552400"/>
                <a:ext cx="1440" cy="2052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820800" y="25527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V="1">
                <a:off x="820800" y="2533320"/>
                <a:ext cx="1440" cy="1908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820800" y="253368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V="1">
                <a:off x="820800" y="2507760"/>
                <a:ext cx="1440" cy="2556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820800" y="250812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V="1">
                <a:off x="820800" y="2487240"/>
                <a:ext cx="1440" cy="2052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820800" y="24876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V="1">
                <a:off x="820800" y="2463840"/>
                <a:ext cx="4680" cy="2376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825480" y="246384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V="1">
                <a:off x="825480" y="2442960"/>
                <a:ext cx="3240" cy="2052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828720" y="244332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V="1">
                <a:off x="828720" y="2418840"/>
                <a:ext cx="4680" cy="24120"/>
              </a:xfrm>
              <a:prstGeom prst="line">
                <a:avLst/>
              </a:prstGeom>
              <a:ln w="77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833400" y="241920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V="1">
                <a:off x="833400" y="239832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841320" y="239868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V="1">
                <a:off x="841320" y="2377800"/>
                <a:ext cx="7920" cy="2052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849240" y="237816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V="1">
                <a:off x="849240" y="2354400"/>
                <a:ext cx="7920" cy="23760"/>
              </a:xfrm>
              <a:prstGeom prst="line">
                <a:avLst/>
              </a:prstGeom>
              <a:ln w="85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857160" y="23544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V="1">
                <a:off x="857160" y="2333520"/>
                <a:ext cx="9720" cy="20880"/>
              </a:xfrm>
              <a:prstGeom prst="line">
                <a:avLst/>
              </a:prstGeom>
              <a:ln w="90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866880" y="2333520"/>
                <a:ext cx="144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V="1">
                <a:off x="866880" y="2312640"/>
                <a:ext cx="11160" cy="2052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878040" y="23130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878040" y="23130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878040" y="23130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878040" y="2284200"/>
                <a:ext cx="17280" cy="284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895320" y="228456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V="1">
                <a:off x="895320" y="2255760"/>
                <a:ext cx="20520" cy="288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915840" y="225576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V="1">
                <a:off x="915840" y="2232000"/>
                <a:ext cx="20880" cy="2376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936720" y="22320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936720" y="2206800"/>
                <a:ext cx="19080" cy="2520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955800" y="2206800"/>
                <a:ext cx="144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V="1">
                <a:off x="955800" y="2185920"/>
                <a:ext cx="25200" cy="2088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981000" y="2185920"/>
                <a:ext cx="1800" cy="180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V="1">
                <a:off x="981000" y="2165040"/>
                <a:ext cx="23760" cy="2052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1004760" y="216540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V="1">
                <a:off x="1004760" y="2149560"/>
                <a:ext cx="30240" cy="1584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1035000" y="2149560"/>
                <a:ext cx="1800" cy="1440"/>
              </a:xfrm>
              <a:prstGeom prst="line">
                <a:avLst/>
              </a:prstGeom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1035000" y="2128680"/>
                <a:ext cx="28800" cy="20880"/>
              </a:xfrm>
              <a:prstGeom prst="line">
                <a:avLst/>
              </a:prstGeom>
              <a:ln w="93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1066680" y="2081160"/>
                <a:ext cx="43992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1066680" y="2170080"/>
                <a:ext cx="43992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014480" y="2014560"/>
                <a:ext cx="81000" cy="30168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H="1">
                <a:off x="1481040" y="1998720"/>
                <a:ext cx="82800" cy="306360"/>
              </a:xfrm>
              <a:prstGeom prst="line">
                <a:avLst/>
              </a:prstGeom>
              <a:ln w="82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658880" y="1008000"/>
                <a:ext cx="442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1658880" y="1098720"/>
                <a:ext cx="44280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055520" y="404640"/>
                <a:ext cx="43848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055520" y="495360"/>
                <a:ext cx="43848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1604880" y="438120"/>
                <a:ext cx="43992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1604880" y="542880"/>
                <a:ext cx="43992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1728720" y="669960"/>
                <a:ext cx="43812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728720" y="776160"/>
                <a:ext cx="438120" cy="180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92000" y="576360"/>
                <a:ext cx="43992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92000" y="677880"/>
                <a:ext cx="43992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1079640" y="1028880"/>
                <a:ext cx="442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1079640" y="1130400"/>
                <a:ext cx="442800" cy="1440"/>
              </a:xfrm>
              <a:prstGeom prst="line">
                <a:avLst/>
              </a:prstGeom>
              <a:ln w="5400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66760" y="458640"/>
                <a:ext cx="442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66760" y="547560"/>
                <a:ext cx="442800" cy="180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517680" y="1033560"/>
                <a:ext cx="43812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517680" y="1122480"/>
                <a:ext cx="438120" cy="1440"/>
              </a:xfrm>
              <a:prstGeom prst="line">
                <a:avLst/>
              </a:prstGeom>
              <a:ln w="5400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2303640" y="722160"/>
                <a:ext cx="344160" cy="1800"/>
              </a:xfrm>
              <a:prstGeom prst="line">
                <a:avLst/>
              </a:prstGeom>
              <a:ln w="69840">
                <a:solidFill>
                  <a:srgbClr val="ff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2479680" y="547560"/>
                <a:ext cx="1440" cy="354240"/>
              </a:xfrm>
              <a:prstGeom prst="line">
                <a:avLst/>
              </a:prstGeom>
              <a:ln w="69840">
                <a:solidFill>
                  <a:srgbClr val="ff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716120" y="3821040"/>
                <a:ext cx="324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1719360" y="38336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719360" y="3833640"/>
                <a:ext cx="468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724040" y="3844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724040" y="3844800"/>
                <a:ext cx="1440" cy="176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1724040" y="38624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724040" y="3862440"/>
                <a:ext cx="1440" cy="1116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724040" y="38736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H="1">
                <a:off x="1719000" y="3873600"/>
                <a:ext cx="46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719360" y="38862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1719360" y="3886200"/>
                <a:ext cx="1440" cy="158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1719360" y="39020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H="1">
                <a:off x="1715760" y="3902040"/>
                <a:ext cx="324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1716120" y="39146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H="1">
                <a:off x="1711080" y="3914640"/>
                <a:ext cx="4680" cy="129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1711440" y="39276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H="1">
                <a:off x="1698480" y="3927600"/>
                <a:ext cx="12960" cy="284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1698480" y="39560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H="1">
                <a:off x="1687680" y="3956040"/>
                <a:ext cx="10800" cy="237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1687680" y="3979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H="1">
                <a:off x="1666800" y="3979800"/>
                <a:ext cx="20880" cy="255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1666800" y="40053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H="1">
                <a:off x="1645920" y="4005360"/>
                <a:ext cx="20520" cy="284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1646280" y="4033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H="1">
                <a:off x="1620360" y="4033800"/>
                <a:ext cx="25560" cy="190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620720" y="40528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H="1">
                <a:off x="1591920" y="4052880"/>
                <a:ext cx="28440" cy="255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592280" y="40784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H="1">
                <a:off x="1563480" y="4078440"/>
                <a:ext cx="28440" cy="205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563840" y="4098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H="1">
                <a:off x="1530000" y="4098960"/>
                <a:ext cx="33480" cy="190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1530360" y="41180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H="1">
                <a:off x="1493640" y="4118040"/>
                <a:ext cx="36360" cy="205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494000" y="41385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H="1">
                <a:off x="1457280" y="4138560"/>
                <a:ext cx="36720" cy="176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457280" y="41562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 flipH="1">
                <a:off x="1420560" y="4156200"/>
                <a:ext cx="36360" cy="158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1420920" y="41720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H="1">
                <a:off x="1374840" y="4172040"/>
                <a:ext cx="46080" cy="1260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374840" y="41846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374840" y="41846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374840" y="41846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flipH="1">
                <a:off x="1333080" y="4184640"/>
                <a:ext cx="4140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333440" y="41925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H="1">
                <a:off x="1292400" y="4192560"/>
                <a:ext cx="4104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292400" y="42004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H="1">
                <a:off x="1252080" y="4200480"/>
                <a:ext cx="3996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252440" y="42037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>
                <a:off x="1214280" y="4203720"/>
                <a:ext cx="3816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214280" y="42037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 flipH="1">
                <a:off x="1173240" y="4203720"/>
                <a:ext cx="410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173240" y="42037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H="1" flipV="1">
                <a:off x="1136520" y="4200120"/>
                <a:ext cx="3672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1136520" y="42004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 flipH="1" flipV="1">
                <a:off x="1099800" y="4192560"/>
                <a:ext cx="3636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100160" y="41925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H="1" flipV="1">
                <a:off x="1066320" y="4184640"/>
                <a:ext cx="3348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066680" y="41846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flipH="1" flipV="1">
                <a:off x="1037880" y="4175280"/>
                <a:ext cx="28440" cy="93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038240" y="4175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H="1" flipV="1">
                <a:off x="1009440" y="4158720"/>
                <a:ext cx="28440" cy="1620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009800" y="41590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H="1" flipV="1">
                <a:off x="981000" y="4146120"/>
                <a:ext cx="28800" cy="1260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981000" y="41464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flipH="1" flipV="1">
                <a:off x="960120" y="4127040"/>
                <a:ext cx="20520" cy="190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960480" y="41274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flipH="1" flipV="1">
                <a:off x="947520" y="4118040"/>
                <a:ext cx="12600" cy="93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947880" y="41180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H="1" flipV="1">
                <a:off x="939960" y="411012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939960" y="41101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H="1" flipV="1">
                <a:off x="932040" y="4098600"/>
                <a:ext cx="7920" cy="111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932040" y="4098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H="1" flipV="1">
                <a:off x="923400" y="4086000"/>
                <a:ext cx="8280" cy="1260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923760" y="40863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H="1" flipV="1">
                <a:off x="915840" y="4073400"/>
                <a:ext cx="7920" cy="129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915840" y="40734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H="1" flipV="1">
                <a:off x="910800" y="4065480"/>
                <a:ext cx="468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911160" y="40654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flipH="1" flipV="1">
                <a:off x="903240" y="4052520"/>
                <a:ext cx="7920" cy="1260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903240" y="40528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 flipV="1">
                <a:off x="898200" y="4037040"/>
                <a:ext cx="4680" cy="1584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898560" y="40370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898560" y="40370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898560" y="40370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V="1">
                <a:off x="898560" y="4024080"/>
                <a:ext cx="1440" cy="126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898560" y="40244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 flipV="1">
                <a:off x="894960" y="4012920"/>
                <a:ext cx="324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895320" y="4013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V="1">
                <a:off x="895320" y="4000320"/>
                <a:ext cx="1440" cy="126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895320" y="40006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flipV="1">
                <a:off x="895320" y="3984120"/>
                <a:ext cx="1440" cy="162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895320" y="39844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V="1">
                <a:off x="895320" y="3971520"/>
                <a:ext cx="1440" cy="126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895320" y="39718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V="1">
                <a:off x="895320" y="3958920"/>
                <a:ext cx="324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898560" y="3959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898560" y="3947760"/>
                <a:ext cx="468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903240" y="39481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903240" y="3930120"/>
                <a:ext cx="3240" cy="1764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906480" y="39304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V="1">
                <a:off x="906480" y="3906720"/>
                <a:ext cx="12600" cy="237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919080" y="39067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V="1">
                <a:off x="919080" y="3877920"/>
                <a:ext cx="12960" cy="284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932040" y="3878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V="1">
                <a:off x="932040" y="3854520"/>
                <a:ext cx="20520" cy="237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952560" y="3854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V="1">
                <a:off x="952560" y="3828600"/>
                <a:ext cx="20520" cy="255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973080" y="38289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V="1">
                <a:off x="973080" y="3805200"/>
                <a:ext cx="23760" cy="237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996840" y="38052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flipV="1">
                <a:off x="996840" y="3780000"/>
                <a:ext cx="28800" cy="2520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1025640" y="37800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flipV="1">
                <a:off x="1025640" y="3759120"/>
                <a:ext cx="29880" cy="208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1055520" y="37591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V="1">
                <a:off x="1055520" y="3739680"/>
                <a:ext cx="32040" cy="190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1087560" y="37400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V="1">
                <a:off x="1087560" y="3722760"/>
                <a:ext cx="36360" cy="172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1123920" y="37227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V="1">
                <a:off x="1123920" y="3703320"/>
                <a:ext cx="38160" cy="190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1162080" y="37036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V="1">
                <a:off x="1162080" y="3690720"/>
                <a:ext cx="3636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1198440" y="36910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V="1">
                <a:off x="1198440" y="3678120"/>
                <a:ext cx="41400" cy="129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1239840" y="36781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1239840" y="36781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1239840" y="36781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V="1">
                <a:off x="1239840" y="3665160"/>
                <a:ext cx="44280" cy="1260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549360" y="3654000"/>
              <a:ext cx="1168200" cy="491040"/>
              <a:chOff x="549360" y="3654000"/>
              <a:chExt cx="1168200" cy="491040"/>
            </a:xfrm>
          </p:grpSpPr>
          <p:sp>
            <p:nvSpPr>
              <p:cNvPr id="2312" name=""/>
              <p:cNvSpPr/>
              <p:nvPr/>
            </p:nvSpPr>
            <p:spPr>
              <a:xfrm>
                <a:off x="1284120" y="36655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V="1">
                <a:off x="1284120" y="3661920"/>
                <a:ext cx="4140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1325520" y="36622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flipV="1">
                <a:off x="1325520" y="3657240"/>
                <a:ext cx="4140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366920" y="36576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V="1">
                <a:off x="1366920" y="3654000"/>
                <a:ext cx="3636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1403280" y="36543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403280" y="3654360"/>
                <a:ext cx="4140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1444680" y="36576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1444680" y="3657600"/>
                <a:ext cx="3636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1481040" y="36622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481040" y="3662280"/>
                <a:ext cx="3348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514520" y="3665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514520" y="3665520"/>
                <a:ext cx="33120" cy="97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1547640" y="36752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1547640" y="3675240"/>
                <a:ext cx="32040" cy="108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1579680" y="36860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1579680" y="3686040"/>
                <a:ext cx="29880" cy="129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1609560" y="36990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1609560" y="3699000"/>
                <a:ext cx="28800" cy="158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1638360" y="37148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638360" y="3714840"/>
                <a:ext cx="20520" cy="172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658880" y="37321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658880" y="3732120"/>
                <a:ext cx="1116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1670040" y="37400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1670040" y="3740040"/>
                <a:ext cx="9360" cy="111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1679400" y="37512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1679400" y="3751200"/>
                <a:ext cx="828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1687680" y="37591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1687680" y="3759120"/>
                <a:ext cx="7920" cy="129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1695600" y="37720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1695600" y="3772080"/>
                <a:ext cx="7920" cy="1260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1703520" y="37846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1703520" y="3784680"/>
                <a:ext cx="46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708200" y="3797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708200" y="3797280"/>
                <a:ext cx="7920" cy="111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16120" y="38084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1716120" y="3808440"/>
                <a:ext cx="1440" cy="126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1716120" y="38210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flipH="1">
                <a:off x="857160" y="4021200"/>
                <a:ext cx="12960" cy="324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857160" y="40244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flipH="1">
                <a:off x="845640" y="4024440"/>
                <a:ext cx="11160" cy="468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46000" y="40291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H="1">
                <a:off x="836640" y="4029120"/>
                <a:ext cx="936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836640" y="40291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 flipH="1">
                <a:off x="828720" y="4029120"/>
                <a:ext cx="792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828720" y="40291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H="1" flipV="1">
                <a:off x="820800" y="4024080"/>
                <a:ext cx="7920" cy="46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820800" y="40244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 flipV="1">
                <a:off x="817200" y="4020840"/>
                <a:ext cx="324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817560" y="40212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H="1" flipV="1">
                <a:off x="808200" y="4013280"/>
                <a:ext cx="936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808200" y="4013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H="1" flipV="1">
                <a:off x="800280" y="400536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800280" y="40053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 flipV="1">
                <a:off x="787320" y="3987360"/>
                <a:ext cx="12960" cy="176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87320" y="39877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flipH="1" flipV="1">
                <a:off x="775800" y="3971880"/>
                <a:ext cx="1116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76160" y="39718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flipH="1" flipV="1">
                <a:off x="768240" y="3958920"/>
                <a:ext cx="7920" cy="1260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68240" y="39592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H="1" flipV="1">
                <a:off x="755280" y="3951360"/>
                <a:ext cx="1260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55640" y="39513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H="1" flipV="1">
                <a:off x="747720" y="394344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47720" y="39434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 flipV="1">
                <a:off x="734760" y="3935520"/>
                <a:ext cx="1260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35120" y="3935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35120" y="3935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35120" y="3935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>
                <a:off x="730080" y="3935520"/>
                <a:ext cx="50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30080" y="39355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>
                <a:off x="722160" y="3935520"/>
                <a:ext cx="792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22160" y="39355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22160" y="3935520"/>
                <a:ext cx="180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22160" y="39387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H="1">
                <a:off x="717120" y="3938760"/>
                <a:ext cx="46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17480" y="39387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>
                <a:off x="713880" y="3938760"/>
                <a:ext cx="32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14240" y="39387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09200" y="3938760"/>
                <a:ext cx="46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09560" y="39387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>
                <a:off x="705960" y="3938760"/>
                <a:ext cx="324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06320" y="39434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flipH="1">
                <a:off x="701280" y="3943440"/>
                <a:ext cx="46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01640" y="39434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01640" y="39434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01640" y="39434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H="1">
                <a:off x="698040" y="3943440"/>
                <a:ext cx="324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98400" y="39513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698400" y="3951360"/>
                <a:ext cx="180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98400" y="39560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698400" y="3956040"/>
                <a:ext cx="180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98400" y="39592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98400" y="3959280"/>
                <a:ext cx="180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98400" y="39639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98400" y="3963960"/>
                <a:ext cx="180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698400" y="39672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698400" y="3967200"/>
                <a:ext cx="180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98400" y="39718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H="1">
                <a:off x="693360" y="3971880"/>
                <a:ext cx="468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93720" y="3979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693720" y="3979800"/>
                <a:ext cx="144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693720" y="39844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93720" y="39844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693720" y="39844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693720" y="3984480"/>
                <a:ext cx="1440" cy="1116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93720" y="39956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693720" y="3995640"/>
                <a:ext cx="4680" cy="129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98400" y="40086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98400" y="4008600"/>
                <a:ext cx="180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98400" y="40165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98400" y="4016520"/>
                <a:ext cx="180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98400" y="40244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98400" y="4024440"/>
                <a:ext cx="1800" cy="936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98400" y="40338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698400" y="4033800"/>
                <a:ext cx="324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01640" y="40417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01640" y="4041720"/>
                <a:ext cx="180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01640" y="40496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01640" y="4049640"/>
                <a:ext cx="1800" cy="158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01640" y="40654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01640" y="40654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01640" y="40654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01640" y="4065480"/>
                <a:ext cx="1800" cy="50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01640" y="40705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01640" y="4070520"/>
                <a:ext cx="180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01640" y="40784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01640" y="4078440"/>
                <a:ext cx="1800" cy="28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01640" y="40813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01640" y="4081320"/>
                <a:ext cx="1800" cy="50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01640" y="40863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H="1">
                <a:off x="698040" y="4086360"/>
                <a:ext cx="3240" cy="28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698400" y="40892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698400" y="4089240"/>
                <a:ext cx="1800" cy="50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698400" y="40942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698400" y="4094280"/>
                <a:ext cx="180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698400" y="40989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698400" y="4098960"/>
                <a:ext cx="180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698400" y="41068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698400" y="41068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698400" y="41068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H="1">
                <a:off x="693360" y="4106880"/>
                <a:ext cx="468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693720" y="41101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H="1">
                <a:off x="688680" y="4110120"/>
                <a:ext cx="468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689040" y="41180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H="1">
                <a:off x="685440" y="4118040"/>
                <a:ext cx="324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685800" y="41227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685800" y="41227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685800" y="41227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H="1">
                <a:off x="680760" y="412272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681120" y="41274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H="1">
                <a:off x="677520" y="4127400"/>
                <a:ext cx="324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77880" y="41306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77880" y="4130640"/>
                <a:ext cx="144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77880" y="41385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>
                <a:off x="667800" y="4138560"/>
                <a:ext cx="9720" cy="46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68160" y="41432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68160" y="41432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68160" y="41432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H="1">
                <a:off x="665280" y="4143240"/>
                <a:ext cx="288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65280" y="41432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>
                <a:off x="657360" y="4143240"/>
                <a:ext cx="792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657360" y="41432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>
                <a:off x="652320" y="4143240"/>
                <a:ext cx="50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652320" y="41432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H="1">
                <a:off x="649440" y="4143240"/>
                <a:ext cx="288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49440" y="41432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>
                <a:off x="644400" y="4143240"/>
                <a:ext cx="50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44400" y="41432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>
                <a:off x="639360" y="4143240"/>
                <a:ext cx="468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39720" y="41432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>
                <a:off x="636120" y="4143240"/>
                <a:ext cx="32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36480" y="41432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H="1">
                <a:off x="628560" y="4143240"/>
                <a:ext cx="792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28560" y="41432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28560" y="41432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28560" y="41432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H="1" flipV="1">
                <a:off x="619200" y="4138200"/>
                <a:ext cx="9360" cy="46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19200" y="41385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 flipV="1">
                <a:off x="615600" y="4134960"/>
                <a:ext cx="324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15960" y="41353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H="1" flipV="1">
                <a:off x="608040" y="4130280"/>
                <a:ext cx="7920" cy="46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08040" y="41306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 flipV="1">
                <a:off x="603000" y="4127040"/>
                <a:ext cx="468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03360" y="41274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H="1" flipV="1">
                <a:off x="599760" y="4122360"/>
                <a:ext cx="324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0120" y="41227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 flipV="1">
                <a:off x="595080" y="411768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595440" y="41180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 flipV="1">
                <a:off x="587520" y="4114440"/>
                <a:ext cx="7920" cy="32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587520" y="41148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H="1" flipV="1">
                <a:off x="579600" y="410688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579600" y="41068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579600" y="41068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79600" y="41068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H="1" flipV="1">
                <a:off x="566640" y="4098960"/>
                <a:ext cx="1296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566640" y="40989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H="1" flipV="1">
                <a:off x="558720" y="4088880"/>
                <a:ext cx="7920" cy="97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558720" y="40892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H="1" flipV="1">
                <a:off x="549360" y="4081320"/>
                <a:ext cx="936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12" name=""/>
            <p:cNvGrpSpPr/>
            <p:nvPr/>
          </p:nvGrpSpPr>
          <p:grpSpPr>
            <a:xfrm>
              <a:off x="352440" y="3649680"/>
              <a:ext cx="2913120" cy="531720"/>
              <a:chOff x="352440" y="3649680"/>
              <a:chExt cx="2913120" cy="531720"/>
            </a:xfrm>
          </p:grpSpPr>
          <p:sp>
            <p:nvSpPr>
              <p:cNvPr id="2513" name=""/>
              <p:cNvSpPr/>
              <p:nvPr/>
            </p:nvSpPr>
            <p:spPr>
              <a:xfrm>
                <a:off x="549360" y="40813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H="1" flipV="1">
                <a:off x="541440" y="4078440"/>
                <a:ext cx="7920" cy="28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41440" y="40784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H="1" flipV="1">
                <a:off x="537840" y="4070520"/>
                <a:ext cx="324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38200" y="4070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H="1" flipV="1">
                <a:off x="530280" y="4060440"/>
                <a:ext cx="7920" cy="97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30280" y="40608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 flipH="1" flipV="1">
                <a:off x="520200" y="4052880"/>
                <a:ext cx="97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20560" y="40528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 flipH="1" flipV="1">
                <a:off x="509760" y="4044960"/>
                <a:ext cx="1080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509760" y="4044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509760" y="4044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09760" y="4044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499680" y="4041360"/>
                <a:ext cx="9720" cy="32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00040" y="40417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 flipV="1">
                <a:off x="496440" y="4036680"/>
                <a:ext cx="324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496800" y="40370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H="1" flipV="1">
                <a:off x="491760" y="4033440"/>
                <a:ext cx="468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492120" y="4033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 flipH="1">
                <a:off x="488520" y="4033800"/>
                <a:ext cx="32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488880" y="40338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H="1" flipV="1">
                <a:off x="483840" y="402876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484200" y="40291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>
                <a:off x="480600" y="4029120"/>
                <a:ext cx="324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480960" y="40338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475920" y="4033800"/>
                <a:ext cx="468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476280" y="4033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476280" y="4033800"/>
                <a:ext cx="144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476280" y="40370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 flipH="1">
                <a:off x="471240" y="403704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471600" y="40417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471600" y="4041720"/>
                <a:ext cx="144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471600" y="4044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471600" y="4044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471600" y="4044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468000" y="4044960"/>
                <a:ext cx="324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468360" y="40528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468360" y="4052880"/>
                <a:ext cx="144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468360" y="40608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468360" y="4060800"/>
                <a:ext cx="144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468360" y="40654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468360" y="4065480"/>
                <a:ext cx="1440" cy="50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468360" y="4070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>
                <a:off x="463320" y="4070520"/>
                <a:ext cx="4680" cy="28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463680" y="40734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463680" y="4073400"/>
                <a:ext cx="144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463680" y="40813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463680" y="4081320"/>
                <a:ext cx="144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463680" y="40892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463680" y="4089240"/>
                <a:ext cx="1440" cy="97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463680" y="4098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463680" y="4098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463680" y="4098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>
                <a:off x="460080" y="4098960"/>
                <a:ext cx="324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460440" y="41022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460440" y="4102200"/>
                <a:ext cx="144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460440" y="41068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H="1">
                <a:off x="455400" y="4106880"/>
                <a:ext cx="468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55760" y="41101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455760" y="4110120"/>
                <a:ext cx="144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455760" y="41148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455760" y="4114800"/>
                <a:ext cx="144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455760" y="41180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>
                <a:off x="450720" y="4118040"/>
                <a:ext cx="504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450720" y="41227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450720" y="4122720"/>
                <a:ext cx="180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450720" y="41274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flipH="1">
                <a:off x="447840" y="4127400"/>
                <a:ext cx="288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447840" y="41306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447840" y="41306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447840" y="41306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H="1">
                <a:off x="442800" y="4130640"/>
                <a:ext cx="504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442800" y="41385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>
                <a:off x="439200" y="4138560"/>
                <a:ext cx="324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439560" y="41432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439560" y="4143240"/>
                <a:ext cx="180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439560" y="41464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 flipH="1">
                <a:off x="434520" y="414648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434880" y="41511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 flipH="1">
                <a:off x="429840" y="4151160"/>
                <a:ext cx="4680" cy="50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430200" y="41562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430200" y="4156200"/>
                <a:ext cx="1440" cy="28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430200" y="41590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>
                <a:off x="426600" y="4159080"/>
                <a:ext cx="3240" cy="50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426960" y="41641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421920" y="4164120"/>
                <a:ext cx="468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422280" y="41673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422280" y="41673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422280" y="41673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 flipH="1">
                <a:off x="414360" y="4167360"/>
                <a:ext cx="7920" cy="46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414360" y="41720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H="1">
                <a:off x="410760" y="4172040"/>
                <a:ext cx="32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411120" y="41720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411120" y="41720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411120" y="41720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406080" y="4172040"/>
                <a:ext cx="46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406440" y="41720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flipH="1">
                <a:off x="401400" y="4172040"/>
                <a:ext cx="468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401760" y="4175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H="1">
                <a:off x="398160" y="4175280"/>
                <a:ext cx="32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398520" y="4175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393480" y="4175280"/>
                <a:ext cx="46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393840" y="4175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>
                <a:off x="390240" y="4175280"/>
                <a:ext cx="324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390600" y="4179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390600" y="4179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390600" y="4179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H="1" flipV="1">
                <a:off x="380520" y="4174920"/>
                <a:ext cx="9720" cy="46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380880" y="41752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378000" y="4171680"/>
                <a:ext cx="288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378000" y="41720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 flipV="1">
                <a:off x="372960" y="4167000"/>
                <a:ext cx="504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372960" y="41673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H="1">
                <a:off x="369360" y="4167360"/>
                <a:ext cx="32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369720" y="41673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V="1">
                <a:off x="369720" y="4163760"/>
                <a:ext cx="180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369720" y="41641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H="1">
                <a:off x="364680" y="4164120"/>
                <a:ext cx="46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365040" y="41641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361440" y="4159080"/>
                <a:ext cx="3240" cy="50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61800" y="41590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 flipV="1">
                <a:off x="352440" y="4156200"/>
                <a:ext cx="9360" cy="28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254400" y="3649680"/>
                <a:ext cx="46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259080" y="36622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3259080" y="3662280"/>
                <a:ext cx="1800" cy="1296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259080" y="36752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259080" y="3675240"/>
                <a:ext cx="4680" cy="108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263760" y="36860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263760" y="3686040"/>
                <a:ext cx="1800" cy="176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263760" y="37036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H="1">
                <a:off x="3258720" y="3703680"/>
                <a:ext cx="468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259080" y="37148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259080" y="3714840"/>
                <a:ext cx="1800" cy="126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259080" y="37274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>
                <a:off x="3254040" y="3727440"/>
                <a:ext cx="4680" cy="1584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254400" y="37432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3250800" y="3743280"/>
                <a:ext cx="324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251160" y="37558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 flipH="1">
                <a:off x="3238200" y="3755880"/>
                <a:ext cx="12600" cy="241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3238560" y="37800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H="1">
                <a:off x="3222720" y="3780000"/>
                <a:ext cx="15840" cy="284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3222720" y="38084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H="1">
                <a:off x="3204720" y="3808440"/>
                <a:ext cx="17640" cy="2520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3205080" y="38336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>
                <a:off x="3184200" y="3833640"/>
                <a:ext cx="20520" cy="241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3184560" y="38577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3160800" y="3857760"/>
                <a:ext cx="23760" cy="2520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3160800" y="38829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flipH="1">
                <a:off x="3132000" y="3882960"/>
                <a:ext cx="28800" cy="237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3132000" y="39067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H="1">
                <a:off x="3103200" y="3906720"/>
                <a:ext cx="28440" cy="208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3103560" y="39276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H="1">
                <a:off x="3069720" y="3927600"/>
                <a:ext cx="33480" cy="205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3070080" y="39481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>
                <a:off x="3033360" y="3948120"/>
                <a:ext cx="36360" cy="190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3033720" y="39672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2997000" y="3967200"/>
                <a:ext cx="36360" cy="172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2997360" y="39844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H="1">
                <a:off x="2955600" y="3984480"/>
                <a:ext cx="4140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2955960" y="39956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 flipH="1">
                <a:off x="2914200" y="3995640"/>
                <a:ext cx="41400" cy="129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2914560" y="40086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2914560" y="40086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2914560" y="40086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>
                <a:off x="2873520" y="4008600"/>
                <a:ext cx="4104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2873520" y="40212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2831760" y="4021200"/>
                <a:ext cx="4140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2832120" y="40244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 flipH="1">
                <a:off x="2790360" y="4024440"/>
                <a:ext cx="4140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2790720" y="40291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 flipH="1">
                <a:off x="2749680" y="4029120"/>
                <a:ext cx="4104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2749680" y="4033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H="1">
                <a:off x="2712960" y="4033800"/>
                <a:ext cx="3672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2712960" y="40338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2676240" y="4028760"/>
                <a:ext cx="3636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2676600" y="40291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 flipV="1">
                <a:off x="2639880" y="4021200"/>
                <a:ext cx="3672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639880" y="40212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 flipH="1" flipV="1">
                <a:off x="2606760" y="4013280"/>
                <a:ext cx="3312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2606760" y="4013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H="1" flipV="1">
                <a:off x="2572920" y="4000320"/>
                <a:ext cx="334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2573280" y="40006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H="1" flipV="1">
                <a:off x="2544480" y="3987720"/>
                <a:ext cx="28440" cy="129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2544840" y="39877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2521080" y="3971880"/>
                <a:ext cx="2376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2521080" y="39718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 flipV="1">
                <a:off x="2495160" y="3956040"/>
                <a:ext cx="2556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2495520" y="39560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 flipH="1" flipV="1">
                <a:off x="2487600" y="394812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2487600" y="39481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 flipH="1" flipV="1">
                <a:off x="2474640" y="3935160"/>
                <a:ext cx="12600" cy="1260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2475000" y="3935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H="1" flipV="1">
                <a:off x="2467080" y="392760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2467080" y="39276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2459160" y="3914640"/>
                <a:ext cx="7920" cy="129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2459160" y="39146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 flipV="1">
                <a:off x="2454120" y="3901680"/>
                <a:ext cx="504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2454120" y="39020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 flipH="1" flipV="1">
                <a:off x="2446200" y="3890520"/>
                <a:ext cx="7920" cy="111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2446200" y="38908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3" name=""/>
            <p:cNvGrpSpPr/>
            <p:nvPr/>
          </p:nvGrpSpPr>
          <p:grpSpPr>
            <a:xfrm>
              <a:off x="2220480" y="3483000"/>
              <a:ext cx="1035360" cy="474480"/>
              <a:chOff x="2220480" y="3483000"/>
              <a:chExt cx="1035360" cy="474480"/>
            </a:xfrm>
          </p:grpSpPr>
          <p:sp>
            <p:nvSpPr>
              <p:cNvPr id="2714" name=""/>
              <p:cNvSpPr/>
              <p:nvPr/>
            </p:nvSpPr>
            <p:spPr>
              <a:xfrm flipH="1" flipV="1">
                <a:off x="2441160" y="3877920"/>
                <a:ext cx="46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2441520" y="38782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H="1" flipV="1">
                <a:off x="2437920" y="3865320"/>
                <a:ext cx="324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438280" y="38656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2438280" y="38656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2438280" y="38656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H="1" flipV="1">
                <a:off x="2433240" y="3854160"/>
                <a:ext cx="468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2433600" y="38545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V="1">
                <a:off x="2433600" y="3841560"/>
                <a:ext cx="1800" cy="126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2433600" y="38419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V="1">
                <a:off x="2433600" y="3825360"/>
                <a:ext cx="1800" cy="162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2433600" y="38257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 flipV="1">
                <a:off x="2433600" y="3812760"/>
                <a:ext cx="1800" cy="126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2433600" y="38131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 flipV="1">
                <a:off x="2433600" y="3800160"/>
                <a:ext cx="1800" cy="126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2433600" y="38005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2433600" y="3787560"/>
                <a:ext cx="46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2438280" y="37879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V="1">
                <a:off x="2438280" y="3772080"/>
                <a:ext cx="1800" cy="158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2438280" y="37720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V="1">
                <a:off x="2438280" y="3759120"/>
                <a:ext cx="3240" cy="129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441520" y="37591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flipV="1">
                <a:off x="2441520" y="3735360"/>
                <a:ext cx="12600" cy="237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2454120" y="37353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 flipV="1">
                <a:off x="2454120" y="3706560"/>
                <a:ext cx="17640" cy="284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2471760" y="37069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2471760" y="3683160"/>
                <a:ext cx="15840" cy="237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2487600" y="36831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V="1">
                <a:off x="2487600" y="3657240"/>
                <a:ext cx="23760" cy="255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2511360" y="36576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V="1">
                <a:off x="2511360" y="3633840"/>
                <a:ext cx="25560" cy="237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536920" y="36338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 flipV="1">
                <a:off x="2536920" y="3607920"/>
                <a:ext cx="23760" cy="255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560680" y="36082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V="1">
                <a:off x="2560680" y="3588840"/>
                <a:ext cx="33120" cy="190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593800" y="35892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2593800" y="3568320"/>
                <a:ext cx="33480" cy="205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627280" y="35686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V="1">
                <a:off x="2627280" y="3547800"/>
                <a:ext cx="31680" cy="205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658960" y="35481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V="1">
                <a:off x="2658960" y="3532320"/>
                <a:ext cx="38160" cy="158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2697120" y="35323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 flipV="1">
                <a:off x="2697120" y="3519360"/>
                <a:ext cx="41400" cy="129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2738520" y="35193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 flipV="1">
                <a:off x="2738520" y="3506400"/>
                <a:ext cx="3960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2778120" y="35067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2778120" y="35067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2778120" y="35067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V="1">
                <a:off x="2778120" y="3495240"/>
                <a:ext cx="4140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2819520" y="34956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V="1">
                <a:off x="2819520" y="3490560"/>
                <a:ext cx="4104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2860560" y="34909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 flipV="1">
                <a:off x="2860560" y="3483000"/>
                <a:ext cx="4140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2901960" y="34830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2901960" y="3483000"/>
                <a:ext cx="414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2943360" y="34830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2943360" y="3483000"/>
                <a:ext cx="3636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2979720" y="34830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2979720" y="3483000"/>
                <a:ext cx="3636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3016080" y="34862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3016080" y="3486240"/>
                <a:ext cx="38160" cy="936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3054240" y="34956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3054240" y="3495600"/>
                <a:ext cx="3204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3086280" y="35035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3086280" y="3503520"/>
                <a:ext cx="3312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3119400" y="35146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3119400" y="3514680"/>
                <a:ext cx="28440" cy="1260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3147840" y="35272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3147840" y="3527280"/>
                <a:ext cx="25560" cy="1620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3173400" y="35434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3173400" y="3543480"/>
                <a:ext cx="23760" cy="172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3197160" y="35607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3197160" y="356076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3205080" y="35686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3205080" y="3568680"/>
                <a:ext cx="12960" cy="111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3218040" y="35798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3218040" y="3579840"/>
                <a:ext cx="7920" cy="93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3225960" y="35892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3225960" y="3589200"/>
                <a:ext cx="7920" cy="111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3233880" y="36003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3233880" y="3600360"/>
                <a:ext cx="9360" cy="129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3243240" y="3613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3243240" y="3613320"/>
                <a:ext cx="324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3246480" y="36259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3246480" y="3625920"/>
                <a:ext cx="468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3251160" y="36370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3251160" y="3637080"/>
                <a:ext cx="324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3254400" y="36496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H="1">
                <a:off x="2396880" y="3849840"/>
                <a:ext cx="12600" cy="468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2397240" y="3854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H="1">
                <a:off x="2384280" y="3854520"/>
                <a:ext cx="12960" cy="324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2384280" y="38577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 flipH="1">
                <a:off x="2376360" y="3857760"/>
                <a:ext cx="792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2376360" y="38577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 flipH="1" flipV="1">
                <a:off x="2368440" y="3854160"/>
                <a:ext cx="7920" cy="32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2368440" y="38545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 flipH="1">
                <a:off x="2360520" y="3854520"/>
                <a:ext cx="792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2360520" y="38545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H="1" flipV="1">
                <a:off x="2352600" y="3844440"/>
                <a:ext cx="7920" cy="97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2352600" y="38448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H="1" flipV="1">
                <a:off x="2347560" y="3841920"/>
                <a:ext cx="4680" cy="28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2347920" y="38419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H="1" flipV="1">
                <a:off x="2340000" y="3833280"/>
                <a:ext cx="7920" cy="82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2340000" y="38336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H="1" flipV="1">
                <a:off x="2327040" y="3816360"/>
                <a:ext cx="12600" cy="172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2327400" y="38163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 flipH="1" flipV="1">
                <a:off x="2311560" y="3796920"/>
                <a:ext cx="15840" cy="190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2311560" y="3797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 flipH="1" flipV="1">
                <a:off x="2303640" y="3787920"/>
                <a:ext cx="7920" cy="93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2303640" y="37879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flipH="1" flipV="1">
                <a:off x="2293560" y="3780000"/>
                <a:ext cx="97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2293920" y="37800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H="1" flipV="1">
                <a:off x="2286000" y="377208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2286000" y="37720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 flipH="1" flipV="1">
                <a:off x="2273040" y="3763440"/>
                <a:ext cx="12600" cy="82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2273400" y="3763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2273400" y="3763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2273400" y="3763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 flipH="1">
                <a:off x="2265480" y="3763800"/>
                <a:ext cx="792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2265480" y="3763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 flipH="1">
                <a:off x="2261880" y="3763800"/>
                <a:ext cx="32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2262240" y="3763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 flipH="1">
                <a:off x="2257200" y="3763800"/>
                <a:ext cx="468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2257560" y="3763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2257560" y="3763800"/>
                <a:ext cx="1440" cy="50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2257560" y="37688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 flipH="1">
                <a:off x="2253960" y="3768840"/>
                <a:ext cx="32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2254320" y="37688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H="1">
                <a:off x="2249280" y="3768840"/>
                <a:ext cx="46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2249640" y="37688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 flipH="1">
                <a:off x="2244600" y="3768840"/>
                <a:ext cx="50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2244600" y="37688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 flipH="1">
                <a:off x="2236680" y="3768840"/>
                <a:ext cx="7920" cy="32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2236680" y="37720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2236680" y="37720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2236680" y="37720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2236680" y="3772080"/>
                <a:ext cx="180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2236680" y="37767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2236680" y="3776760"/>
                <a:ext cx="180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2236680" y="37846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2236680" y="3784680"/>
                <a:ext cx="180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2236680" y="37879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2236680" y="3787920"/>
                <a:ext cx="180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2236680" y="37926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 flipH="1">
                <a:off x="2233080" y="3792600"/>
                <a:ext cx="324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2233440" y="37972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2233440" y="3797280"/>
                <a:ext cx="180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2233440" y="38005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2233440" y="3800520"/>
                <a:ext cx="180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2233440" y="38052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2233440" y="3805200"/>
                <a:ext cx="180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2233440" y="38131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2233440" y="38131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2233440" y="38131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2233440" y="3813120"/>
                <a:ext cx="1800" cy="126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2233440" y="38257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2233440" y="3825720"/>
                <a:ext cx="1800" cy="1116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2233440" y="38368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2233440" y="3836880"/>
                <a:ext cx="324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2236680" y="38448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2236680" y="3844800"/>
                <a:ext cx="1800" cy="97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2236680" y="38545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2236680" y="3854520"/>
                <a:ext cx="180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2236680" y="38624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2236680" y="3862440"/>
                <a:ext cx="180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2236680" y="38703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2236680" y="3870360"/>
                <a:ext cx="504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2241720" y="3878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2241720" y="3878280"/>
                <a:ext cx="1440" cy="126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2241720" y="38908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2241720" y="38908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2241720" y="38908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2241720" y="3890880"/>
                <a:ext cx="144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2241720" y="3898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2241720" y="3898800"/>
                <a:ext cx="144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2241720" y="39020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H="1">
                <a:off x="2236680" y="3902040"/>
                <a:ext cx="504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2236680" y="39099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2236680" y="3909960"/>
                <a:ext cx="180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2236680" y="39146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2236680" y="39146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2236680" y="39146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2236680" y="3914640"/>
                <a:ext cx="180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2236680" y="39225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2236680" y="3922560"/>
                <a:ext cx="1800" cy="50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2236680" y="39276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H="1">
                <a:off x="2233080" y="3927600"/>
                <a:ext cx="324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2233440" y="39355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2233440" y="39355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2233440" y="39355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H="1">
                <a:off x="2228400" y="3935520"/>
                <a:ext cx="468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2228760" y="39387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2228760" y="3938760"/>
                <a:ext cx="180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2228760" y="39434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H="1">
                <a:off x="2223720" y="394344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2224080" y="39481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H="1">
                <a:off x="2220480" y="3948120"/>
                <a:ext cx="324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2220840" y="39513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2220840" y="3951360"/>
                <a:ext cx="180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2220840" y="39560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4" name=""/>
            <p:cNvGrpSpPr/>
            <p:nvPr/>
          </p:nvGrpSpPr>
          <p:grpSpPr>
            <a:xfrm>
              <a:off x="1892160" y="3857400"/>
              <a:ext cx="650880" cy="770040"/>
              <a:chOff x="1892160" y="3857400"/>
              <a:chExt cx="650880" cy="770040"/>
            </a:xfrm>
          </p:grpSpPr>
          <p:sp>
            <p:nvSpPr>
              <p:cNvPr id="2915" name=""/>
              <p:cNvSpPr/>
              <p:nvPr/>
            </p:nvSpPr>
            <p:spPr>
              <a:xfrm flipH="1">
                <a:off x="2215800" y="3956040"/>
                <a:ext cx="468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2216160" y="3959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H="1">
                <a:off x="2212560" y="3959280"/>
                <a:ext cx="324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2212920" y="39639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H="1">
                <a:off x="2207880" y="3963960"/>
                <a:ext cx="468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2208240" y="39718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2208240" y="39718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2208240" y="39718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H="1">
                <a:off x="2203200" y="3971880"/>
                <a:ext cx="468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2203560" y="39718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H="1">
                <a:off x="2195640" y="3971880"/>
                <a:ext cx="792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2195640" y="39718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H="1">
                <a:off x="2192040" y="3971880"/>
                <a:ext cx="32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2192400" y="39718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H="1">
                <a:off x="2187360" y="3971880"/>
                <a:ext cx="468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2187720" y="39718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H="1">
                <a:off x="2184120" y="3971880"/>
                <a:ext cx="32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2184480" y="39718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H="1">
                <a:off x="2179440" y="3971880"/>
                <a:ext cx="468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2179800" y="39718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H="1">
                <a:off x="2174760" y="3971880"/>
                <a:ext cx="50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2174760" y="39718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H="1">
                <a:off x="2166840" y="3971880"/>
                <a:ext cx="792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2166840" y="39718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2166840" y="39718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166840" y="39718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H="1" flipV="1">
                <a:off x="2158920" y="3966840"/>
                <a:ext cx="7920" cy="46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158920" y="39672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H="1" flipV="1">
                <a:off x="2151000" y="395928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151000" y="39592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H="1" flipV="1">
                <a:off x="2145960" y="3955680"/>
                <a:ext cx="468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2146320" y="39560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H="1">
                <a:off x="2142720" y="3956040"/>
                <a:ext cx="32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2143080" y="39560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H="1" flipV="1">
                <a:off x="2138040" y="395100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2138400" y="39513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H="1" flipV="1">
                <a:off x="2130480" y="3947760"/>
                <a:ext cx="7920" cy="32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130480" y="39481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H="1" flipV="1">
                <a:off x="2125440" y="3938760"/>
                <a:ext cx="4680" cy="93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125800" y="39387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H="1" flipV="1">
                <a:off x="2117880" y="3935160"/>
                <a:ext cx="7920" cy="32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2117880" y="3935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2117880" y="3935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2117880" y="3935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H="1" flipV="1">
                <a:off x="2104920" y="3922560"/>
                <a:ext cx="12960" cy="129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2104920" y="39225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 flipH="1" flipV="1">
                <a:off x="2093400" y="3914640"/>
                <a:ext cx="1116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093760" y="39146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H="1" flipV="1">
                <a:off x="2088720" y="390960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089080" y="39099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H="1" flipV="1">
                <a:off x="2081160" y="390204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2081160" y="39020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H="1" flipV="1">
                <a:off x="2073240" y="3898440"/>
                <a:ext cx="7920" cy="32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2073240" y="38988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H="1" flipV="1">
                <a:off x="2065320" y="389088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2065320" y="38908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H="1" flipV="1">
                <a:off x="2055960" y="3882960"/>
                <a:ext cx="936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2055960" y="38829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H="1" flipV="1">
                <a:off x="2044440" y="3873600"/>
                <a:ext cx="11160" cy="93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2044800" y="38736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2044800" y="38736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2044800" y="38736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H="1" flipV="1">
                <a:off x="2039760" y="3870000"/>
                <a:ext cx="504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2039760" y="38703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H="1" flipV="1">
                <a:off x="2034720" y="386532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2035080" y="38656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H="1" flipV="1">
                <a:off x="2031480" y="3862080"/>
                <a:ext cx="324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2031840" y="38624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H="1" flipV="1">
                <a:off x="2026800" y="385740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2027160" y="38577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H="1">
                <a:off x="2023560" y="3857760"/>
                <a:ext cx="32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2023920" y="38577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H="1">
                <a:off x="2018880" y="3857760"/>
                <a:ext cx="46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2019240" y="38577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H="1">
                <a:off x="2015640" y="3857760"/>
                <a:ext cx="324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2016000" y="38624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2016000" y="38624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2016000" y="38624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H="1">
                <a:off x="2010960" y="3862440"/>
                <a:ext cx="468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2011320" y="38656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H="1">
                <a:off x="2006280" y="386568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2006640" y="38703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2006640" y="38703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2006640" y="38703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2006640" y="3870360"/>
                <a:ext cx="1440" cy="126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2006640" y="38829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2006640" y="3882960"/>
                <a:ext cx="144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2006640" y="38862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006640" y="3886200"/>
                <a:ext cx="144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2006640" y="38941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H="1">
                <a:off x="2003040" y="3894120"/>
                <a:ext cx="324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2003400" y="3898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2003400" y="3898800"/>
                <a:ext cx="144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2003400" y="39020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2003400" y="3902040"/>
                <a:ext cx="144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2003400" y="39099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2003400" y="3909960"/>
                <a:ext cx="144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2003400" y="39146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H="1">
                <a:off x="1998360" y="3914640"/>
                <a:ext cx="4680" cy="129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1998720" y="39276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1998720" y="39276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1998720" y="39276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1998720" y="3927600"/>
                <a:ext cx="1440" cy="28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1998720" y="39304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1995120" y="3930480"/>
                <a:ext cx="3240" cy="50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1995480" y="39355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1995480" y="3935520"/>
                <a:ext cx="144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1995480" y="39387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1995480" y="3938760"/>
                <a:ext cx="144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1995480" y="39434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H="1">
                <a:off x="1990440" y="394344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1990800" y="39481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1990800" y="39481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1990800" y="39481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H="1">
                <a:off x="1985760" y="3948120"/>
                <a:ext cx="468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1986120" y="39560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1986120" y="3956040"/>
                <a:ext cx="144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1986120" y="3959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1986120" y="3959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1986120" y="39592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H="1">
                <a:off x="1982520" y="3959280"/>
                <a:ext cx="324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1982880" y="39672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H="1">
                <a:off x="1977840" y="396720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1978200" y="39718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H="1">
                <a:off x="1974600" y="3971880"/>
                <a:ext cx="324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1974960" y="39765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1974960" y="3976560"/>
                <a:ext cx="144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1974960" y="39798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H="1">
                <a:off x="1969920" y="3979800"/>
                <a:ext cx="50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1969920" y="39798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H="1">
                <a:off x="1967040" y="3979800"/>
                <a:ext cx="28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1967040" y="39844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1967040" y="3984480"/>
                <a:ext cx="144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1967040" y="39924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 flipH="1">
                <a:off x="1962000" y="3992400"/>
                <a:ext cx="504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1962000" y="39956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1962000" y="39956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1962000" y="39956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H="1">
                <a:off x="1954080" y="3995640"/>
                <a:ext cx="792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1954080" y="39956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H="1">
                <a:off x="1949040" y="3995640"/>
                <a:ext cx="4680" cy="50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1949400" y="40006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H="1">
                <a:off x="1945800" y="4000680"/>
                <a:ext cx="32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1946160" y="40006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flipH="1">
                <a:off x="1941120" y="4000680"/>
                <a:ext cx="46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1941480" y="40006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1941480" y="40006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1941480" y="40006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 flipH="1">
                <a:off x="1936440" y="400068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1936800" y="40053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H="1">
                <a:off x="1933200" y="4005360"/>
                <a:ext cx="32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1933560" y="40053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flipH="1">
                <a:off x="1925640" y="4005360"/>
                <a:ext cx="792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1925640" y="40053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1925640" y="40053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1925640" y="40053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H="1" flipV="1">
                <a:off x="1920600" y="400032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1920960" y="40006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H="1">
                <a:off x="1915920" y="4000680"/>
                <a:ext cx="46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1916280" y="40006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H="1" flipV="1">
                <a:off x="1912680" y="3995640"/>
                <a:ext cx="3240" cy="50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1913040" y="39956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flipH="1">
                <a:off x="1908000" y="3995640"/>
                <a:ext cx="50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1908000" y="39956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H="1" flipV="1">
                <a:off x="1905120" y="3992040"/>
                <a:ext cx="288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1905120" y="39924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H="1">
                <a:off x="1900080" y="3992400"/>
                <a:ext cx="50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1900080" y="39924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 flipH="1" flipV="1">
                <a:off x="1897200" y="3987360"/>
                <a:ext cx="28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1897200" y="39877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H="1" flipV="1">
                <a:off x="1892160" y="3984120"/>
                <a:ext cx="504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2536920" y="4351320"/>
                <a:ext cx="46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2541600" y="43639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2541600" y="4363920"/>
                <a:ext cx="1440" cy="1116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2541600" y="43750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2541600" y="4375080"/>
                <a:ext cx="1440" cy="158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2541600" y="43909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2541600" y="4390920"/>
                <a:ext cx="1440" cy="1296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2541600" y="44038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2541600" y="4403880"/>
                <a:ext cx="1440" cy="126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2541600" y="44164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flipH="1">
                <a:off x="2536560" y="4416480"/>
                <a:ext cx="46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2536920" y="44290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2536920" y="4429080"/>
                <a:ext cx="1440" cy="158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2536920" y="44449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H="1">
                <a:off x="2529000" y="4444920"/>
                <a:ext cx="7920" cy="129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2529000" y="44578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 flipH="1">
                <a:off x="2521080" y="4457880"/>
                <a:ext cx="7920" cy="237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2521080" y="44816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H="1">
                <a:off x="2503080" y="4481640"/>
                <a:ext cx="17640" cy="284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2503440" y="45100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flipH="1">
                <a:off x="2487600" y="4510080"/>
                <a:ext cx="15840" cy="237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2487600" y="45338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H="1">
                <a:off x="2461680" y="4533840"/>
                <a:ext cx="25560" cy="255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2462040" y="45594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H="1">
                <a:off x="2438280" y="4559400"/>
                <a:ext cx="23760" cy="237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2438280" y="45831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 flipH="1">
                <a:off x="2413080" y="4583160"/>
                <a:ext cx="25200" cy="2520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2413080" y="46083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 flipH="1">
                <a:off x="2381400" y="4608360"/>
                <a:ext cx="31680" cy="190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15" name=""/>
            <p:cNvGrpSpPr/>
            <p:nvPr/>
          </p:nvGrpSpPr>
          <p:grpSpPr>
            <a:xfrm>
              <a:off x="1510920" y="4184280"/>
              <a:ext cx="1027440" cy="551160"/>
              <a:chOff x="1510920" y="4184280"/>
              <a:chExt cx="1027440" cy="551160"/>
            </a:xfrm>
          </p:grpSpPr>
          <p:sp>
            <p:nvSpPr>
              <p:cNvPr id="3116" name=""/>
              <p:cNvSpPr/>
              <p:nvPr/>
            </p:nvSpPr>
            <p:spPr>
              <a:xfrm>
                <a:off x="2381400" y="46274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 flipH="1">
                <a:off x="2347560" y="4627440"/>
                <a:ext cx="33480" cy="208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347920" y="4648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H="1">
                <a:off x="2314080" y="4648320"/>
                <a:ext cx="33480" cy="205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314440" y="46688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flipH="1">
                <a:off x="2277720" y="4668840"/>
                <a:ext cx="36360" cy="158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2278080" y="46846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 flipH="1">
                <a:off x="2236320" y="4684680"/>
                <a:ext cx="4140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2236680" y="46972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H="1">
                <a:off x="2195640" y="4697280"/>
                <a:ext cx="41040" cy="129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2195640" y="47102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2195640" y="47102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2195640" y="47102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H="1">
                <a:off x="2153880" y="4710240"/>
                <a:ext cx="4140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2154240" y="47214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 flipH="1">
                <a:off x="2114640" y="4721400"/>
                <a:ext cx="3960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2114640" y="47260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flipH="1">
                <a:off x="2072880" y="4726080"/>
                <a:ext cx="4140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073240" y="47340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>
                <a:off x="2031480" y="4734000"/>
                <a:ext cx="414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2031840" y="47340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flipH="1">
                <a:off x="1995120" y="4734000"/>
                <a:ext cx="3636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1995480" y="47340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 flipH="1" flipV="1">
                <a:off x="1957320" y="4730400"/>
                <a:ext cx="3816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1957320" y="47307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H="1" flipV="1">
                <a:off x="1920600" y="4721400"/>
                <a:ext cx="36360" cy="936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1920960" y="47214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flipH="1" flipV="1">
                <a:off x="1887120" y="4712760"/>
                <a:ext cx="33480" cy="828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1887480" y="47131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H="1" flipV="1">
                <a:off x="1855800" y="4702320"/>
                <a:ext cx="31680" cy="108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1855800" y="4702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 flipH="1" flipV="1">
                <a:off x="1827000" y="4689360"/>
                <a:ext cx="28440" cy="129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1827360" y="46893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 flipH="1" flipV="1">
                <a:off x="1801440" y="4673520"/>
                <a:ext cx="2556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1801800" y="46735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H="1" flipV="1">
                <a:off x="1778040" y="4656240"/>
                <a:ext cx="23760" cy="172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1778040" y="46562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flipH="1" flipV="1">
                <a:off x="1765080" y="4648320"/>
                <a:ext cx="1260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1765440" y="4648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H="1" flipV="1">
                <a:off x="1757520" y="4636800"/>
                <a:ext cx="7920" cy="111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1757520" y="46371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H="1" flipV="1">
                <a:off x="1747440" y="4627080"/>
                <a:ext cx="9720" cy="97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1747800" y="46274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 flipH="1" flipV="1">
                <a:off x="1739880" y="4615920"/>
                <a:ext cx="7920" cy="111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1739880" y="46162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 flipH="1" flipV="1">
                <a:off x="1731960" y="4603320"/>
                <a:ext cx="7920" cy="1260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1731960" y="46036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 flipH="1" flipV="1">
                <a:off x="1728360" y="4590720"/>
                <a:ext cx="324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1728720" y="45910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flipH="1" flipV="1">
                <a:off x="1723680" y="4579560"/>
                <a:ext cx="468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1724040" y="45799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H="1" flipV="1">
                <a:off x="1719000" y="4566960"/>
                <a:ext cx="46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1719360" y="4567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1719360" y="4567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1719360" y="4567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H="1" flipV="1">
                <a:off x="1715760" y="4554360"/>
                <a:ext cx="3240" cy="129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1716120" y="45543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V="1">
                <a:off x="1716120" y="4541400"/>
                <a:ext cx="1440" cy="126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1716120" y="45417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H="1" flipV="1">
                <a:off x="1711080" y="4530240"/>
                <a:ext cx="468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1711440" y="45306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V="1">
                <a:off x="1711440" y="4514760"/>
                <a:ext cx="1440" cy="158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1711440" y="45147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V="1">
                <a:off x="1711440" y="4501800"/>
                <a:ext cx="46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1716120" y="45021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V="1">
                <a:off x="1716120" y="4489200"/>
                <a:ext cx="1440" cy="126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1716120" y="44895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V="1">
                <a:off x="1716120" y="4473720"/>
                <a:ext cx="3240" cy="1584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1719360" y="44737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 flipV="1">
                <a:off x="1719360" y="4460760"/>
                <a:ext cx="4680" cy="129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1724040" y="44607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 flipV="1">
                <a:off x="1724040" y="4437000"/>
                <a:ext cx="12600" cy="237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1736640" y="44370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 flipV="1">
                <a:off x="1736640" y="4408200"/>
                <a:ext cx="15840" cy="284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1752480" y="44085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 flipV="1">
                <a:off x="1752480" y="4382640"/>
                <a:ext cx="15840" cy="255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1768320" y="43830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flipV="1">
                <a:off x="1768320" y="4359240"/>
                <a:ext cx="20880" cy="237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1789200" y="43592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 flipV="1">
                <a:off x="1789200" y="4335480"/>
                <a:ext cx="25200" cy="237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1814400" y="43354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 flipV="1">
                <a:off x="1814400" y="4309560"/>
                <a:ext cx="28800" cy="2556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1843200" y="43099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 flipV="1">
                <a:off x="1843200" y="4289040"/>
                <a:ext cx="28440" cy="205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1871640" y="42894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 flipV="1">
                <a:off x="1871640" y="4268520"/>
                <a:ext cx="33480" cy="205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1905120" y="42688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 flipV="1">
                <a:off x="1905120" y="4249440"/>
                <a:ext cx="36360" cy="190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1941480" y="42498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 flipV="1">
                <a:off x="1941480" y="4231800"/>
                <a:ext cx="36720" cy="176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1978200" y="42321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 flipV="1">
                <a:off x="1978200" y="4220640"/>
                <a:ext cx="4104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2019240" y="42210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 flipV="1">
                <a:off x="2019240" y="4208040"/>
                <a:ext cx="4140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2060640" y="42084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2060640" y="42084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2060640" y="42084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 flipV="1">
                <a:off x="2060640" y="4195440"/>
                <a:ext cx="4104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2101680" y="41958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 flipV="1">
                <a:off x="2101680" y="4192200"/>
                <a:ext cx="4140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2143080" y="41925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 flipV="1">
                <a:off x="2143080" y="4187520"/>
                <a:ext cx="41400" cy="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2184480" y="41878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 flipV="1">
                <a:off x="2184480" y="4184280"/>
                <a:ext cx="3960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2224080" y="41846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2224080" y="4184640"/>
                <a:ext cx="3816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2262240" y="41846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2262240" y="4184640"/>
                <a:ext cx="3636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2298600" y="41878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2298600" y="4187880"/>
                <a:ext cx="3672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2335320" y="41958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2335320" y="4195800"/>
                <a:ext cx="33120" cy="792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2368440" y="42037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2368440" y="4203720"/>
                <a:ext cx="334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2401920" y="42163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2401920" y="4216320"/>
                <a:ext cx="28440" cy="129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2430360" y="42292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2430360" y="4229280"/>
                <a:ext cx="2376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2454120" y="42451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2454120" y="4245120"/>
                <a:ext cx="2556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2479680" y="4260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2479680" y="426096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2487600" y="42688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2487600" y="4268880"/>
                <a:ext cx="12600" cy="1260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2500200" y="42814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2500200" y="428148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2508120" y="42894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2508120" y="4289400"/>
                <a:ext cx="7920" cy="1260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2516040" y="43020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2516040" y="4302000"/>
                <a:ext cx="5040" cy="129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2521080" y="43149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2521080" y="4314960"/>
                <a:ext cx="7920" cy="1080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2529000" y="43257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2529000" y="4325760"/>
                <a:ext cx="3240" cy="129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2532240" y="43387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2532240" y="4338720"/>
                <a:ext cx="4680" cy="1260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2536920" y="4351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 flipH="1">
                <a:off x="1674720" y="4551480"/>
                <a:ext cx="12960" cy="288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1674720" y="45543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H="1">
                <a:off x="1666800" y="4554360"/>
                <a:ext cx="7920" cy="50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1666800" y="45594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 flipH="1">
                <a:off x="1658880" y="4559400"/>
                <a:ext cx="792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1658880" y="45594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 flipH="1" flipV="1">
                <a:off x="1649520" y="4554360"/>
                <a:ext cx="9360" cy="50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1649520" y="45543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 flipH="1">
                <a:off x="1641600" y="4554360"/>
                <a:ext cx="792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1641600" y="45543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 flipH="1" flipV="1">
                <a:off x="1633680" y="454644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1633680" y="45464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 flipH="1" flipV="1">
                <a:off x="1625760" y="4541400"/>
                <a:ext cx="7920" cy="46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1625760" y="45417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 flipH="1" flipV="1">
                <a:off x="1620720" y="4533840"/>
                <a:ext cx="504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1620720" y="45338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 flipH="1" flipV="1">
                <a:off x="1609200" y="4518000"/>
                <a:ext cx="11160" cy="158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1609560" y="45180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 flipH="1" flipV="1">
                <a:off x="1592280" y="4497120"/>
                <a:ext cx="17280" cy="205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1592280" y="44974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 flipH="1" flipV="1">
                <a:off x="1584360" y="448956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1584360" y="44895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 flipH="1" flipV="1">
                <a:off x="1576440" y="448164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1576440" y="44816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 flipH="1" flipV="1">
                <a:off x="1563480" y="4473720"/>
                <a:ext cx="1260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1563840" y="44737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H="1" flipV="1">
                <a:off x="1550880" y="4465800"/>
                <a:ext cx="1296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1550880" y="44658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1550880" y="44658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1550880" y="44658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H="1">
                <a:off x="1547280" y="4465800"/>
                <a:ext cx="32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1547640" y="44658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 flipH="1">
                <a:off x="1542600" y="4465800"/>
                <a:ext cx="46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1542960" y="44658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 flipH="1">
                <a:off x="1539360" y="4465800"/>
                <a:ext cx="32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1539720" y="44658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H="1">
                <a:off x="1534680" y="4465800"/>
                <a:ext cx="4680" cy="28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1535040" y="44686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H="1">
                <a:off x="1530000" y="4468680"/>
                <a:ext cx="468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1530360" y="44686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1530360" y="44686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1530360" y="44686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H="1">
                <a:off x="1522440" y="4468680"/>
                <a:ext cx="792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1522440" y="44686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 flipH="1">
                <a:off x="1518840" y="4468680"/>
                <a:ext cx="3240" cy="50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1519200" y="44737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1519200" y="44737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1519200" y="44737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1519200" y="4473720"/>
                <a:ext cx="1800" cy="28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1519200" y="44766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1519200" y="4476600"/>
                <a:ext cx="1800" cy="97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1519200" y="44863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 flipH="1">
                <a:off x="1514160" y="4486320"/>
                <a:ext cx="468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1514520" y="44895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1514520" y="4489560"/>
                <a:ext cx="144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1514520" y="44942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1514520" y="4494240"/>
                <a:ext cx="144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1514520" y="44974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1514520" y="4497480"/>
                <a:ext cx="144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1514520" y="45021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1514520" y="4502160"/>
                <a:ext cx="144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1514520" y="45054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 flipH="1">
                <a:off x="1510920" y="4505400"/>
                <a:ext cx="3240" cy="936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16" name=""/>
            <p:cNvGrpSpPr/>
            <p:nvPr/>
          </p:nvGrpSpPr>
          <p:grpSpPr>
            <a:xfrm>
              <a:off x="1211400" y="4514760"/>
              <a:ext cx="312480" cy="192240"/>
              <a:chOff x="1211400" y="4514760"/>
              <a:chExt cx="312480" cy="192240"/>
            </a:xfrm>
          </p:grpSpPr>
          <p:sp>
            <p:nvSpPr>
              <p:cNvPr id="3317" name=""/>
              <p:cNvSpPr/>
              <p:nvPr/>
            </p:nvSpPr>
            <p:spPr>
              <a:xfrm>
                <a:off x="1511280" y="45147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1511280" y="45147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1511280" y="45147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1511280" y="4514760"/>
                <a:ext cx="324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1514520" y="45259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1514520" y="4525920"/>
                <a:ext cx="1440" cy="126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1514520" y="45385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1514520" y="4538520"/>
                <a:ext cx="144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1514520" y="45464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1514520" y="4546440"/>
                <a:ext cx="468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1519200" y="45543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1519200" y="4554360"/>
                <a:ext cx="1800" cy="82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1519200" y="45626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1519200" y="4562640"/>
                <a:ext cx="180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1519200" y="45705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1519200" y="4570560"/>
                <a:ext cx="1800" cy="936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1519200" y="45799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1519200" y="4579920"/>
                <a:ext cx="3240" cy="11160"/>
              </a:xfrm>
              <a:prstGeom prst="line">
                <a:avLst/>
              </a:prstGeom>
              <a:ln w="65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1522440" y="45910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1522440" y="45910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1522440" y="45910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H="1">
                <a:off x="1518840" y="4591080"/>
                <a:ext cx="324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1519200" y="45990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1519200" y="4599000"/>
                <a:ext cx="180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1519200" y="46036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1519200" y="4603680"/>
                <a:ext cx="180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1519200" y="46116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1519200" y="4611600"/>
                <a:ext cx="180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1519200" y="46162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1519200" y="4616280"/>
                <a:ext cx="180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1519200" y="46195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1519200" y="4619520"/>
                <a:ext cx="1800" cy="50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1519200" y="46245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flipH="1">
                <a:off x="1514160" y="4624560"/>
                <a:ext cx="4680" cy="28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1514520" y="46274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1514520" y="4627440"/>
                <a:ext cx="1440" cy="97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1514520" y="46371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1514520" y="46371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1514520" y="46371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 flipH="1">
                <a:off x="1510920" y="4637160"/>
                <a:ext cx="324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1511280" y="46404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 flipH="1">
                <a:off x="1506240" y="464040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1506600" y="46450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1506600" y="4645080"/>
                <a:ext cx="144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1506600" y="4648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 flipH="1">
                <a:off x="1501560" y="464832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1501920" y="46530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flipH="1">
                <a:off x="1498320" y="4653000"/>
                <a:ext cx="324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1498680" y="46562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1498680" y="4656240"/>
                <a:ext cx="144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1498680" y="46609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 flipH="1">
                <a:off x="1493640" y="466092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1494000" y="46656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 flipH="1">
                <a:off x="1490400" y="4665600"/>
                <a:ext cx="324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1490760" y="46735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1490760" y="46735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1490760" y="46735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 flipH="1">
                <a:off x="1480680" y="4673520"/>
                <a:ext cx="972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1481040" y="46735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 flipH="1">
                <a:off x="1477440" y="4673520"/>
                <a:ext cx="32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1477800" y="46735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 flipH="1">
                <a:off x="1472760" y="4673520"/>
                <a:ext cx="468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1473120" y="46735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 flipH="1">
                <a:off x="1469520" y="4673520"/>
                <a:ext cx="32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1469880" y="46735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H="1">
                <a:off x="1464840" y="4673520"/>
                <a:ext cx="468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1465200" y="46735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 flipH="1">
                <a:off x="1460160" y="4673520"/>
                <a:ext cx="468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1460520" y="46735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 flipH="1">
                <a:off x="1456920" y="4673520"/>
                <a:ext cx="32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1457280" y="46735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 flipH="1">
                <a:off x="1449360" y="4673520"/>
                <a:ext cx="792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1449360" y="46735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1449360" y="46735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1449360" y="467352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 flipH="1" flipV="1">
                <a:off x="1441440" y="4668480"/>
                <a:ext cx="7920" cy="46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1441440" y="46688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 flipH="1" flipV="1">
                <a:off x="1432080" y="4660920"/>
                <a:ext cx="936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1432080" y="46609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 flipH="1" flipV="1">
                <a:off x="1428480" y="4655880"/>
                <a:ext cx="324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1428840" y="46562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 flipH="1">
                <a:off x="1423800" y="4656240"/>
                <a:ext cx="46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1424160" y="46562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 flipH="1" flipV="1">
                <a:off x="1415520" y="4652640"/>
                <a:ext cx="8280" cy="32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1415880" y="46530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 flipH="1" flipV="1">
                <a:off x="1410840" y="464796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1411200" y="46483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 flipH="1" flipV="1">
                <a:off x="1403280" y="4644720"/>
                <a:ext cx="7920" cy="32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1403280" y="46450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 flipH="1" flipV="1">
                <a:off x="1395360" y="463716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1395360" y="46371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1395360" y="46371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1395360" y="46371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 flipH="1" flipV="1">
                <a:off x="1382400" y="4624200"/>
                <a:ext cx="12600" cy="1260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1382760" y="46245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 flipH="1" flipV="1">
                <a:off x="1374840" y="4615920"/>
                <a:ext cx="7920" cy="82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1374840" y="46162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 flipH="1" flipV="1">
                <a:off x="1366920" y="4611240"/>
                <a:ext cx="7920" cy="46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1366920" y="46116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 flipH="1" flipV="1">
                <a:off x="1361880" y="4603680"/>
                <a:ext cx="4680" cy="79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1362240" y="46036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 flipH="1" flipV="1">
                <a:off x="1353600" y="4598640"/>
                <a:ext cx="8280" cy="468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1353960" y="45990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 flipH="1" flipV="1">
                <a:off x="1346040" y="459108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1346040" y="45910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 flipH="1" flipV="1">
                <a:off x="1338120" y="458316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1338120" y="45831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 flipH="1" flipV="1">
                <a:off x="1325160" y="4575240"/>
                <a:ext cx="1260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1325520" y="45752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1325520" y="45752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1325520" y="45752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 flipH="1" flipV="1">
                <a:off x="1321920" y="4570200"/>
                <a:ext cx="324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1322280" y="45705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 flipH="1" flipV="1">
                <a:off x="1312920" y="4566960"/>
                <a:ext cx="9360" cy="324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1312920" y="4567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 flipH="1" flipV="1">
                <a:off x="1309320" y="4562280"/>
                <a:ext cx="324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1309680" y="45626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 flipH="1" flipV="1">
                <a:off x="1304640" y="4559040"/>
                <a:ext cx="468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1305000" y="45594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H="1">
                <a:off x="1301400" y="4559400"/>
                <a:ext cx="32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1301760" y="45594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 flipH="1">
                <a:off x="1296720" y="4559400"/>
                <a:ext cx="46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1297080" y="45594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1297080" y="4559400"/>
                <a:ext cx="144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1297080" y="45626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 flipH="1">
                <a:off x="1292040" y="4562640"/>
                <a:ext cx="46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1292400" y="456264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1292400" y="4562640"/>
                <a:ext cx="144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1292400" y="4567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 flipH="1">
                <a:off x="1288800" y="4567320"/>
                <a:ext cx="324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1289160" y="45705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1289160" y="45705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1289160" y="45705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1289160" y="4570560"/>
                <a:ext cx="1440" cy="126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1289160" y="458316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 flipH="1">
                <a:off x="1284120" y="4583160"/>
                <a:ext cx="504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1284120" y="45878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1284120" y="4587840"/>
                <a:ext cx="180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1284120" y="459576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1284120" y="4595760"/>
                <a:ext cx="180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1284120" y="45990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1284120" y="4599000"/>
                <a:ext cx="180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1284120" y="46036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1284120" y="4603680"/>
                <a:ext cx="1800" cy="792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1284120" y="46116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 flipH="1">
                <a:off x="1281240" y="4611600"/>
                <a:ext cx="28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1281240" y="46162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1281240" y="4616280"/>
                <a:ext cx="1440" cy="1116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1281240" y="46274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1281240" y="46274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1281240" y="462744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 flipH="1">
                <a:off x="1276200" y="4627440"/>
                <a:ext cx="5040" cy="50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1276200" y="463248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1276200" y="4632480"/>
                <a:ext cx="180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1276200" y="46371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1276200" y="4637160"/>
                <a:ext cx="180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1276200" y="46404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 flipH="1">
                <a:off x="1273320" y="4640400"/>
                <a:ext cx="28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1273320" y="464508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1273320" y="4645080"/>
                <a:ext cx="1440" cy="32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1273320" y="4648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1273320" y="4648320"/>
                <a:ext cx="144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1273320" y="46530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 flipH="1">
                <a:off x="1268280" y="4653000"/>
                <a:ext cx="504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1268280" y="46562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1268280" y="4656240"/>
                <a:ext cx="180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1268280" y="46609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1268280" y="46609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1268280" y="46609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 flipH="1">
                <a:off x="1260360" y="4660920"/>
                <a:ext cx="7920" cy="79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1260360" y="466884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1260360" y="4668840"/>
                <a:ext cx="1800" cy="46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1260360" y="467352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 flipH="1">
                <a:off x="1255320" y="4673520"/>
                <a:ext cx="468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1255680" y="467676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 flipH="1">
                <a:off x="1252080" y="4676760"/>
                <a:ext cx="324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1252440" y="46814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1252440" y="46814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1252440" y="468144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 flipH="1">
                <a:off x="1247400" y="4681440"/>
                <a:ext cx="4680" cy="32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1247760" y="46846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 flipH="1">
                <a:off x="1242720" y="4684680"/>
                <a:ext cx="4680" cy="9720"/>
              </a:xfrm>
              <a:prstGeom prst="line">
                <a:avLst/>
              </a:prstGeom>
              <a:ln w="69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1243080" y="46944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 flipH="1">
                <a:off x="1239480" y="4694400"/>
                <a:ext cx="3240" cy="28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1239840" y="46972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1239840" y="46972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1239840" y="469728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 flipH="1">
                <a:off x="1234800" y="4697280"/>
                <a:ext cx="4680" cy="50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1235160" y="4702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 flipH="1">
                <a:off x="1231560" y="4702320"/>
                <a:ext cx="32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1231920" y="4702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 flipH="1">
                <a:off x="1226880" y="4702320"/>
                <a:ext cx="46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1227240" y="4702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 flipH="1">
                <a:off x="1223640" y="4702320"/>
                <a:ext cx="32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1224000" y="4702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 flipH="1">
                <a:off x="1218960" y="4702320"/>
                <a:ext cx="468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1219320" y="4702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1219320" y="4702320"/>
                <a:ext cx="1440" cy="288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1219320" y="47052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 flipH="1">
                <a:off x="1211400" y="4705200"/>
                <a:ext cx="792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7" name=""/>
            <p:cNvGrpSpPr/>
            <p:nvPr/>
          </p:nvGrpSpPr>
          <p:grpSpPr>
            <a:xfrm>
              <a:off x="1172880" y="3735360"/>
              <a:ext cx="1111680" cy="971640"/>
              <a:chOff x="1172880" y="3735360"/>
              <a:chExt cx="1111680" cy="971640"/>
            </a:xfrm>
          </p:grpSpPr>
          <p:sp>
            <p:nvSpPr>
              <p:cNvPr id="3518" name=""/>
              <p:cNvSpPr/>
              <p:nvPr/>
            </p:nvSpPr>
            <p:spPr>
              <a:xfrm>
                <a:off x="1211400" y="470520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 flipH="1">
                <a:off x="1206360" y="4705200"/>
                <a:ext cx="50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1206360" y="47052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1206360" y="47052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1206360" y="470520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 flipH="1" flipV="1">
                <a:off x="1203480" y="4702320"/>
                <a:ext cx="2880" cy="28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1203480" y="470232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 flipH="1">
                <a:off x="1198440" y="4702320"/>
                <a:ext cx="50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1198440" y="470232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 flipH="1" flipV="1">
                <a:off x="1193400" y="4697280"/>
                <a:ext cx="4680" cy="50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1193760" y="46972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 flipH="1">
                <a:off x="1190160" y="4697280"/>
                <a:ext cx="32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1190520" y="4697280"/>
                <a:ext cx="180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 flipH="1" flipV="1">
                <a:off x="1185480" y="4694400"/>
                <a:ext cx="4680" cy="28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1185840" y="4694400"/>
                <a:ext cx="14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 flipH="1">
                <a:off x="1182240" y="4694400"/>
                <a:ext cx="324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1182600" y="4694400"/>
                <a:ext cx="1800" cy="144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 flipH="1" flipV="1">
                <a:off x="1177560" y="4689360"/>
                <a:ext cx="4680" cy="504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1177920" y="4689360"/>
                <a:ext cx="1440" cy="1800"/>
              </a:xfrm>
              <a:prstGeom prst="line">
                <a:avLst/>
              </a:prstGeom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 flipH="1" flipV="1">
                <a:off x="1172880" y="4684320"/>
                <a:ext cx="4680" cy="468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1424160" y="3784680"/>
                <a:ext cx="28440" cy="1584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1452600" y="380052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1452600" y="3800520"/>
                <a:ext cx="20520" cy="2520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1473120" y="382572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1473120" y="3825720"/>
                <a:ext cx="7920" cy="1116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1481040" y="383688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1481040" y="3836880"/>
                <a:ext cx="9720" cy="1296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1490760" y="384984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1490760" y="3849840"/>
                <a:ext cx="3240" cy="158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1494000" y="386568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1494000" y="3865680"/>
                <a:ext cx="7920" cy="1260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1501920" y="387828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1501920" y="3878280"/>
                <a:ext cx="4680" cy="158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1506600" y="389412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1506600" y="3894120"/>
                <a:ext cx="1440" cy="158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1506600" y="390996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1506600" y="3909960"/>
                <a:ext cx="1440" cy="126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1506600" y="392256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1506600" y="3922560"/>
                <a:ext cx="1440" cy="162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1506600" y="393876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 flipH="1">
                <a:off x="1501560" y="3938760"/>
                <a:ext cx="4680" cy="1728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1501920" y="395604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 flipH="1">
                <a:off x="1498320" y="3956040"/>
                <a:ext cx="3240" cy="158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1498680" y="397188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 flipH="1">
                <a:off x="1493640" y="3971880"/>
                <a:ext cx="4680" cy="158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1494000" y="398772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 flipH="1">
                <a:off x="1486080" y="3987720"/>
                <a:ext cx="7920" cy="1296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1486080" y="400068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1486080" y="400068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1486080" y="400068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 flipH="1">
                <a:off x="1469520" y="4000680"/>
                <a:ext cx="16200" cy="2844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1469880" y="402912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 flipH="1">
                <a:off x="1444680" y="4029120"/>
                <a:ext cx="25200" cy="2052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1444680" y="404964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 flipH="1">
                <a:off x="1431720" y="4049640"/>
                <a:ext cx="12600" cy="792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1432080" y="405756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 flipH="1">
                <a:off x="1420560" y="4057560"/>
                <a:ext cx="11160" cy="792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1420920" y="406548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 flipH="1">
                <a:off x="1402920" y="4065480"/>
                <a:ext cx="17640" cy="792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1403280" y="407340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 flipH="1">
                <a:off x="1391760" y="4073400"/>
                <a:ext cx="11160" cy="504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1392120" y="407844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 flipH="1">
                <a:off x="1374840" y="4078440"/>
                <a:ext cx="17280" cy="288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1374840" y="408132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 flipH="1">
                <a:off x="1359000" y="4081320"/>
                <a:ext cx="158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1359000" y="408132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 flipH="1">
                <a:off x="1346040" y="4081320"/>
                <a:ext cx="1296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1346040" y="408132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 flipH="1">
                <a:off x="1330200" y="4081320"/>
                <a:ext cx="158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1330200" y="408132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 flipH="1">
                <a:off x="1312920" y="4081320"/>
                <a:ext cx="1728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1312920" y="408132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 flipH="1" flipV="1">
                <a:off x="1297080" y="4078440"/>
                <a:ext cx="15840" cy="288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1297080" y="407844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 flipH="1" flipV="1">
                <a:off x="1281240" y="4070520"/>
                <a:ext cx="15840" cy="792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1281240" y="407052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 flipH="1" flipV="1">
                <a:off x="1268280" y="4060440"/>
                <a:ext cx="12960" cy="972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1268280" y="406080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1268280" y="406080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1268280" y="406080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 flipH="1" flipV="1">
                <a:off x="1239480" y="4044960"/>
                <a:ext cx="28440" cy="1584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1239840" y="404496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 flipH="1" flipV="1">
                <a:off x="1218960" y="4021200"/>
                <a:ext cx="20520" cy="2376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1219320" y="402120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 flipH="1" flipV="1">
                <a:off x="1211400" y="4008240"/>
                <a:ext cx="7920" cy="1260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1211400" y="400860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 flipH="1" flipV="1">
                <a:off x="1203480" y="3995640"/>
                <a:ext cx="7920" cy="1296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1203480" y="399564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 flipH="1" flipV="1">
                <a:off x="1193400" y="3979800"/>
                <a:ext cx="9720" cy="1584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1193760" y="397980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 flipH="1" flipV="1">
                <a:off x="1190160" y="3966840"/>
                <a:ext cx="3240" cy="126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1190520" y="396720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 flipH="1" flipV="1">
                <a:off x="1185480" y="3951360"/>
                <a:ext cx="4680" cy="158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1185840" y="395136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 flipV="1">
                <a:off x="1185840" y="3935520"/>
                <a:ext cx="1440" cy="158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1185840" y="393552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 flipV="1">
                <a:off x="1185840" y="3922560"/>
                <a:ext cx="1440" cy="1296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1185840" y="392256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 flipV="1">
                <a:off x="1185840" y="3906720"/>
                <a:ext cx="1440" cy="158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1185840" y="390672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 flipV="1">
                <a:off x="1185840" y="3890880"/>
                <a:ext cx="1440" cy="158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1185840" y="389088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 flipV="1">
                <a:off x="1185840" y="3873600"/>
                <a:ext cx="4680" cy="1728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1190520" y="387360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 flipV="1">
                <a:off x="1190520" y="3862080"/>
                <a:ext cx="7920" cy="1116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1198440" y="386244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 flipV="1">
                <a:off x="1198440" y="3844440"/>
                <a:ext cx="7920" cy="1764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1206360" y="384480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1206360" y="384480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1206360" y="384480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 flipV="1">
                <a:off x="1206360" y="3825360"/>
                <a:ext cx="12960" cy="1908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1219320" y="382572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 flipV="1">
                <a:off x="1219320" y="3808440"/>
                <a:ext cx="12600" cy="1728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1231920" y="380844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V="1">
                <a:off x="1231920" y="3792600"/>
                <a:ext cx="20520" cy="1584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1252440" y="379260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 flipV="1">
                <a:off x="1252440" y="3779640"/>
                <a:ext cx="15840" cy="1260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1273320" y="3768840"/>
                <a:ext cx="155520" cy="1440"/>
              </a:xfrm>
              <a:prstGeom prst="line">
                <a:avLst/>
              </a:prstGeom>
              <a:ln w="363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1273320" y="3797280"/>
                <a:ext cx="155520" cy="1440"/>
              </a:xfrm>
              <a:prstGeom prst="line">
                <a:avLst/>
              </a:prstGeom>
              <a:ln w="363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1252440" y="3740040"/>
                <a:ext cx="28800" cy="10476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 flipH="1">
                <a:off x="1415880" y="3735360"/>
                <a:ext cx="28800" cy="10656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195640" y="4307040"/>
                <a:ext cx="28440" cy="1872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224080" y="432576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224080" y="4325760"/>
                <a:ext cx="20520" cy="2088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244600" y="434664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244600" y="4346640"/>
                <a:ext cx="9720" cy="1260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254320" y="435924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254320" y="4359240"/>
                <a:ext cx="7920" cy="1584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262240" y="437508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2262240" y="4375080"/>
                <a:ext cx="7920" cy="1260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270160" y="438768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2270160" y="4387680"/>
                <a:ext cx="3240" cy="1620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2273400" y="440388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2273400" y="4403880"/>
                <a:ext cx="4680" cy="126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2278080" y="441648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2278080" y="4416480"/>
                <a:ext cx="1440" cy="158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2278080" y="443232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2278080" y="4432320"/>
                <a:ext cx="4680" cy="158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2282760" y="444816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 flipH="1">
                <a:off x="2277720" y="4448160"/>
                <a:ext cx="4680" cy="176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2278080" y="446580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2278080" y="4465800"/>
                <a:ext cx="1440" cy="10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2278080" y="447660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H="1">
                <a:off x="2273040" y="4476600"/>
                <a:ext cx="4680" cy="176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2273400" y="449424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 flipH="1">
                <a:off x="2269800" y="4494240"/>
                <a:ext cx="3240" cy="158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2270160" y="451008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 flipH="1">
                <a:off x="2262240" y="4510080"/>
                <a:ext cx="7920" cy="1584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262240" y="452592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262240" y="452592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2262240" y="452592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 flipH="1">
                <a:off x="2241360" y="4525920"/>
                <a:ext cx="20520" cy="2556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2241720" y="455148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H="1">
                <a:off x="2220840" y="4551480"/>
                <a:ext cx="20880" cy="1908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2220840" y="457056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 flipH="1">
                <a:off x="2207880" y="4570560"/>
                <a:ext cx="12600" cy="1260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2208240" y="458316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 flipH="1">
                <a:off x="2192400" y="4583160"/>
                <a:ext cx="15840" cy="468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2192400" y="458784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 flipH="1">
                <a:off x="2179440" y="4587840"/>
                <a:ext cx="12600" cy="792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2179800" y="459576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 flipH="1">
                <a:off x="2163240" y="4595760"/>
                <a:ext cx="16200" cy="32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163600" y="459900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H="1">
                <a:off x="2146320" y="4599000"/>
                <a:ext cx="17280" cy="468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2146320" y="460368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 flipH="1">
                <a:off x="2134800" y="4603680"/>
                <a:ext cx="11160" cy="468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2135160" y="460836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 flipH="1">
                <a:off x="2117880" y="4608360"/>
                <a:ext cx="1728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2117880" y="460836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 flipH="1">
                <a:off x="2101320" y="4608360"/>
                <a:ext cx="162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2101680" y="460836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 flipH="1" flipV="1">
                <a:off x="2084400" y="4603320"/>
                <a:ext cx="17280" cy="468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2084400" y="460368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 flipH="1" flipV="1">
                <a:off x="2072880" y="4598640"/>
                <a:ext cx="11160" cy="468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2073240" y="459900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 flipH="1" flipV="1">
                <a:off x="2055960" y="4595400"/>
                <a:ext cx="17280" cy="32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2055960" y="459576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 flipH="1" flipV="1">
                <a:off x="2039400" y="4587840"/>
                <a:ext cx="16200" cy="792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2039760" y="458784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2039760" y="458784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2039760" y="458784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 flipH="1" flipV="1">
                <a:off x="2016000" y="4566960"/>
                <a:ext cx="23760" cy="2052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2016000" y="456732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 flipH="1" flipV="1">
                <a:off x="1990800" y="4546440"/>
                <a:ext cx="25200" cy="2088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1990800" y="454644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 flipH="1" flipV="1">
                <a:off x="1982880" y="4533480"/>
                <a:ext cx="7920" cy="1260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1982880" y="453384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 flipH="1" flipV="1">
                <a:off x="1974960" y="4518000"/>
                <a:ext cx="7920" cy="1584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1974960" y="451800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 flipH="1" flipV="1">
                <a:off x="1969920" y="4505040"/>
                <a:ext cx="5040" cy="126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1969920" y="450540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 flipH="1" flipV="1">
                <a:off x="1967040" y="4489560"/>
                <a:ext cx="2880" cy="158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1967040" y="448956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 flipH="1" flipV="1">
                <a:off x="1962000" y="4476600"/>
                <a:ext cx="5040" cy="1296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1962000" y="447660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H="1" flipV="1">
                <a:off x="1956960" y="4460760"/>
                <a:ext cx="4680" cy="158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1957320" y="446076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 flipV="1">
                <a:off x="1957320" y="4444920"/>
                <a:ext cx="1800" cy="158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1957320" y="444492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 flipV="1">
                <a:off x="1957320" y="4429080"/>
                <a:ext cx="1800" cy="158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8" name=""/>
            <p:cNvGrpSpPr/>
            <p:nvPr/>
          </p:nvGrpSpPr>
          <p:grpSpPr>
            <a:xfrm>
              <a:off x="57240" y="-936720"/>
              <a:ext cx="3806640" cy="7775640"/>
              <a:chOff x="57240" y="-936720"/>
              <a:chExt cx="3806640" cy="7775640"/>
            </a:xfrm>
          </p:grpSpPr>
          <p:sp>
            <p:nvSpPr>
              <p:cNvPr id="3719" name=""/>
              <p:cNvSpPr/>
              <p:nvPr/>
            </p:nvSpPr>
            <p:spPr>
              <a:xfrm>
                <a:off x="1957320" y="442908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 flipV="1">
                <a:off x="1957320" y="4411800"/>
                <a:ext cx="4680" cy="1728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1962000" y="441180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 flipV="1">
                <a:off x="1962000" y="4400280"/>
                <a:ext cx="5040" cy="1116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1967040" y="440064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 flipV="1">
                <a:off x="1967040" y="4382640"/>
                <a:ext cx="2880" cy="176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1969920" y="438300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V="1">
                <a:off x="1969920" y="4367160"/>
                <a:ext cx="8280" cy="1584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1978200" y="436716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1978200" y="436716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1978200" y="436716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 flipV="1">
                <a:off x="1978200" y="4346280"/>
                <a:ext cx="12600" cy="2052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1990800" y="434664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 flipV="1">
                <a:off x="1990800" y="4330800"/>
                <a:ext cx="15840" cy="1584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2006640" y="433080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 flipV="1">
                <a:off x="2006640" y="4317840"/>
                <a:ext cx="17280" cy="1296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2023920" y="431784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 flipV="1">
                <a:off x="2023920" y="4307040"/>
                <a:ext cx="20880" cy="1080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2048040" y="4289400"/>
                <a:ext cx="152280" cy="1440"/>
              </a:xfrm>
              <a:prstGeom prst="line">
                <a:avLst/>
              </a:prstGeom>
              <a:ln w="363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2048040" y="4322880"/>
                <a:ext cx="152280" cy="1440"/>
              </a:xfrm>
              <a:prstGeom prst="line">
                <a:avLst/>
              </a:prstGeom>
              <a:ln w="363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2023920" y="4265640"/>
                <a:ext cx="28800" cy="1062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 flipH="1">
                <a:off x="2187360" y="4257720"/>
                <a:ext cx="28440" cy="1094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2778120" y="3592440"/>
                <a:ext cx="152280" cy="1800"/>
              </a:xfrm>
              <a:prstGeom prst="line">
                <a:avLst/>
              </a:prstGeom>
              <a:ln w="363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2778120" y="3625920"/>
                <a:ext cx="152280" cy="1440"/>
              </a:xfrm>
              <a:prstGeom prst="line">
                <a:avLst/>
              </a:prstGeom>
              <a:ln w="36360">
                <a:solidFill>
                  <a:srgbClr val="48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2930400" y="3605040"/>
                <a:ext cx="28800" cy="2088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2959200" y="362592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2959200" y="3625920"/>
                <a:ext cx="20520" cy="2052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2979720" y="364644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2979720" y="3646440"/>
                <a:ext cx="7920" cy="1116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2987640" y="365760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2987640" y="3657600"/>
                <a:ext cx="9720" cy="1764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2997360" y="367524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2997360" y="3675240"/>
                <a:ext cx="7920" cy="1080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005280" y="368604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005280" y="3686040"/>
                <a:ext cx="2880" cy="176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008160" y="370368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008160" y="3703680"/>
                <a:ext cx="5040" cy="1116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013200" y="371484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013200" y="3714840"/>
                <a:ext cx="1440" cy="1728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3013200" y="373212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3013200" y="3732120"/>
                <a:ext cx="1440" cy="158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3013200" y="374796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3013200" y="3747960"/>
                <a:ext cx="1440" cy="158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3013200" y="376380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3013200" y="3763800"/>
                <a:ext cx="1440" cy="1296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3013200" y="377676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 flipH="1">
                <a:off x="3008160" y="3776760"/>
                <a:ext cx="5040" cy="158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3008160" y="379260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 flipH="1">
                <a:off x="3000240" y="3792600"/>
                <a:ext cx="7920" cy="1584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3000240" y="380844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 flipH="1">
                <a:off x="2992320" y="3808440"/>
                <a:ext cx="7920" cy="1728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2992320" y="382572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2992320" y="382572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2992320" y="382572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 flipH="1">
                <a:off x="2976480" y="3825720"/>
                <a:ext cx="15840" cy="2412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2976480" y="384984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 flipH="1">
                <a:off x="2951280" y="3849840"/>
                <a:ext cx="25200" cy="2052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2951280" y="387036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 flipH="1">
                <a:off x="2938320" y="3870360"/>
                <a:ext cx="12960" cy="1260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2938320" y="388296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 flipH="1">
                <a:off x="2927520" y="3882960"/>
                <a:ext cx="10800" cy="324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2927520" y="388620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flipH="1">
                <a:off x="2909520" y="3886200"/>
                <a:ext cx="17640" cy="792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2909880" y="389412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 flipH="1">
                <a:off x="2896920" y="3894120"/>
                <a:ext cx="12600" cy="468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2897280" y="389880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 flipH="1">
                <a:off x="2881440" y="3898800"/>
                <a:ext cx="15840" cy="32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2881440" y="390204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 flipH="1">
                <a:off x="2865600" y="3902040"/>
                <a:ext cx="15840" cy="468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2865600" y="390672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 flipH="1">
                <a:off x="2852640" y="3906720"/>
                <a:ext cx="1296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2852640" y="390672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 flipH="1">
                <a:off x="2836800" y="3906720"/>
                <a:ext cx="158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2836800" y="390672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 flipH="1" flipV="1">
                <a:off x="2819520" y="3901680"/>
                <a:ext cx="17280" cy="468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2819520" y="390204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 flipH="1" flipV="1">
                <a:off x="2803680" y="3898440"/>
                <a:ext cx="15840" cy="32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2803680" y="389880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 flipH="1" flipV="1">
                <a:off x="2790720" y="3893760"/>
                <a:ext cx="12960" cy="468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2790720" y="389412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 flipH="1" flipV="1">
                <a:off x="2774880" y="3886200"/>
                <a:ext cx="15840" cy="792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2774880" y="388620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2774880" y="388620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2774880" y="388620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 flipH="1" flipV="1">
                <a:off x="2746080" y="3865320"/>
                <a:ext cx="28440" cy="2052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746440" y="386568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 flipH="1" flipV="1">
                <a:off x="2725560" y="3844800"/>
                <a:ext cx="20880" cy="2088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725560" y="384480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 flipH="1" flipV="1">
                <a:off x="2717640" y="3833280"/>
                <a:ext cx="7920" cy="1116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2717640" y="3833640"/>
                <a:ext cx="180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 flipH="1" flipV="1">
                <a:off x="2709720" y="3816360"/>
                <a:ext cx="7920" cy="1728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2709720" y="381636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 flipH="1" flipV="1">
                <a:off x="2700360" y="3804840"/>
                <a:ext cx="9360" cy="1116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2700360" y="380520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 flipH="1" flipV="1">
                <a:off x="2696760" y="3787920"/>
                <a:ext cx="3240" cy="1728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2697120" y="378792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 flipH="1" flipV="1">
                <a:off x="2692080" y="3776400"/>
                <a:ext cx="4680" cy="1116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2692440" y="377676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 flipV="1">
                <a:off x="2692440" y="3758760"/>
                <a:ext cx="1440" cy="176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2692440" y="375912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 flipV="1">
                <a:off x="2692440" y="3743280"/>
                <a:ext cx="1440" cy="158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2692440" y="3743280"/>
                <a:ext cx="1440" cy="180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 flipV="1">
                <a:off x="2692440" y="3727440"/>
                <a:ext cx="1440" cy="158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2692440" y="372744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 flipV="1">
                <a:off x="2692440" y="3711600"/>
                <a:ext cx="1440" cy="158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2692440" y="371160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 flipV="1">
                <a:off x="2692440" y="3698640"/>
                <a:ext cx="4680" cy="126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2697120" y="369900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V="1">
                <a:off x="2697120" y="3683160"/>
                <a:ext cx="7920" cy="1584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2705040" y="368316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 flipV="1">
                <a:off x="2705040" y="3665160"/>
                <a:ext cx="7920" cy="1764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712960" y="366552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2712960" y="366552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2712960" y="366552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 flipV="1">
                <a:off x="2712960" y="3649680"/>
                <a:ext cx="12600" cy="1584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2725560" y="364968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 flipV="1">
                <a:off x="2725560" y="3628800"/>
                <a:ext cx="12960" cy="2052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2738520" y="3629160"/>
                <a:ext cx="144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 flipV="1">
                <a:off x="2738520" y="3617640"/>
                <a:ext cx="20520" cy="1116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759040" y="3618000"/>
                <a:ext cx="1800" cy="1440"/>
              </a:xfrm>
              <a:prstGeom prst="line">
                <a:avLst/>
              </a:prstGeom>
              <a:ln w="36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 flipV="1">
                <a:off x="2759040" y="3605040"/>
                <a:ext cx="19080" cy="12960"/>
              </a:xfrm>
              <a:prstGeom prst="line">
                <a:avLst/>
              </a:prstGeom>
              <a:ln w="49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759040" y="3564000"/>
                <a:ext cx="28440" cy="1062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 flipH="1">
                <a:off x="2922480" y="3556080"/>
                <a:ext cx="28800" cy="10944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85680" y="46080"/>
                <a:ext cx="3776760" cy="1440"/>
              </a:xfrm>
              <a:prstGeom prst="line">
                <a:avLst/>
              </a:prstGeom>
              <a:ln w="69840">
                <a:solidFill>
                  <a:srgbClr val="ff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3862440" y="46080"/>
                <a:ext cx="1440" cy="1440"/>
              </a:xfrm>
              <a:prstGeom prst="line">
                <a:avLst/>
              </a:prstGeom>
              <a:ln w="69840">
                <a:solidFill>
                  <a:srgbClr val="ff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3862440" y="46080"/>
                <a:ext cx="1440" cy="6791400"/>
              </a:xfrm>
              <a:prstGeom prst="line">
                <a:avLst/>
              </a:prstGeom>
              <a:ln w="69840">
                <a:solidFill>
                  <a:srgbClr val="ff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3862440" y="6837480"/>
                <a:ext cx="1440" cy="1440"/>
              </a:xfrm>
              <a:prstGeom prst="line">
                <a:avLst/>
              </a:prstGeom>
              <a:ln w="69840">
                <a:solidFill>
                  <a:srgbClr val="ff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 flipH="1">
                <a:off x="85320" y="6837480"/>
                <a:ext cx="3776760" cy="1440"/>
              </a:xfrm>
              <a:prstGeom prst="line">
                <a:avLst/>
              </a:prstGeom>
              <a:ln w="69840">
                <a:solidFill>
                  <a:srgbClr val="ff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85680" y="6837480"/>
                <a:ext cx="1800" cy="1440"/>
              </a:xfrm>
              <a:prstGeom prst="line">
                <a:avLst/>
              </a:prstGeom>
              <a:ln w="69840">
                <a:solidFill>
                  <a:srgbClr val="ff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flipV="1">
                <a:off x="85680" y="45720"/>
                <a:ext cx="1800" cy="6791400"/>
              </a:xfrm>
              <a:prstGeom prst="line">
                <a:avLst/>
              </a:prstGeom>
              <a:ln w="69840">
                <a:solidFill>
                  <a:srgbClr val="ff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85680" y="46080"/>
                <a:ext cx="1800" cy="1440"/>
              </a:xfrm>
              <a:prstGeom prst="line">
                <a:avLst/>
              </a:prstGeom>
              <a:ln w="69840">
                <a:solidFill>
                  <a:srgbClr val="ff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82440" y="42840"/>
                <a:ext cx="3775320" cy="1440"/>
              </a:xfrm>
              <a:prstGeom prst="line">
                <a:avLst/>
              </a:prstGeom>
              <a:ln w="61920">
                <a:solidFill>
                  <a:srgbClr val="e9ce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3857760" y="42840"/>
                <a:ext cx="1440" cy="1440"/>
              </a:xfrm>
              <a:prstGeom prst="line">
                <a:avLst/>
              </a:prstGeom>
              <a:ln w="61920">
                <a:solidFill>
                  <a:srgbClr val="e9ce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3857760" y="42840"/>
                <a:ext cx="1440" cy="6791400"/>
              </a:xfrm>
              <a:prstGeom prst="line">
                <a:avLst/>
              </a:prstGeom>
              <a:ln w="61920">
                <a:solidFill>
                  <a:srgbClr val="e9ce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3857760" y="6834240"/>
                <a:ext cx="1440" cy="1440"/>
              </a:xfrm>
              <a:prstGeom prst="line">
                <a:avLst/>
              </a:prstGeom>
              <a:ln w="61920">
                <a:solidFill>
                  <a:srgbClr val="e9ce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H="1">
                <a:off x="82080" y="6834240"/>
                <a:ext cx="3775320" cy="1440"/>
              </a:xfrm>
              <a:prstGeom prst="line">
                <a:avLst/>
              </a:prstGeom>
              <a:ln w="61920">
                <a:solidFill>
                  <a:srgbClr val="e9ce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82440" y="6834240"/>
                <a:ext cx="1800" cy="1440"/>
              </a:xfrm>
              <a:prstGeom prst="line">
                <a:avLst/>
              </a:prstGeom>
              <a:ln w="61920">
                <a:solidFill>
                  <a:srgbClr val="e9ce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 flipV="1">
                <a:off x="82440" y="42480"/>
                <a:ext cx="1800" cy="6791400"/>
              </a:xfrm>
              <a:prstGeom prst="line">
                <a:avLst/>
              </a:prstGeom>
              <a:ln w="61920">
                <a:solidFill>
                  <a:srgbClr val="e9ce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82440" y="42840"/>
                <a:ext cx="1800" cy="1440"/>
              </a:xfrm>
              <a:prstGeom prst="line">
                <a:avLst/>
              </a:prstGeom>
              <a:ln w="61920">
                <a:solidFill>
                  <a:srgbClr val="e9ce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77760" y="38160"/>
                <a:ext cx="3776760" cy="1440"/>
              </a:xfrm>
              <a:prstGeom prst="line">
                <a:avLst/>
              </a:prstGeom>
              <a:ln w="54000">
                <a:solidFill>
                  <a:srgbClr val="cab4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3854520" y="38160"/>
                <a:ext cx="1440" cy="1440"/>
              </a:xfrm>
              <a:prstGeom prst="line">
                <a:avLst/>
              </a:prstGeom>
              <a:ln w="54000">
                <a:solidFill>
                  <a:srgbClr val="cab4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3854520" y="38160"/>
                <a:ext cx="1440" cy="6791400"/>
              </a:xfrm>
              <a:prstGeom prst="line">
                <a:avLst/>
              </a:prstGeom>
              <a:ln w="54000">
                <a:solidFill>
                  <a:srgbClr val="cab4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3854520" y="6829560"/>
                <a:ext cx="1440" cy="1440"/>
              </a:xfrm>
              <a:prstGeom prst="line">
                <a:avLst/>
              </a:prstGeom>
              <a:ln w="54000">
                <a:solidFill>
                  <a:srgbClr val="cab4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 flipH="1">
                <a:off x="77400" y="6829560"/>
                <a:ext cx="3776760" cy="1440"/>
              </a:xfrm>
              <a:prstGeom prst="line">
                <a:avLst/>
              </a:prstGeom>
              <a:ln w="54000">
                <a:solidFill>
                  <a:srgbClr val="cab4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77760" y="6829560"/>
                <a:ext cx="1440" cy="1440"/>
              </a:xfrm>
              <a:prstGeom prst="line">
                <a:avLst/>
              </a:prstGeom>
              <a:ln w="54000">
                <a:solidFill>
                  <a:srgbClr val="cab4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 flipV="1">
                <a:off x="77760" y="37800"/>
                <a:ext cx="1440" cy="6791400"/>
              </a:xfrm>
              <a:prstGeom prst="line">
                <a:avLst/>
              </a:prstGeom>
              <a:ln w="54000">
                <a:solidFill>
                  <a:srgbClr val="cab4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77760" y="38160"/>
                <a:ext cx="1440" cy="1440"/>
              </a:xfrm>
              <a:prstGeom prst="line">
                <a:avLst/>
              </a:prstGeom>
              <a:ln w="54000">
                <a:solidFill>
                  <a:srgbClr val="cab4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74520" y="34920"/>
                <a:ext cx="3775320" cy="1440"/>
              </a:xfrm>
              <a:prstGeom prst="line">
                <a:avLst/>
              </a:prstGeom>
              <a:ln w="44280">
                <a:solidFill>
                  <a:srgbClr val="ab9b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3849840" y="34920"/>
                <a:ext cx="1440" cy="1440"/>
              </a:xfrm>
              <a:prstGeom prst="line">
                <a:avLst/>
              </a:prstGeom>
              <a:ln w="44280">
                <a:solidFill>
                  <a:srgbClr val="ab9b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3849840" y="34920"/>
                <a:ext cx="1440" cy="6789600"/>
              </a:xfrm>
              <a:prstGeom prst="line">
                <a:avLst/>
              </a:prstGeom>
              <a:ln w="44280">
                <a:solidFill>
                  <a:srgbClr val="ab9b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3849840" y="6824520"/>
                <a:ext cx="1440" cy="1800"/>
              </a:xfrm>
              <a:prstGeom prst="line">
                <a:avLst/>
              </a:prstGeom>
              <a:ln w="44280">
                <a:solidFill>
                  <a:srgbClr val="ab9b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 flipH="1">
                <a:off x="74160" y="6824520"/>
                <a:ext cx="3775320" cy="1800"/>
              </a:xfrm>
              <a:prstGeom prst="line">
                <a:avLst/>
              </a:prstGeom>
              <a:ln w="44280">
                <a:solidFill>
                  <a:srgbClr val="ab9b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74520" y="6824520"/>
                <a:ext cx="1800" cy="1800"/>
              </a:xfrm>
              <a:prstGeom prst="line">
                <a:avLst/>
              </a:prstGeom>
              <a:ln w="44280">
                <a:solidFill>
                  <a:srgbClr val="ab9b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flipV="1">
                <a:off x="74520" y="34920"/>
                <a:ext cx="1800" cy="6789600"/>
              </a:xfrm>
              <a:prstGeom prst="line">
                <a:avLst/>
              </a:prstGeom>
              <a:ln w="44280">
                <a:solidFill>
                  <a:srgbClr val="ab9b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74520" y="34920"/>
                <a:ext cx="1800" cy="1440"/>
              </a:xfrm>
              <a:prstGeom prst="line">
                <a:avLst/>
              </a:prstGeom>
              <a:ln w="44280">
                <a:solidFill>
                  <a:srgbClr val="ab9b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69840" y="30240"/>
                <a:ext cx="3776760" cy="1440"/>
              </a:xfrm>
              <a:prstGeom prst="line">
                <a:avLst/>
              </a:prstGeom>
              <a:ln w="36360">
                <a:solidFill>
                  <a:srgbClr val="887e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3846600" y="30240"/>
                <a:ext cx="1440" cy="1440"/>
              </a:xfrm>
              <a:prstGeom prst="line">
                <a:avLst/>
              </a:prstGeom>
              <a:ln w="36360">
                <a:solidFill>
                  <a:srgbClr val="887e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3846600" y="30240"/>
                <a:ext cx="1440" cy="6791400"/>
              </a:xfrm>
              <a:prstGeom prst="line">
                <a:avLst/>
              </a:prstGeom>
              <a:ln w="36360">
                <a:solidFill>
                  <a:srgbClr val="887e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3846600" y="6821640"/>
                <a:ext cx="1440" cy="1440"/>
              </a:xfrm>
              <a:prstGeom prst="line">
                <a:avLst/>
              </a:prstGeom>
              <a:ln w="36360">
                <a:solidFill>
                  <a:srgbClr val="887e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 flipH="1">
                <a:off x="69480" y="6821640"/>
                <a:ext cx="3776760" cy="1440"/>
              </a:xfrm>
              <a:prstGeom prst="line">
                <a:avLst/>
              </a:prstGeom>
              <a:ln w="36360">
                <a:solidFill>
                  <a:srgbClr val="887e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69840" y="6821640"/>
                <a:ext cx="1440" cy="1440"/>
              </a:xfrm>
              <a:prstGeom prst="line">
                <a:avLst/>
              </a:prstGeom>
              <a:ln w="36360">
                <a:solidFill>
                  <a:srgbClr val="887e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 flipV="1">
                <a:off x="69840" y="29880"/>
                <a:ext cx="1440" cy="6791400"/>
              </a:xfrm>
              <a:prstGeom prst="line">
                <a:avLst/>
              </a:prstGeom>
              <a:ln w="36360">
                <a:solidFill>
                  <a:srgbClr val="887e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69840" y="30240"/>
                <a:ext cx="1440" cy="1440"/>
              </a:xfrm>
              <a:prstGeom prst="line">
                <a:avLst/>
              </a:prstGeom>
              <a:ln w="36360">
                <a:solidFill>
                  <a:srgbClr val="887e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65160" y="25560"/>
                <a:ext cx="3776760" cy="1440"/>
              </a:xfrm>
              <a:prstGeom prst="line">
                <a:avLst/>
              </a:prstGeom>
              <a:ln w="28440">
                <a:solidFill>
                  <a:srgbClr val="655e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3841920" y="25560"/>
                <a:ext cx="1440" cy="1440"/>
              </a:xfrm>
              <a:prstGeom prst="line">
                <a:avLst/>
              </a:prstGeom>
              <a:ln w="28440">
                <a:solidFill>
                  <a:srgbClr val="655e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3841920" y="25560"/>
                <a:ext cx="1440" cy="6791040"/>
              </a:xfrm>
              <a:prstGeom prst="line">
                <a:avLst/>
              </a:prstGeom>
              <a:ln w="28440">
                <a:solidFill>
                  <a:srgbClr val="655e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3841920" y="6816600"/>
                <a:ext cx="1440" cy="1800"/>
              </a:xfrm>
              <a:prstGeom prst="line">
                <a:avLst/>
              </a:prstGeom>
              <a:ln w="28440">
                <a:solidFill>
                  <a:srgbClr val="655e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 flipH="1">
                <a:off x="64800" y="6816600"/>
                <a:ext cx="3776760" cy="1800"/>
              </a:xfrm>
              <a:prstGeom prst="line">
                <a:avLst/>
              </a:prstGeom>
              <a:ln w="28440">
                <a:solidFill>
                  <a:srgbClr val="655e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5160" y="6816600"/>
                <a:ext cx="1440" cy="1800"/>
              </a:xfrm>
              <a:prstGeom prst="line">
                <a:avLst/>
              </a:prstGeom>
              <a:ln w="28440">
                <a:solidFill>
                  <a:srgbClr val="655e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flipV="1">
                <a:off x="65160" y="25560"/>
                <a:ext cx="1440" cy="6791040"/>
              </a:xfrm>
              <a:prstGeom prst="line">
                <a:avLst/>
              </a:prstGeom>
              <a:ln w="28440">
                <a:solidFill>
                  <a:srgbClr val="655e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65160" y="25560"/>
                <a:ext cx="1440" cy="1440"/>
              </a:xfrm>
              <a:prstGeom prst="line">
                <a:avLst/>
              </a:prstGeom>
              <a:ln w="28440">
                <a:solidFill>
                  <a:srgbClr val="655e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1920" y="22320"/>
                <a:ext cx="3776760" cy="1440"/>
              </a:xfrm>
              <a:prstGeom prst="line">
                <a:avLst/>
              </a:prstGeom>
              <a:ln w="20520">
                <a:solidFill>
                  <a:srgbClr val="3836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3838680" y="22320"/>
                <a:ext cx="1440" cy="1440"/>
              </a:xfrm>
              <a:prstGeom prst="line">
                <a:avLst/>
              </a:prstGeom>
              <a:ln w="20520">
                <a:solidFill>
                  <a:srgbClr val="3836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3838680" y="22320"/>
                <a:ext cx="1440" cy="6791400"/>
              </a:xfrm>
              <a:prstGeom prst="line">
                <a:avLst/>
              </a:prstGeom>
              <a:ln w="20520">
                <a:solidFill>
                  <a:srgbClr val="3836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3838680" y="6813720"/>
                <a:ext cx="1440" cy="1440"/>
              </a:xfrm>
              <a:prstGeom prst="line">
                <a:avLst/>
              </a:prstGeom>
              <a:ln w="20520">
                <a:solidFill>
                  <a:srgbClr val="3836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 flipH="1">
                <a:off x="61560" y="6813720"/>
                <a:ext cx="3776760" cy="1440"/>
              </a:xfrm>
              <a:prstGeom prst="line">
                <a:avLst/>
              </a:prstGeom>
              <a:ln w="20520">
                <a:solidFill>
                  <a:srgbClr val="3836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61920" y="6813720"/>
                <a:ext cx="1440" cy="1440"/>
              </a:xfrm>
              <a:prstGeom prst="line">
                <a:avLst/>
              </a:prstGeom>
              <a:ln w="20520">
                <a:solidFill>
                  <a:srgbClr val="3836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 flipV="1">
                <a:off x="61920" y="21960"/>
                <a:ext cx="1440" cy="6791400"/>
              </a:xfrm>
              <a:prstGeom prst="line">
                <a:avLst/>
              </a:prstGeom>
              <a:ln w="20520">
                <a:solidFill>
                  <a:srgbClr val="3836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61920" y="22320"/>
                <a:ext cx="1440" cy="1440"/>
              </a:xfrm>
              <a:prstGeom prst="line">
                <a:avLst/>
              </a:prstGeom>
              <a:ln w="20520">
                <a:solidFill>
                  <a:srgbClr val="3836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57240" y="17640"/>
                <a:ext cx="3776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3833640" y="176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3833640" y="17640"/>
                <a:ext cx="1800" cy="679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3833640" y="68086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 flipH="1">
                <a:off x="57240" y="6808680"/>
                <a:ext cx="3776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57240" y="68086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 flipV="1">
                <a:off x="57240" y="17640"/>
                <a:ext cx="1440" cy="679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57240" y="176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792000" y="-936720"/>
                <a:ext cx="18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792000" y="-390600"/>
                <a:ext cx="2089440" cy="2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1905120" y="1652760"/>
                <a:ext cx="199800" cy="191880"/>
              </a:xfrm>
              <a:custGeom>
                <a:avLst/>
                <a:gdLst/>
                <a:ahLst/>
                <a:rect l="l" t="t" r="r" b="b"/>
                <a:pathLst>
                  <a:path w="126" h="121">
                    <a:moveTo>
                      <a:pt x="126" y="0"/>
                    </a:moveTo>
                    <a:lnTo>
                      <a:pt x="62" y="121"/>
                    </a:lnTo>
                    <a:lnTo>
                      <a:pt x="0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 flipH="1">
                <a:off x="2003400" y="1652760"/>
                <a:ext cx="101520" cy="191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2003400" y="1844640"/>
                <a:ext cx="1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 flipH="1" flipV="1">
                <a:off x="1904760" y="1652400"/>
                <a:ext cx="98280" cy="191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1905120" y="165276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1905120" y="1652760"/>
                <a:ext cx="199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2104920" y="165276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1974960" y="1457280"/>
                <a:ext cx="60120" cy="195480"/>
              </a:xfrm>
              <a:prstGeom prst="rect">
                <a:avLst/>
              </a:pr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 flipH="1">
                <a:off x="1974600" y="1652760"/>
                <a:ext cx="601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1974960" y="165276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 flipV="1">
                <a:off x="1974960" y="1456920"/>
                <a:ext cx="1440" cy="195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19" name=""/>
            <p:cNvSpPr/>
            <p:nvPr/>
          </p:nvSpPr>
          <p:spPr>
            <a:xfrm>
              <a:off x="1974960" y="1457280"/>
              <a:ext cx="14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1974960" y="1457280"/>
              <a:ext cx="6012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2035080" y="145728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2035080" y="1457280"/>
              <a:ext cx="1800" cy="195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2035080" y="165276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1866960" y="3246480"/>
              <a:ext cx="201600" cy="195120"/>
            </a:xfrm>
            <a:custGeom>
              <a:avLst/>
              <a:gdLst/>
              <a:ahLst/>
              <a:rect l="l" t="t" r="r" b="b"/>
              <a:pathLst>
                <a:path w="127" h="123">
                  <a:moveTo>
                    <a:pt x="127" y="0"/>
                  </a:moveTo>
                  <a:lnTo>
                    <a:pt x="63" y="123"/>
                  </a:lnTo>
                  <a:lnTo>
                    <a:pt x="0" y="0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 flipH="1">
              <a:off x="1967040" y="3246480"/>
              <a:ext cx="101520" cy="195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1967040" y="3441600"/>
              <a:ext cx="14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 flipH="1" flipV="1">
              <a:off x="1866960" y="3246480"/>
              <a:ext cx="100080" cy="195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1866960" y="324648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1866960" y="3246480"/>
              <a:ext cx="2016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2068560" y="324648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1941480" y="3054240"/>
              <a:ext cx="61920" cy="192240"/>
            </a:xfrm>
            <a:prstGeom prst="rect">
              <a:avLst/>
            </a:prstGeom>
            <a:solidFill>
              <a:srgbClr val="ff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 flipH="1">
              <a:off x="1941480" y="3246480"/>
              <a:ext cx="619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41480" y="324648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 flipV="1">
              <a:off x="1941480" y="3054240"/>
              <a:ext cx="1800" cy="192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41480" y="305424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41480" y="3054240"/>
              <a:ext cx="6192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003400" y="3054240"/>
              <a:ext cx="14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2003400" y="3054240"/>
              <a:ext cx="1440" cy="192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2003400" y="324648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1887480" y="5183280"/>
              <a:ext cx="196920" cy="195120"/>
            </a:xfrm>
            <a:custGeom>
              <a:avLst/>
              <a:gdLst/>
              <a:ahLst/>
              <a:rect l="l" t="t" r="r" b="b"/>
              <a:pathLst>
                <a:path w="124" h="123">
                  <a:moveTo>
                    <a:pt x="124" y="0"/>
                  </a:moveTo>
                  <a:lnTo>
                    <a:pt x="60" y="123"/>
                  </a:lnTo>
                  <a:lnTo>
                    <a:pt x="0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 flipH="1">
              <a:off x="1982880" y="5183280"/>
              <a:ext cx="101520" cy="195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1982880" y="5378400"/>
              <a:ext cx="14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H="1" flipV="1">
              <a:off x="1887120" y="5183280"/>
              <a:ext cx="95400" cy="195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1887480" y="518328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887480" y="5183280"/>
              <a:ext cx="1969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084400" y="518328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957320" y="4991040"/>
              <a:ext cx="61920" cy="192240"/>
            </a:xfrm>
            <a:prstGeom prst="rect">
              <a:avLst/>
            </a:prstGeom>
            <a:solidFill>
              <a:srgbClr val="ff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H="1">
              <a:off x="1957320" y="5183280"/>
              <a:ext cx="619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957320" y="518328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 flipV="1">
              <a:off x="1957320" y="4991040"/>
              <a:ext cx="1800" cy="192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957320" y="499104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957320" y="4991040"/>
              <a:ext cx="6192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019240" y="499104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019240" y="4991040"/>
              <a:ext cx="1800" cy="192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019240" y="518328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56" name=""/>
          <p:cNvSpPr/>
          <p:nvPr/>
        </p:nvSpPr>
        <p:spPr>
          <a:xfrm>
            <a:off x="4878720" y="380880"/>
            <a:ext cx="28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Gene Clon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0" y="0"/>
            <a:ext cx="3900600" cy="68770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9" name=""/>
          <p:cNvGrpSpPr/>
          <p:nvPr/>
        </p:nvGrpSpPr>
        <p:grpSpPr>
          <a:xfrm>
            <a:off x="41400" y="-838080"/>
            <a:ext cx="3795120" cy="7678080"/>
            <a:chOff x="41400" y="-838080"/>
            <a:chExt cx="3795120" cy="7678080"/>
          </a:xfrm>
        </p:grpSpPr>
        <p:sp>
          <p:nvSpPr>
            <p:cNvPr id="3960" name=""/>
            <p:cNvSpPr/>
            <p:nvPr/>
          </p:nvSpPr>
          <p:spPr>
            <a:xfrm>
              <a:off x="579240" y="4302000"/>
              <a:ext cx="206640" cy="2160"/>
            </a:xfrm>
            <a:prstGeom prst="line">
              <a:avLst/>
            </a:prstGeom>
            <a:ln w="1908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579240" y="4350960"/>
              <a:ext cx="206640" cy="1800"/>
            </a:xfrm>
            <a:prstGeom prst="line">
              <a:avLst/>
            </a:prstGeom>
            <a:ln w="1908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486360" y="4430880"/>
              <a:ext cx="20664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486360" y="4479840"/>
              <a:ext cx="20664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908640" y="4266360"/>
              <a:ext cx="20916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908640" y="4314960"/>
              <a:ext cx="2091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606600" y="459360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606600" y="4642200"/>
              <a:ext cx="21096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1107360" y="4359240"/>
              <a:ext cx="20844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107360" y="4403520"/>
              <a:ext cx="20844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857880" y="4557960"/>
              <a:ext cx="20664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857880" y="4606200"/>
              <a:ext cx="20664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757080" y="440352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757080" y="4452120"/>
              <a:ext cx="21096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085760" y="4526280"/>
              <a:ext cx="210960" cy="1800"/>
            </a:xfrm>
            <a:prstGeom prst="line">
              <a:avLst/>
            </a:prstGeom>
            <a:ln w="1908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085760" y="4574520"/>
              <a:ext cx="210960" cy="2160"/>
            </a:xfrm>
            <a:prstGeom prst="line">
              <a:avLst/>
            </a:prstGeom>
            <a:ln w="1908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887760" y="4781520"/>
              <a:ext cx="21096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887760" y="482580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1214640" y="474372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1214640" y="4791960"/>
              <a:ext cx="21096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919080" y="507312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919080" y="5117040"/>
              <a:ext cx="21096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1166400" y="503532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166400" y="5085360"/>
              <a:ext cx="21096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1069200" y="4883040"/>
              <a:ext cx="210960" cy="1800"/>
            </a:xfrm>
            <a:prstGeom prst="line">
              <a:avLst/>
            </a:prstGeom>
            <a:ln w="1908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1064880" y="4927320"/>
              <a:ext cx="210960" cy="1800"/>
            </a:xfrm>
            <a:prstGeom prst="line">
              <a:avLst/>
            </a:prstGeom>
            <a:ln w="1908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398240" y="5002920"/>
              <a:ext cx="20664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1394280" y="504756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1350000" y="4477320"/>
              <a:ext cx="20664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350000" y="4526280"/>
              <a:ext cx="20664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1130400" y="522720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130400" y="5275440"/>
              <a:ext cx="20664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461160" y="478800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461160" y="483660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664200" y="4878720"/>
              <a:ext cx="20664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659880" y="492732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412560" y="5081760"/>
              <a:ext cx="210960" cy="1800"/>
            </a:xfrm>
            <a:prstGeom prst="line">
              <a:avLst/>
            </a:prstGeom>
            <a:ln w="1908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412560" y="5125680"/>
              <a:ext cx="206640" cy="2160"/>
            </a:xfrm>
            <a:prstGeom prst="line">
              <a:avLst/>
            </a:prstGeom>
            <a:ln w="1908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311400" y="492300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311400" y="4971600"/>
              <a:ext cx="21096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640440" y="5043240"/>
              <a:ext cx="21096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640440" y="509220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821880" y="5254560"/>
              <a:ext cx="210960" cy="2160"/>
            </a:xfrm>
            <a:prstGeom prst="line">
              <a:avLst/>
            </a:prstGeom>
            <a:ln w="1908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821880" y="5303160"/>
              <a:ext cx="206640" cy="1800"/>
            </a:xfrm>
            <a:prstGeom prst="line">
              <a:avLst/>
            </a:prstGeom>
            <a:ln w="19080">
              <a:solidFill>
                <a:srgbClr val="e349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577880" y="5356080"/>
              <a:ext cx="432720" cy="177120"/>
            </a:xfrm>
            <a:custGeom>
              <a:avLst/>
              <a:gdLst/>
              <a:ahLst/>
              <a:rect l="l" t="t" r="r" b="b"/>
              <a:pathLst>
                <a:path w="205" h="84">
                  <a:moveTo>
                    <a:pt x="205" y="42"/>
                  </a:moveTo>
                  <a:lnTo>
                    <a:pt x="205" y="46"/>
                  </a:lnTo>
                  <a:lnTo>
                    <a:pt x="203" y="49"/>
                  </a:lnTo>
                  <a:lnTo>
                    <a:pt x="201" y="53"/>
                  </a:lnTo>
                  <a:lnTo>
                    <a:pt x="197" y="57"/>
                  </a:lnTo>
                  <a:lnTo>
                    <a:pt x="194" y="61"/>
                  </a:lnTo>
                  <a:lnTo>
                    <a:pt x="188" y="65"/>
                  </a:lnTo>
                  <a:lnTo>
                    <a:pt x="182" y="69"/>
                  </a:lnTo>
                  <a:lnTo>
                    <a:pt x="176" y="71"/>
                  </a:lnTo>
                  <a:lnTo>
                    <a:pt x="169" y="74"/>
                  </a:lnTo>
                  <a:lnTo>
                    <a:pt x="161" y="76"/>
                  </a:lnTo>
                  <a:lnTo>
                    <a:pt x="151" y="78"/>
                  </a:lnTo>
                  <a:lnTo>
                    <a:pt x="144" y="80"/>
                  </a:lnTo>
                  <a:lnTo>
                    <a:pt x="134" y="82"/>
                  </a:lnTo>
                  <a:lnTo>
                    <a:pt x="123" y="82"/>
                  </a:lnTo>
                  <a:lnTo>
                    <a:pt x="113" y="84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92" y="84"/>
                  </a:lnTo>
                  <a:lnTo>
                    <a:pt x="82" y="82"/>
                  </a:lnTo>
                  <a:lnTo>
                    <a:pt x="73" y="82"/>
                  </a:lnTo>
                  <a:lnTo>
                    <a:pt x="63" y="80"/>
                  </a:lnTo>
                  <a:lnTo>
                    <a:pt x="53" y="78"/>
                  </a:lnTo>
                  <a:lnTo>
                    <a:pt x="46" y="76"/>
                  </a:lnTo>
                  <a:lnTo>
                    <a:pt x="38" y="74"/>
                  </a:lnTo>
                  <a:lnTo>
                    <a:pt x="30" y="71"/>
                  </a:lnTo>
                  <a:lnTo>
                    <a:pt x="23" y="69"/>
                  </a:lnTo>
                  <a:lnTo>
                    <a:pt x="17" y="65"/>
                  </a:lnTo>
                  <a:lnTo>
                    <a:pt x="13" y="61"/>
                  </a:lnTo>
                  <a:lnTo>
                    <a:pt x="7" y="57"/>
                  </a:lnTo>
                  <a:lnTo>
                    <a:pt x="5" y="53"/>
                  </a:lnTo>
                  <a:lnTo>
                    <a:pt x="2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5" y="30"/>
                  </a:lnTo>
                  <a:lnTo>
                    <a:pt x="7" y="26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23" y="15"/>
                  </a:lnTo>
                  <a:lnTo>
                    <a:pt x="30" y="13"/>
                  </a:lnTo>
                  <a:lnTo>
                    <a:pt x="38" y="9"/>
                  </a:lnTo>
                  <a:lnTo>
                    <a:pt x="46" y="7"/>
                  </a:lnTo>
                  <a:lnTo>
                    <a:pt x="53" y="5"/>
                  </a:lnTo>
                  <a:lnTo>
                    <a:pt x="63" y="3"/>
                  </a:lnTo>
                  <a:lnTo>
                    <a:pt x="73" y="1"/>
                  </a:lnTo>
                  <a:lnTo>
                    <a:pt x="82" y="1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13" y="0"/>
                  </a:lnTo>
                  <a:lnTo>
                    <a:pt x="123" y="1"/>
                  </a:lnTo>
                  <a:lnTo>
                    <a:pt x="134" y="1"/>
                  </a:lnTo>
                  <a:lnTo>
                    <a:pt x="144" y="3"/>
                  </a:lnTo>
                  <a:lnTo>
                    <a:pt x="151" y="5"/>
                  </a:lnTo>
                  <a:lnTo>
                    <a:pt x="161" y="7"/>
                  </a:lnTo>
                  <a:lnTo>
                    <a:pt x="169" y="9"/>
                  </a:lnTo>
                  <a:lnTo>
                    <a:pt x="176" y="13"/>
                  </a:lnTo>
                  <a:lnTo>
                    <a:pt x="182" y="15"/>
                  </a:lnTo>
                  <a:lnTo>
                    <a:pt x="188" y="19"/>
                  </a:lnTo>
                  <a:lnTo>
                    <a:pt x="194" y="23"/>
                  </a:lnTo>
                  <a:lnTo>
                    <a:pt x="197" y="26"/>
                  </a:lnTo>
                  <a:lnTo>
                    <a:pt x="201" y="30"/>
                  </a:lnTo>
                  <a:lnTo>
                    <a:pt x="203" y="34"/>
                  </a:lnTo>
                  <a:lnTo>
                    <a:pt x="205" y="38"/>
                  </a:lnTo>
                  <a:lnTo>
                    <a:pt x="205" y="42"/>
                  </a:lnTo>
                  <a:close/>
                </a:path>
              </a:pathLst>
            </a:custGeom>
            <a:solidFill>
              <a:srgbClr val="acacac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772280" y="5092200"/>
              <a:ext cx="428400" cy="189360"/>
            </a:xfrm>
            <a:custGeom>
              <a:avLst/>
              <a:gdLst/>
              <a:ahLst/>
              <a:rect l="l" t="t" r="r" b="b"/>
              <a:pathLst>
                <a:path w="203" h="90">
                  <a:moveTo>
                    <a:pt x="203" y="63"/>
                  </a:moveTo>
                  <a:lnTo>
                    <a:pt x="201" y="67"/>
                  </a:lnTo>
                  <a:lnTo>
                    <a:pt x="200" y="71"/>
                  </a:lnTo>
                  <a:lnTo>
                    <a:pt x="198" y="75"/>
                  </a:lnTo>
                  <a:lnTo>
                    <a:pt x="192" y="77"/>
                  </a:lnTo>
                  <a:lnTo>
                    <a:pt x="188" y="80"/>
                  </a:lnTo>
                  <a:lnTo>
                    <a:pt x="182" y="82"/>
                  </a:lnTo>
                  <a:lnTo>
                    <a:pt x="176" y="84"/>
                  </a:lnTo>
                  <a:lnTo>
                    <a:pt x="169" y="86"/>
                  </a:lnTo>
                  <a:lnTo>
                    <a:pt x="161" y="88"/>
                  </a:lnTo>
                  <a:lnTo>
                    <a:pt x="153" y="88"/>
                  </a:lnTo>
                  <a:lnTo>
                    <a:pt x="144" y="90"/>
                  </a:lnTo>
                  <a:lnTo>
                    <a:pt x="134" y="90"/>
                  </a:lnTo>
                  <a:lnTo>
                    <a:pt x="125" y="90"/>
                  </a:lnTo>
                  <a:lnTo>
                    <a:pt x="115" y="88"/>
                  </a:lnTo>
                  <a:lnTo>
                    <a:pt x="105" y="88"/>
                  </a:lnTo>
                  <a:lnTo>
                    <a:pt x="96" y="86"/>
                  </a:lnTo>
                  <a:lnTo>
                    <a:pt x="96" y="86"/>
                  </a:lnTo>
                  <a:lnTo>
                    <a:pt x="84" y="84"/>
                  </a:lnTo>
                  <a:lnTo>
                    <a:pt x="75" y="82"/>
                  </a:lnTo>
                  <a:lnTo>
                    <a:pt x="65" y="78"/>
                  </a:lnTo>
                  <a:lnTo>
                    <a:pt x="56" y="77"/>
                  </a:lnTo>
                  <a:lnTo>
                    <a:pt x="48" y="73"/>
                  </a:lnTo>
                  <a:lnTo>
                    <a:pt x="40" y="69"/>
                  </a:lnTo>
                  <a:lnTo>
                    <a:pt x="33" y="65"/>
                  </a:lnTo>
                  <a:lnTo>
                    <a:pt x="25" y="61"/>
                  </a:lnTo>
                  <a:lnTo>
                    <a:pt x="19" y="57"/>
                  </a:lnTo>
                  <a:lnTo>
                    <a:pt x="15" y="53"/>
                  </a:lnTo>
                  <a:lnTo>
                    <a:pt x="9" y="50"/>
                  </a:lnTo>
                  <a:lnTo>
                    <a:pt x="6" y="44"/>
                  </a:lnTo>
                  <a:lnTo>
                    <a:pt x="4" y="40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3" y="7"/>
                  </a:lnTo>
                  <a:lnTo>
                    <a:pt x="29" y="5"/>
                  </a:lnTo>
                  <a:lnTo>
                    <a:pt x="36" y="4"/>
                  </a:lnTo>
                  <a:lnTo>
                    <a:pt x="44" y="2"/>
                  </a:lnTo>
                  <a:lnTo>
                    <a:pt x="52" y="2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88" y="2"/>
                  </a:lnTo>
                  <a:lnTo>
                    <a:pt x="100" y="2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19" y="5"/>
                  </a:lnTo>
                  <a:lnTo>
                    <a:pt x="130" y="7"/>
                  </a:lnTo>
                  <a:lnTo>
                    <a:pt x="140" y="11"/>
                  </a:lnTo>
                  <a:lnTo>
                    <a:pt x="148" y="13"/>
                  </a:lnTo>
                  <a:lnTo>
                    <a:pt x="157" y="17"/>
                  </a:lnTo>
                  <a:lnTo>
                    <a:pt x="165" y="21"/>
                  </a:lnTo>
                  <a:lnTo>
                    <a:pt x="173" y="25"/>
                  </a:lnTo>
                  <a:lnTo>
                    <a:pt x="178" y="29"/>
                  </a:lnTo>
                  <a:lnTo>
                    <a:pt x="184" y="32"/>
                  </a:lnTo>
                  <a:lnTo>
                    <a:pt x="190" y="36"/>
                  </a:lnTo>
                  <a:lnTo>
                    <a:pt x="194" y="40"/>
                  </a:lnTo>
                  <a:lnTo>
                    <a:pt x="198" y="46"/>
                  </a:lnTo>
                  <a:lnTo>
                    <a:pt x="201" y="50"/>
                  </a:lnTo>
                  <a:lnTo>
                    <a:pt x="203" y="53"/>
                  </a:lnTo>
                  <a:lnTo>
                    <a:pt x="203" y="59"/>
                  </a:lnTo>
                  <a:lnTo>
                    <a:pt x="203" y="63"/>
                  </a:lnTo>
                  <a:close/>
                </a:path>
              </a:pathLst>
            </a:custGeom>
            <a:solidFill>
              <a:srgbClr val="e34913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970640" y="5564520"/>
              <a:ext cx="417600" cy="210960"/>
            </a:xfrm>
            <a:custGeom>
              <a:avLst/>
              <a:gdLst/>
              <a:ahLst/>
              <a:rect l="l" t="t" r="r" b="b"/>
              <a:pathLst>
                <a:path w="198" h="100">
                  <a:moveTo>
                    <a:pt x="198" y="79"/>
                  </a:moveTo>
                  <a:lnTo>
                    <a:pt x="196" y="83"/>
                  </a:lnTo>
                  <a:lnTo>
                    <a:pt x="194" y="87"/>
                  </a:lnTo>
                  <a:lnTo>
                    <a:pt x="190" y="91"/>
                  </a:lnTo>
                  <a:lnTo>
                    <a:pt x="186" y="92"/>
                  </a:lnTo>
                  <a:lnTo>
                    <a:pt x="180" y="94"/>
                  </a:lnTo>
                  <a:lnTo>
                    <a:pt x="175" y="96"/>
                  </a:lnTo>
                  <a:lnTo>
                    <a:pt x="167" y="98"/>
                  </a:lnTo>
                  <a:lnTo>
                    <a:pt x="161" y="98"/>
                  </a:lnTo>
                  <a:lnTo>
                    <a:pt x="152" y="100"/>
                  </a:lnTo>
                  <a:lnTo>
                    <a:pt x="144" y="100"/>
                  </a:lnTo>
                  <a:lnTo>
                    <a:pt x="136" y="98"/>
                  </a:lnTo>
                  <a:lnTo>
                    <a:pt x="127" y="98"/>
                  </a:lnTo>
                  <a:lnTo>
                    <a:pt x="117" y="96"/>
                  </a:lnTo>
                  <a:lnTo>
                    <a:pt x="107" y="94"/>
                  </a:lnTo>
                  <a:lnTo>
                    <a:pt x="98" y="92"/>
                  </a:lnTo>
                  <a:lnTo>
                    <a:pt x="88" y="89"/>
                  </a:lnTo>
                  <a:lnTo>
                    <a:pt x="88" y="89"/>
                  </a:lnTo>
                  <a:lnTo>
                    <a:pt x="77" y="87"/>
                  </a:lnTo>
                  <a:lnTo>
                    <a:pt x="67" y="83"/>
                  </a:lnTo>
                  <a:lnTo>
                    <a:pt x="59" y="79"/>
                  </a:lnTo>
                  <a:lnTo>
                    <a:pt x="50" y="75"/>
                  </a:lnTo>
                  <a:lnTo>
                    <a:pt x="42" y="69"/>
                  </a:lnTo>
                  <a:lnTo>
                    <a:pt x="35" y="66"/>
                  </a:lnTo>
                  <a:lnTo>
                    <a:pt x="27" y="62"/>
                  </a:lnTo>
                  <a:lnTo>
                    <a:pt x="21" y="56"/>
                  </a:lnTo>
                  <a:lnTo>
                    <a:pt x="15" y="52"/>
                  </a:lnTo>
                  <a:lnTo>
                    <a:pt x="11" y="46"/>
                  </a:lnTo>
                  <a:lnTo>
                    <a:pt x="8" y="43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25" y="2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2" y="2"/>
                  </a:lnTo>
                  <a:lnTo>
                    <a:pt x="92" y="4"/>
                  </a:lnTo>
                  <a:lnTo>
                    <a:pt x="102" y="6"/>
                  </a:lnTo>
                  <a:lnTo>
                    <a:pt x="111" y="10"/>
                  </a:lnTo>
                  <a:lnTo>
                    <a:pt x="111" y="10"/>
                  </a:lnTo>
                  <a:lnTo>
                    <a:pt x="121" y="12"/>
                  </a:lnTo>
                  <a:lnTo>
                    <a:pt x="130" y="16"/>
                  </a:lnTo>
                  <a:lnTo>
                    <a:pt x="140" y="20"/>
                  </a:lnTo>
                  <a:lnTo>
                    <a:pt x="150" y="23"/>
                  </a:lnTo>
                  <a:lnTo>
                    <a:pt x="157" y="29"/>
                  </a:lnTo>
                  <a:lnTo>
                    <a:pt x="165" y="33"/>
                  </a:lnTo>
                  <a:lnTo>
                    <a:pt x="171" y="37"/>
                  </a:lnTo>
                  <a:lnTo>
                    <a:pt x="178" y="43"/>
                  </a:lnTo>
                  <a:lnTo>
                    <a:pt x="182" y="46"/>
                  </a:lnTo>
                  <a:lnTo>
                    <a:pt x="188" y="52"/>
                  </a:lnTo>
                  <a:lnTo>
                    <a:pt x="192" y="56"/>
                  </a:lnTo>
                  <a:lnTo>
                    <a:pt x="196" y="62"/>
                  </a:lnTo>
                  <a:lnTo>
                    <a:pt x="198" y="66"/>
                  </a:lnTo>
                  <a:lnTo>
                    <a:pt x="198" y="71"/>
                  </a:lnTo>
                  <a:lnTo>
                    <a:pt x="198" y="75"/>
                  </a:lnTo>
                  <a:lnTo>
                    <a:pt x="198" y="79"/>
                  </a:lnTo>
                  <a:close/>
                </a:path>
              </a:pathLst>
            </a:custGeom>
            <a:solidFill>
              <a:srgbClr val="acacac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552680" y="5603040"/>
              <a:ext cx="386280" cy="261720"/>
            </a:xfrm>
            <a:custGeom>
              <a:avLst/>
              <a:gdLst/>
              <a:ahLst/>
              <a:rect l="l" t="t" r="r" b="b"/>
              <a:pathLst>
                <a:path w="183" h="124">
                  <a:moveTo>
                    <a:pt x="181" y="11"/>
                  </a:moveTo>
                  <a:lnTo>
                    <a:pt x="183" y="15"/>
                  </a:lnTo>
                  <a:lnTo>
                    <a:pt x="183" y="19"/>
                  </a:lnTo>
                  <a:lnTo>
                    <a:pt x="183" y="23"/>
                  </a:lnTo>
                  <a:lnTo>
                    <a:pt x="183" y="28"/>
                  </a:lnTo>
                  <a:lnTo>
                    <a:pt x="181" y="34"/>
                  </a:lnTo>
                  <a:lnTo>
                    <a:pt x="177" y="40"/>
                  </a:lnTo>
                  <a:lnTo>
                    <a:pt x="175" y="46"/>
                  </a:lnTo>
                  <a:lnTo>
                    <a:pt x="169" y="51"/>
                  </a:lnTo>
                  <a:lnTo>
                    <a:pt x="165" y="57"/>
                  </a:lnTo>
                  <a:lnTo>
                    <a:pt x="160" y="63"/>
                  </a:lnTo>
                  <a:lnTo>
                    <a:pt x="152" y="69"/>
                  </a:lnTo>
                  <a:lnTo>
                    <a:pt x="146" y="74"/>
                  </a:lnTo>
                  <a:lnTo>
                    <a:pt x="138" y="82"/>
                  </a:lnTo>
                  <a:lnTo>
                    <a:pt x="131" y="88"/>
                  </a:lnTo>
                  <a:lnTo>
                    <a:pt x="121" y="92"/>
                  </a:lnTo>
                  <a:lnTo>
                    <a:pt x="113" y="98"/>
                  </a:lnTo>
                  <a:lnTo>
                    <a:pt x="113" y="98"/>
                  </a:lnTo>
                  <a:lnTo>
                    <a:pt x="104" y="103"/>
                  </a:lnTo>
                  <a:lnTo>
                    <a:pt x="94" y="107"/>
                  </a:lnTo>
                  <a:lnTo>
                    <a:pt x="87" y="111"/>
                  </a:lnTo>
                  <a:lnTo>
                    <a:pt x="77" y="115"/>
                  </a:lnTo>
                  <a:lnTo>
                    <a:pt x="67" y="119"/>
                  </a:lnTo>
                  <a:lnTo>
                    <a:pt x="60" y="121"/>
                  </a:lnTo>
                  <a:lnTo>
                    <a:pt x="52" y="122"/>
                  </a:lnTo>
                  <a:lnTo>
                    <a:pt x="44" y="124"/>
                  </a:lnTo>
                  <a:lnTo>
                    <a:pt x="37" y="124"/>
                  </a:lnTo>
                  <a:lnTo>
                    <a:pt x="31" y="124"/>
                  </a:lnTo>
                  <a:lnTo>
                    <a:pt x="23" y="124"/>
                  </a:lnTo>
                  <a:lnTo>
                    <a:pt x="17" y="122"/>
                  </a:lnTo>
                  <a:lnTo>
                    <a:pt x="14" y="122"/>
                  </a:lnTo>
                  <a:lnTo>
                    <a:pt x="10" y="119"/>
                  </a:lnTo>
                  <a:lnTo>
                    <a:pt x="6" y="117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2" y="109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2" y="96"/>
                  </a:lnTo>
                  <a:lnTo>
                    <a:pt x="4" y="90"/>
                  </a:lnTo>
                  <a:lnTo>
                    <a:pt x="6" y="84"/>
                  </a:lnTo>
                  <a:lnTo>
                    <a:pt x="10" y="78"/>
                  </a:lnTo>
                  <a:lnTo>
                    <a:pt x="14" y="73"/>
                  </a:lnTo>
                  <a:lnTo>
                    <a:pt x="19" y="67"/>
                  </a:lnTo>
                  <a:lnTo>
                    <a:pt x="25" y="61"/>
                  </a:lnTo>
                  <a:lnTo>
                    <a:pt x="31" y="55"/>
                  </a:lnTo>
                  <a:lnTo>
                    <a:pt x="39" y="48"/>
                  </a:lnTo>
                  <a:lnTo>
                    <a:pt x="46" y="42"/>
                  </a:lnTo>
                  <a:lnTo>
                    <a:pt x="54" y="36"/>
                  </a:lnTo>
                  <a:lnTo>
                    <a:pt x="62" y="30"/>
                  </a:lnTo>
                  <a:lnTo>
                    <a:pt x="71" y="26"/>
                  </a:lnTo>
                  <a:lnTo>
                    <a:pt x="71" y="26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8" y="11"/>
                  </a:lnTo>
                  <a:lnTo>
                    <a:pt x="108" y="9"/>
                  </a:lnTo>
                  <a:lnTo>
                    <a:pt x="115" y="5"/>
                  </a:lnTo>
                  <a:lnTo>
                    <a:pt x="125" y="3"/>
                  </a:lnTo>
                  <a:lnTo>
                    <a:pt x="133" y="2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71" y="2"/>
                  </a:lnTo>
                  <a:lnTo>
                    <a:pt x="175" y="3"/>
                  </a:lnTo>
                  <a:lnTo>
                    <a:pt x="179" y="7"/>
                  </a:lnTo>
                  <a:lnTo>
                    <a:pt x="181" y="11"/>
                  </a:lnTo>
                  <a:close/>
                </a:path>
              </a:pathLst>
            </a:custGeom>
            <a:solidFill>
              <a:srgbClr val="e34913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837440" y="5837040"/>
              <a:ext cx="424440" cy="202680"/>
            </a:xfrm>
            <a:custGeom>
              <a:avLst/>
              <a:gdLst/>
              <a:ahLst/>
              <a:rect l="l" t="t" r="r" b="b"/>
              <a:pathLst>
                <a:path w="201" h="96">
                  <a:moveTo>
                    <a:pt x="199" y="21"/>
                  </a:moveTo>
                  <a:lnTo>
                    <a:pt x="201" y="27"/>
                  </a:lnTo>
                  <a:lnTo>
                    <a:pt x="199" y="31"/>
                  </a:lnTo>
                  <a:lnTo>
                    <a:pt x="199" y="35"/>
                  </a:lnTo>
                  <a:lnTo>
                    <a:pt x="195" y="40"/>
                  </a:lnTo>
                  <a:lnTo>
                    <a:pt x="193" y="44"/>
                  </a:lnTo>
                  <a:lnTo>
                    <a:pt x="188" y="50"/>
                  </a:lnTo>
                  <a:lnTo>
                    <a:pt x="184" y="54"/>
                  </a:lnTo>
                  <a:lnTo>
                    <a:pt x="178" y="58"/>
                  </a:lnTo>
                  <a:lnTo>
                    <a:pt x="172" y="63"/>
                  </a:lnTo>
                  <a:lnTo>
                    <a:pt x="165" y="67"/>
                  </a:lnTo>
                  <a:lnTo>
                    <a:pt x="157" y="71"/>
                  </a:lnTo>
                  <a:lnTo>
                    <a:pt x="149" y="75"/>
                  </a:lnTo>
                  <a:lnTo>
                    <a:pt x="140" y="79"/>
                  </a:lnTo>
                  <a:lnTo>
                    <a:pt x="130" y="83"/>
                  </a:lnTo>
                  <a:lnTo>
                    <a:pt x="121" y="86"/>
                  </a:lnTo>
                  <a:lnTo>
                    <a:pt x="111" y="88"/>
                  </a:lnTo>
                  <a:lnTo>
                    <a:pt x="111" y="88"/>
                  </a:lnTo>
                  <a:lnTo>
                    <a:pt x="101" y="92"/>
                  </a:lnTo>
                  <a:lnTo>
                    <a:pt x="92" y="94"/>
                  </a:lnTo>
                  <a:lnTo>
                    <a:pt x="82" y="94"/>
                  </a:lnTo>
                  <a:lnTo>
                    <a:pt x="73" y="96"/>
                  </a:lnTo>
                  <a:lnTo>
                    <a:pt x="63" y="96"/>
                  </a:lnTo>
                  <a:lnTo>
                    <a:pt x="53" y="96"/>
                  </a:lnTo>
                  <a:lnTo>
                    <a:pt x="46" y="96"/>
                  </a:lnTo>
                  <a:lnTo>
                    <a:pt x="38" y="96"/>
                  </a:lnTo>
                  <a:lnTo>
                    <a:pt x="30" y="94"/>
                  </a:lnTo>
                  <a:lnTo>
                    <a:pt x="25" y="92"/>
                  </a:lnTo>
                  <a:lnTo>
                    <a:pt x="19" y="90"/>
                  </a:lnTo>
                  <a:lnTo>
                    <a:pt x="13" y="88"/>
                  </a:lnTo>
                  <a:lnTo>
                    <a:pt x="9" y="86"/>
                  </a:lnTo>
                  <a:lnTo>
                    <a:pt x="5" y="83"/>
                  </a:lnTo>
                  <a:lnTo>
                    <a:pt x="3" y="79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0" y="71"/>
                  </a:lnTo>
                  <a:lnTo>
                    <a:pt x="2" y="67"/>
                  </a:lnTo>
                  <a:lnTo>
                    <a:pt x="2" y="61"/>
                  </a:lnTo>
                  <a:lnTo>
                    <a:pt x="5" y="58"/>
                  </a:lnTo>
                  <a:lnTo>
                    <a:pt x="7" y="52"/>
                  </a:lnTo>
                  <a:lnTo>
                    <a:pt x="11" y="48"/>
                  </a:lnTo>
                  <a:lnTo>
                    <a:pt x="17" y="44"/>
                  </a:lnTo>
                  <a:lnTo>
                    <a:pt x="23" y="38"/>
                  </a:lnTo>
                  <a:lnTo>
                    <a:pt x="28" y="35"/>
                  </a:lnTo>
                  <a:lnTo>
                    <a:pt x="36" y="31"/>
                  </a:lnTo>
                  <a:lnTo>
                    <a:pt x="44" y="25"/>
                  </a:lnTo>
                  <a:lnTo>
                    <a:pt x="51" y="21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80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9" y="6"/>
                  </a:lnTo>
                  <a:lnTo>
                    <a:pt x="109" y="4"/>
                  </a:lnTo>
                  <a:lnTo>
                    <a:pt x="119" y="2"/>
                  </a:lnTo>
                  <a:lnTo>
                    <a:pt x="128" y="0"/>
                  </a:lnTo>
                  <a:lnTo>
                    <a:pt x="138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3" y="2"/>
                  </a:lnTo>
                  <a:lnTo>
                    <a:pt x="170" y="2"/>
                  </a:lnTo>
                  <a:lnTo>
                    <a:pt x="176" y="4"/>
                  </a:lnTo>
                  <a:lnTo>
                    <a:pt x="182" y="6"/>
                  </a:lnTo>
                  <a:lnTo>
                    <a:pt x="188" y="8"/>
                  </a:lnTo>
                  <a:lnTo>
                    <a:pt x="192" y="11"/>
                  </a:lnTo>
                  <a:lnTo>
                    <a:pt x="195" y="13"/>
                  </a:lnTo>
                  <a:lnTo>
                    <a:pt x="197" y="17"/>
                  </a:lnTo>
                  <a:lnTo>
                    <a:pt x="199" y="21"/>
                  </a:lnTo>
                  <a:close/>
                </a:path>
              </a:pathLst>
            </a:custGeom>
            <a:solidFill>
              <a:srgbClr val="acacac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226240" y="6027120"/>
              <a:ext cx="432720" cy="179280"/>
            </a:xfrm>
            <a:custGeom>
              <a:avLst/>
              <a:gdLst/>
              <a:ahLst/>
              <a:rect l="l" t="t" r="r" b="b"/>
              <a:pathLst>
                <a:path w="205" h="85">
                  <a:moveTo>
                    <a:pt x="205" y="42"/>
                  </a:moveTo>
                  <a:lnTo>
                    <a:pt x="205" y="46"/>
                  </a:lnTo>
                  <a:lnTo>
                    <a:pt x="203" y="50"/>
                  </a:lnTo>
                  <a:lnTo>
                    <a:pt x="201" y="54"/>
                  </a:lnTo>
                  <a:lnTo>
                    <a:pt x="198" y="58"/>
                  </a:lnTo>
                  <a:lnTo>
                    <a:pt x="194" y="62"/>
                  </a:lnTo>
                  <a:lnTo>
                    <a:pt x="188" y="65"/>
                  </a:lnTo>
                  <a:lnTo>
                    <a:pt x="182" y="69"/>
                  </a:lnTo>
                  <a:lnTo>
                    <a:pt x="175" y="71"/>
                  </a:lnTo>
                  <a:lnTo>
                    <a:pt x="169" y="75"/>
                  </a:lnTo>
                  <a:lnTo>
                    <a:pt x="161" y="77"/>
                  </a:lnTo>
                  <a:lnTo>
                    <a:pt x="152" y="79"/>
                  </a:lnTo>
                  <a:lnTo>
                    <a:pt x="142" y="81"/>
                  </a:lnTo>
                  <a:lnTo>
                    <a:pt x="134" y="83"/>
                  </a:lnTo>
                  <a:lnTo>
                    <a:pt x="123" y="83"/>
                  </a:lnTo>
                  <a:lnTo>
                    <a:pt x="113" y="85"/>
                  </a:lnTo>
                  <a:lnTo>
                    <a:pt x="104" y="85"/>
                  </a:lnTo>
                  <a:lnTo>
                    <a:pt x="104" y="85"/>
                  </a:lnTo>
                  <a:lnTo>
                    <a:pt x="92" y="85"/>
                  </a:lnTo>
                  <a:lnTo>
                    <a:pt x="82" y="83"/>
                  </a:lnTo>
                  <a:lnTo>
                    <a:pt x="73" y="83"/>
                  </a:lnTo>
                  <a:lnTo>
                    <a:pt x="63" y="81"/>
                  </a:lnTo>
                  <a:lnTo>
                    <a:pt x="54" y="79"/>
                  </a:lnTo>
                  <a:lnTo>
                    <a:pt x="46" y="77"/>
                  </a:lnTo>
                  <a:lnTo>
                    <a:pt x="38" y="75"/>
                  </a:lnTo>
                  <a:lnTo>
                    <a:pt x="31" y="71"/>
                  </a:lnTo>
                  <a:lnTo>
                    <a:pt x="23" y="69"/>
                  </a:lnTo>
                  <a:lnTo>
                    <a:pt x="17" y="65"/>
                  </a:lnTo>
                  <a:lnTo>
                    <a:pt x="13" y="62"/>
                  </a:lnTo>
                  <a:lnTo>
                    <a:pt x="8" y="58"/>
                  </a:lnTo>
                  <a:lnTo>
                    <a:pt x="6" y="5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6" y="29"/>
                  </a:lnTo>
                  <a:lnTo>
                    <a:pt x="8" y="25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23" y="16"/>
                  </a:lnTo>
                  <a:lnTo>
                    <a:pt x="31" y="14"/>
                  </a:lnTo>
                  <a:lnTo>
                    <a:pt x="38" y="10"/>
                  </a:lnTo>
                  <a:lnTo>
                    <a:pt x="46" y="8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3" y="2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13" y="0"/>
                  </a:lnTo>
                  <a:lnTo>
                    <a:pt x="123" y="2"/>
                  </a:lnTo>
                  <a:lnTo>
                    <a:pt x="134" y="2"/>
                  </a:lnTo>
                  <a:lnTo>
                    <a:pt x="142" y="4"/>
                  </a:lnTo>
                  <a:lnTo>
                    <a:pt x="152" y="6"/>
                  </a:lnTo>
                  <a:lnTo>
                    <a:pt x="161" y="8"/>
                  </a:lnTo>
                  <a:lnTo>
                    <a:pt x="169" y="10"/>
                  </a:lnTo>
                  <a:lnTo>
                    <a:pt x="175" y="14"/>
                  </a:lnTo>
                  <a:lnTo>
                    <a:pt x="182" y="16"/>
                  </a:lnTo>
                  <a:lnTo>
                    <a:pt x="188" y="19"/>
                  </a:lnTo>
                  <a:lnTo>
                    <a:pt x="194" y="23"/>
                  </a:lnTo>
                  <a:lnTo>
                    <a:pt x="198" y="25"/>
                  </a:lnTo>
                  <a:lnTo>
                    <a:pt x="201" y="29"/>
                  </a:lnTo>
                  <a:lnTo>
                    <a:pt x="203" y="35"/>
                  </a:lnTo>
                  <a:lnTo>
                    <a:pt x="205" y="39"/>
                  </a:lnTo>
                  <a:lnTo>
                    <a:pt x="205" y="42"/>
                  </a:lnTo>
                  <a:close/>
                </a:path>
              </a:pathLst>
            </a:custGeom>
            <a:solidFill>
              <a:srgbClr val="e34913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841760" y="6189840"/>
              <a:ext cx="432720" cy="174960"/>
            </a:xfrm>
            <a:custGeom>
              <a:avLst/>
              <a:gdLst/>
              <a:ahLst/>
              <a:rect l="l" t="t" r="r" b="b"/>
              <a:pathLst>
                <a:path w="205" h="83">
                  <a:moveTo>
                    <a:pt x="205" y="42"/>
                  </a:moveTo>
                  <a:lnTo>
                    <a:pt x="205" y="46"/>
                  </a:lnTo>
                  <a:lnTo>
                    <a:pt x="203" y="50"/>
                  </a:lnTo>
                  <a:lnTo>
                    <a:pt x="201" y="54"/>
                  </a:lnTo>
                  <a:lnTo>
                    <a:pt x="197" y="58"/>
                  </a:lnTo>
                  <a:lnTo>
                    <a:pt x="191" y="61"/>
                  </a:lnTo>
                  <a:lnTo>
                    <a:pt x="188" y="65"/>
                  </a:lnTo>
                  <a:lnTo>
                    <a:pt x="182" y="67"/>
                  </a:lnTo>
                  <a:lnTo>
                    <a:pt x="174" y="71"/>
                  </a:lnTo>
                  <a:lnTo>
                    <a:pt x="167" y="73"/>
                  </a:lnTo>
                  <a:lnTo>
                    <a:pt x="159" y="77"/>
                  </a:lnTo>
                  <a:lnTo>
                    <a:pt x="151" y="79"/>
                  </a:lnTo>
                  <a:lnTo>
                    <a:pt x="142" y="81"/>
                  </a:lnTo>
                  <a:lnTo>
                    <a:pt x="132" y="81"/>
                  </a:lnTo>
                  <a:lnTo>
                    <a:pt x="122" y="83"/>
                  </a:lnTo>
                  <a:lnTo>
                    <a:pt x="113" y="83"/>
                  </a:lnTo>
                  <a:lnTo>
                    <a:pt x="101" y="83"/>
                  </a:lnTo>
                  <a:lnTo>
                    <a:pt x="101" y="83"/>
                  </a:lnTo>
                  <a:lnTo>
                    <a:pt x="92" y="83"/>
                  </a:lnTo>
                  <a:lnTo>
                    <a:pt x="82" y="83"/>
                  </a:lnTo>
                  <a:lnTo>
                    <a:pt x="72" y="81"/>
                  </a:lnTo>
                  <a:lnTo>
                    <a:pt x="63" y="81"/>
                  </a:lnTo>
                  <a:lnTo>
                    <a:pt x="53" y="79"/>
                  </a:lnTo>
                  <a:lnTo>
                    <a:pt x="46" y="77"/>
                  </a:lnTo>
                  <a:lnTo>
                    <a:pt x="36" y="73"/>
                  </a:lnTo>
                  <a:lnTo>
                    <a:pt x="30" y="71"/>
                  </a:lnTo>
                  <a:lnTo>
                    <a:pt x="23" y="67"/>
                  </a:lnTo>
                  <a:lnTo>
                    <a:pt x="17" y="65"/>
                  </a:lnTo>
                  <a:lnTo>
                    <a:pt x="11" y="61"/>
                  </a:lnTo>
                  <a:lnTo>
                    <a:pt x="7" y="58"/>
                  </a:lnTo>
                  <a:lnTo>
                    <a:pt x="3" y="54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3" y="29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7" y="17"/>
                  </a:lnTo>
                  <a:lnTo>
                    <a:pt x="23" y="15"/>
                  </a:lnTo>
                  <a:lnTo>
                    <a:pt x="30" y="12"/>
                  </a:lnTo>
                  <a:lnTo>
                    <a:pt x="36" y="10"/>
                  </a:lnTo>
                  <a:lnTo>
                    <a:pt x="46" y="8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13" y="0"/>
                  </a:lnTo>
                  <a:lnTo>
                    <a:pt x="122" y="0"/>
                  </a:lnTo>
                  <a:lnTo>
                    <a:pt x="132" y="2"/>
                  </a:lnTo>
                  <a:lnTo>
                    <a:pt x="142" y="2"/>
                  </a:lnTo>
                  <a:lnTo>
                    <a:pt x="151" y="4"/>
                  </a:lnTo>
                  <a:lnTo>
                    <a:pt x="159" y="8"/>
                  </a:lnTo>
                  <a:lnTo>
                    <a:pt x="167" y="10"/>
                  </a:lnTo>
                  <a:lnTo>
                    <a:pt x="174" y="12"/>
                  </a:lnTo>
                  <a:lnTo>
                    <a:pt x="182" y="15"/>
                  </a:lnTo>
                  <a:lnTo>
                    <a:pt x="188" y="17"/>
                  </a:lnTo>
                  <a:lnTo>
                    <a:pt x="191" y="21"/>
                  </a:lnTo>
                  <a:lnTo>
                    <a:pt x="197" y="25"/>
                  </a:lnTo>
                  <a:lnTo>
                    <a:pt x="201" y="29"/>
                  </a:lnTo>
                  <a:lnTo>
                    <a:pt x="203" y="33"/>
                  </a:lnTo>
                  <a:lnTo>
                    <a:pt x="205" y="36"/>
                  </a:lnTo>
                  <a:lnTo>
                    <a:pt x="205" y="42"/>
                  </a:lnTo>
                  <a:close/>
                </a:path>
              </a:pathLst>
            </a:custGeom>
            <a:solidFill>
              <a:srgbClr val="acacac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419920" y="5763240"/>
              <a:ext cx="430560" cy="191880"/>
            </a:xfrm>
            <a:custGeom>
              <a:avLst/>
              <a:gdLst/>
              <a:ahLst/>
              <a:rect l="l" t="t" r="r" b="b"/>
              <a:pathLst>
                <a:path w="204" h="91">
                  <a:moveTo>
                    <a:pt x="204" y="64"/>
                  </a:moveTo>
                  <a:lnTo>
                    <a:pt x="202" y="68"/>
                  </a:lnTo>
                  <a:lnTo>
                    <a:pt x="200" y="71"/>
                  </a:lnTo>
                  <a:lnTo>
                    <a:pt x="196" y="75"/>
                  </a:lnTo>
                  <a:lnTo>
                    <a:pt x="192" y="77"/>
                  </a:lnTo>
                  <a:lnTo>
                    <a:pt x="188" y="81"/>
                  </a:lnTo>
                  <a:lnTo>
                    <a:pt x="182" y="83"/>
                  </a:lnTo>
                  <a:lnTo>
                    <a:pt x="175" y="85"/>
                  </a:lnTo>
                  <a:lnTo>
                    <a:pt x="169" y="87"/>
                  </a:lnTo>
                  <a:lnTo>
                    <a:pt x="161" y="89"/>
                  </a:lnTo>
                  <a:lnTo>
                    <a:pt x="152" y="89"/>
                  </a:lnTo>
                  <a:lnTo>
                    <a:pt x="144" y="91"/>
                  </a:lnTo>
                  <a:lnTo>
                    <a:pt x="134" y="91"/>
                  </a:lnTo>
                  <a:lnTo>
                    <a:pt x="125" y="91"/>
                  </a:lnTo>
                  <a:lnTo>
                    <a:pt x="115" y="89"/>
                  </a:lnTo>
                  <a:lnTo>
                    <a:pt x="106" y="89"/>
                  </a:lnTo>
                  <a:lnTo>
                    <a:pt x="94" y="87"/>
                  </a:lnTo>
                  <a:lnTo>
                    <a:pt x="94" y="87"/>
                  </a:lnTo>
                  <a:lnTo>
                    <a:pt x="85" y="85"/>
                  </a:lnTo>
                  <a:lnTo>
                    <a:pt x="75" y="83"/>
                  </a:lnTo>
                  <a:lnTo>
                    <a:pt x="65" y="79"/>
                  </a:lnTo>
                  <a:lnTo>
                    <a:pt x="56" y="77"/>
                  </a:lnTo>
                  <a:lnTo>
                    <a:pt x="48" y="73"/>
                  </a:lnTo>
                  <a:lnTo>
                    <a:pt x="40" y="70"/>
                  </a:lnTo>
                  <a:lnTo>
                    <a:pt x="33" y="66"/>
                  </a:lnTo>
                  <a:lnTo>
                    <a:pt x="25" y="62"/>
                  </a:lnTo>
                  <a:lnTo>
                    <a:pt x="19" y="58"/>
                  </a:lnTo>
                  <a:lnTo>
                    <a:pt x="13" y="54"/>
                  </a:lnTo>
                  <a:lnTo>
                    <a:pt x="10" y="48"/>
                  </a:lnTo>
                  <a:lnTo>
                    <a:pt x="6" y="45"/>
                  </a:lnTo>
                  <a:lnTo>
                    <a:pt x="4" y="41"/>
                  </a:lnTo>
                  <a:lnTo>
                    <a:pt x="2" y="37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8" y="16"/>
                  </a:lnTo>
                  <a:lnTo>
                    <a:pt x="12" y="14"/>
                  </a:lnTo>
                  <a:lnTo>
                    <a:pt x="17" y="10"/>
                  </a:lnTo>
                  <a:lnTo>
                    <a:pt x="23" y="8"/>
                  </a:lnTo>
                  <a:lnTo>
                    <a:pt x="29" y="6"/>
                  </a:lnTo>
                  <a:lnTo>
                    <a:pt x="37" y="4"/>
                  </a:lnTo>
                  <a:lnTo>
                    <a:pt x="44" y="2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88" y="2"/>
                  </a:lnTo>
                  <a:lnTo>
                    <a:pt x="100" y="2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19" y="6"/>
                  </a:lnTo>
                  <a:lnTo>
                    <a:pt x="131" y="8"/>
                  </a:lnTo>
                  <a:lnTo>
                    <a:pt x="138" y="12"/>
                  </a:lnTo>
                  <a:lnTo>
                    <a:pt x="148" y="14"/>
                  </a:lnTo>
                  <a:lnTo>
                    <a:pt x="157" y="18"/>
                  </a:lnTo>
                  <a:lnTo>
                    <a:pt x="165" y="22"/>
                  </a:lnTo>
                  <a:lnTo>
                    <a:pt x="173" y="25"/>
                  </a:lnTo>
                  <a:lnTo>
                    <a:pt x="179" y="29"/>
                  </a:lnTo>
                  <a:lnTo>
                    <a:pt x="184" y="33"/>
                  </a:lnTo>
                  <a:lnTo>
                    <a:pt x="190" y="37"/>
                  </a:lnTo>
                  <a:lnTo>
                    <a:pt x="194" y="41"/>
                  </a:lnTo>
                  <a:lnTo>
                    <a:pt x="198" y="46"/>
                  </a:lnTo>
                  <a:lnTo>
                    <a:pt x="202" y="50"/>
                  </a:lnTo>
                  <a:lnTo>
                    <a:pt x="204" y="54"/>
                  </a:lnTo>
                  <a:lnTo>
                    <a:pt x="204" y="58"/>
                  </a:lnTo>
                  <a:lnTo>
                    <a:pt x="204" y="64"/>
                  </a:lnTo>
                  <a:close/>
                </a:path>
              </a:pathLst>
            </a:custGeom>
            <a:solidFill>
              <a:srgbClr val="acacac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618640" y="6234120"/>
              <a:ext cx="417600" cy="215280"/>
            </a:xfrm>
            <a:custGeom>
              <a:avLst/>
              <a:gdLst/>
              <a:ahLst/>
              <a:rect l="l" t="t" r="r" b="b"/>
              <a:pathLst>
                <a:path w="198" h="102">
                  <a:moveTo>
                    <a:pt x="198" y="81"/>
                  </a:moveTo>
                  <a:lnTo>
                    <a:pt x="196" y="85"/>
                  </a:lnTo>
                  <a:lnTo>
                    <a:pt x="194" y="88"/>
                  </a:lnTo>
                  <a:lnTo>
                    <a:pt x="190" y="92"/>
                  </a:lnTo>
                  <a:lnTo>
                    <a:pt x="184" y="94"/>
                  </a:lnTo>
                  <a:lnTo>
                    <a:pt x="181" y="96"/>
                  </a:lnTo>
                  <a:lnTo>
                    <a:pt x="175" y="98"/>
                  </a:lnTo>
                  <a:lnTo>
                    <a:pt x="167" y="100"/>
                  </a:lnTo>
                  <a:lnTo>
                    <a:pt x="159" y="100"/>
                  </a:lnTo>
                  <a:lnTo>
                    <a:pt x="152" y="102"/>
                  </a:lnTo>
                  <a:lnTo>
                    <a:pt x="144" y="102"/>
                  </a:lnTo>
                  <a:lnTo>
                    <a:pt x="136" y="100"/>
                  </a:lnTo>
                  <a:lnTo>
                    <a:pt x="127" y="100"/>
                  </a:lnTo>
                  <a:lnTo>
                    <a:pt x="117" y="98"/>
                  </a:lnTo>
                  <a:lnTo>
                    <a:pt x="108" y="96"/>
                  </a:lnTo>
                  <a:lnTo>
                    <a:pt x="98" y="94"/>
                  </a:lnTo>
                  <a:lnTo>
                    <a:pt x="87" y="90"/>
                  </a:lnTo>
                  <a:lnTo>
                    <a:pt x="87" y="90"/>
                  </a:lnTo>
                  <a:lnTo>
                    <a:pt x="77" y="88"/>
                  </a:lnTo>
                  <a:lnTo>
                    <a:pt x="67" y="85"/>
                  </a:lnTo>
                  <a:lnTo>
                    <a:pt x="60" y="81"/>
                  </a:lnTo>
                  <a:lnTo>
                    <a:pt x="50" y="77"/>
                  </a:lnTo>
                  <a:lnTo>
                    <a:pt x="42" y="71"/>
                  </a:lnTo>
                  <a:lnTo>
                    <a:pt x="35" y="67"/>
                  </a:lnTo>
                  <a:lnTo>
                    <a:pt x="27" y="63"/>
                  </a:lnTo>
                  <a:lnTo>
                    <a:pt x="21" y="58"/>
                  </a:lnTo>
                  <a:lnTo>
                    <a:pt x="15" y="54"/>
                  </a:lnTo>
                  <a:lnTo>
                    <a:pt x="12" y="48"/>
                  </a:lnTo>
                  <a:lnTo>
                    <a:pt x="8" y="44"/>
                  </a:lnTo>
                  <a:lnTo>
                    <a:pt x="4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9" y="6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3" y="2"/>
                  </a:lnTo>
                  <a:lnTo>
                    <a:pt x="73" y="2"/>
                  </a:lnTo>
                  <a:lnTo>
                    <a:pt x="83" y="4"/>
                  </a:lnTo>
                  <a:lnTo>
                    <a:pt x="92" y="6"/>
                  </a:lnTo>
                  <a:lnTo>
                    <a:pt x="102" y="8"/>
                  </a:lnTo>
                  <a:lnTo>
                    <a:pt x="111" y="12"/>
                  </a:lnTo>
                  <a:lnTo>
                    <a:pt x="111" y="12"/>
                  </a:lnTo>
                  <a:lnTo>
                    <a:pt x="121" y="14"/>
                  </a:lnTo>
                  <a:lnTo>
                    <a:pt x="131" y="17"/>
                  </a:lnTo>
                  <a:lnTo>
                    <a:pt x="140" y="21"/>
                  </a:lnTo>
                  <a:lnTo>
                    <a:pt x="150" y="25"/>
                  </a:lnTo>
                  <a:lnTo>
                    <a:pt x="158" y="31"/>
                  </a:lnTo>
                  <a:lnTo>
                    <a:pt x="165" y="35"/>
                  </a:lnTo>
                  <a:lnTo>
                    <a:pt x="171" y="39"/>
                  </a:lnTo>
                  <a:lnTo>
                    <a:pt x="177" y="44"/>
                  </a:lnTo>
                  <a:lnTo>
                    <a:pt x="183" y="48"/>
                  </a:lnTo>
                  <a:lnTo>
                    <a:pt x="188" y="54"/>
                  </a:lnTo>
                  <a:lnTo>
                    <a:pt x="192" y="58"/>
                  </a:lnTo>
                  <a:lnTo>
                    <a:pt x="194" y="63"/>
                  </a:lnTo>
                  <a:lnTo>
                    <a:pt x="198" y="67"/>
                  </a:lnTo>
                  <a:lnTo>
                    <a:pt x="198" y="73"/>
                  </a:lnTo>
                  <a:lnTo>
                    <a:pt x="198" y="77"/>
                  </a:lnTo>
                  <a:lnTo>
                    <a:pt x="198" y="81"/>
                  </a:lnTo>
                  <a:close/>
                </a:path>
              </a:pathLst>
            </a:custGeom>
            <a:solidFill>
              <a:srgbClr val="acacac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200680" y="6274080"/>
              <a:ext cx="386280" cy="263520"/>
            </a:xfrm>
            <a:custGeom>
              <a:avLst/>
              <a:gdLst/>
              <a:ahLst/>
              <a:rect l="l" t="t" r="r" b="b"/>
              <a:pathLst>
                <a:path w="183" h="125">
                  <a:moveTo>
                    <a:pt x="181" y="12"/>
                  </a:moveTo>
                  <a:lnTo>
                    <a:pt x="183" y="16"/>
                  </a:lnTo>
                  <a:lnTo>
                    <a:pt x="183" y="20"/>
                  </a:lnTo>
                  <a:lnTo>
                    <a:pt x="183" y="23"/>
                  </a:lnTo>
                  <a:lnTo>
                    <a:pt x="183" y="29"/>
                  </a:lnTo>
                  <a:lnTo>
                    <a:pt x="181" y="35"/>
                  </a:lnTo>
                  <a:lnTo>
                    <a:pt x="177" y="41"/>
                  </a:lnTo>
                  <a:lnTo>
                    <a:pt x="173" y="46"/>
                  </a:lnTo>
                  <a:lnTo>
                    <a:pt x="169" y="52"/>
                  </a:lnTo>
                  <a:lnTo>
                    <a:pt x="165" y="58"/>
                  </a:lnTo>
                  <a:lnTo>
                    <a:pt x="160" y="64"/>
                  </a:lnTo>
                  <a:lnTo>
                    <a:pt x="152" y="69"/>
                  </a:lnTo>
                  <a:lnTo>
                    <a:pt x="146" y="75"/>
                  </a:lnTo>
                  <a:lnTo>
                    <a:pt x="139" y="81"/>
                  </a:lnTo>
                  <a:lnTo>
                    <a:pt x="131" y="87"/>
                  </a:lnTo>
                  <a:lnTo>
                    <a:pt x="121" y="92"/>
                  </a:lnTo>
                  <a:lnTo>
                    <a:pt x="114" y="98"/>
                  </a:lnTo>
                  <a:lnTo>
                    <a:pt x="114" y="98"/>
                  </a:lnTo>
                  <a:lnTo>
                    <a:pt x="104" y="104"/>
                  </a:lnTo>
                  <a:lnTo>
                    <a:pt x="94" y="108"/>
                  </a:lnTo>
                  <a:lnTo>
                    <a:pt x="85" y="112"/>
                  </a:lnTo>
                  <a:lnTo>
                    <a:pt x="77" y="115"/>
                  </a:lnTo>
                  <a:lnTo>
                    <a:pt x="68" y="119"/>
                  </a:lnTo>
                  <a:lnTo>
                    <a:pt x="60" y="121"/>
                  </a:lnTo>
                  <a:lnTo>
                    <a:pt x="52" y="123"/>
                  </a:lnTo>
                  <a:lnTo>
                    <a:pt x="45" y="125"/>
                  </a:lnTo>
                  <a:lnTo>
                    <a:pt x="37" y="125"/>
                  </a:lnTo>
                  <a:lnTo>
                    <a:pt x="29" y="125"/>
                  </a:lnTo>
                  <a:lnTo>
                    <a:pt x="23" y="125"/>
                  </a:lnTo>
                  <a:lnTo>
                    <a:pt x="18" y="123"/>
                  </a:lnTo>
                  <a:lnTo>
                    <a:pt x="14" y="121"/>
                  </a:lnTo>
                  <a:lnTo>
                    <a:pt x="10" y="119"/>
                  </a:lnTo>
                  <a:lnTo>
                    <a:pt x="6" y="117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0" y="110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2" y="96"/>
                  </a:lnTo>
                  <a:lnTo>
                    <a:pt x="4" y="91"/>
                  </a:lnTo>
                  <a:lnTo>
                    <a:pt x="6" y="85"/>
                  </a:lnTo>
                  <a:lnTo>
                    <a:pt x="10" y="79"/>
                  </a:lnTo>
                  <a:lnTo>
                    <a:pt x="14" y="73"/>
                  </a:lnTo>
                  <a:lnTo>
                    <a:pt x="20" y="67"/>
                  </a:lnTo>
                  <a:lnTo>
                    <a:pt x="25" y="62"/>
                  </a:lnTo>
                  <a:lnTo>
                    <a:pt x="31" y="54"/>
                  </a:lnTo>
                  <a:lnTo>
                    <a:pt x="39" y="48"/>
                  </a:lnTo>
                  <a:lnTo>
                    <a:pt x="46" y="43"/>
                  </a:lnTo>
                  <a:lnTo>
                    <a:pt x="54" y="37"/>
                  </a:lnTo>
                  <a:lnTo>
                    <a:pt x="62" y="31"/>
                  </a:lnTo>
                  <a:lnTo>
                    <a:pt x="71" y="25"/>
                  </a:lnTo>
                  <a:lnTo>
                    <a:pt x="71" y="25"/>
                  </a:lnTo>
                  <a:lnTo>
                    <a:pt x="81" y="21"/>
                  </a:lnTo>
                  <a:lnTo>
                    <a:pt x="89" y="16"/>
                  </a:lnTo>
                  <a:lnTo>
                    <a:pt x="98" y="12"/>
                  </a:lnTo>
                  <a:lnTo>
                    <a:pt x="108" y="10"/>
                  </a:lnTo>
                  <a:lnTo>
                    <a:pt x="116" y="6"/>
                  </a:lnTo>
                  <a:lnTo>
                    <a:pt x="125" y="4"/>
                  </a:lnTo>
                  <a:lnTo>
                    <a:pt x="133" y="2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71" y="2"/>
                  </a:lnTo>
                  <a:lnTo>
                    <a:pt x="175" y="4"/>
                  </a:lnTo>
                  <a:lnTo>
                    <a:pt x="179" y="8"/>
                  </a:lnTo>
                  <a:lnTo>
                    <a:pt x="181" y="12"/>
                  </a:lnTo>
                  <a:close/>
                </a:path>
              </a:pathLst>
            </a:custGeom>
            <a:solidFill>
              <a:srgbClr val="acacac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2319120" y="5018040"/>
              <a:ext cx="426240" cy="202680"/>
            </a:xfrm>
            <a:custGeom>
              <a:avLst/>
              <a:gdLst/>
              <a:ahLst/>
              <a:rect l="l" t="t" r="r" b="b"/>
              <a:pathLst>
                <a:path w="202" h="96">
                  <a:moveTo>
                    <a:pt x="200" y="21"/>
                  </a:moveTo>
                  <a:lnTo>
                    <a:pt x="202" y="25"/>
                  </a:lnTo>
                  <a:lnTo>
                    <a:pt x="200" y="31"/>
                  </a:lnTo>
                  <a:lnTo>
                    <a:pt x="200" y="35"/>
                  </a:lnTo>
                  <a:lnTo>
                    <a:pt x="196" y="39"/>
                  </a:lnTo>
                  <a:lnTo>
                    <a:pt x="194" y="44"/>
                  </a:lnTo>
                  <a:lnTo>
                    <a:pt x="188" y="48"/>
                  </a:lnTo>
                  <a:lnTo>
                    <a:pt x="184" y="54"/>
                  </a:lnTo>
                  <a:lnTo>
                    <a:pt x="179" y="58"/>
                  </a:lnTo>
                  <a:lnTo>
                    <a:pt x="173" y="62"/>
                  </a:lnTo>
                  <a:lnTo>
                    <a:pt x="165" y="67"/>
                  </a:lnTo>
                  <a:lnTo>
                    <a:pt x="157" y="71"/>
                  </a:lnTo>
                  <a:lnTo>
                    <a:pt x="150" y="75"/>
                  </a:lnTo>
                  <a:lnTo>
                    <a:pt x="140" y="79"/>
                  </a:lnTo>
                  <a:lnTo>
                    <a:pt x="131" y="83"/>
                  </a:lnTo>
                  <a:lnTo>
                    <a:pt x="121" y="85"/>
                  </a:lnTo>
                  <a:lnTo>
                    <a:pt x="111" y="88"/>
                  </a:lnTo>
                  <a:lnTo>
                    <a:pt x="111" y="88"/>
                  </a:lnTo>
                  <a:lnTo>
                    <a:pt x="102" y="90"/>
                  </a:lnTo>
                  <a:lnTo>
                    <a:pt x="92" y="92"/>
                  </a:lnTo>
                  <a:lnTo>
                    <a:pt x="83" y="94"/>
                  </a:lnTo>
                  <a:lnTo>
                    <a:pt x="73" y="96"/>
                  </a:lnTo>
                  <a:lnTo>
                    <a:pt x="63" y="96"/>
                  </a:lnTo>
                  <a:lnTo>
                    <a:pt x="54" y="96"/>
                  </a:lnTo>
                  <a:lnTo>
                    <a:pt x="46" y="96"/>
                  </a:lnTo>
                  <a:lnTo>
                    <a:pt x="38" y="96"/>
                  </a:lnTo>
                  <a:lnTo>
                    <a:pt x="31" y="94"/>
                  </a:lnTo>
                  <a:lnTo>
                    <a:pt x="25" y="92"/>
                  </a:lnTo>
                  <a:lnTo>
                    <a:pt x="19" y="90"/>
                  </a:lnTo>
                  <a:lnTo>
                    <a:pt x="13" y="88"/>
                  </a:lnTo>
                  <a:lnTo>
                    <a:pt x="10" y="85"/>
                  </a:lnTo>
                  <a:lnTo>
                    <a:pt x="6" y="83"/>
                  </a:lnTo>
                  <a:lnTo>
                    <a:pt x="4" y="79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0" y="71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6" y="58"/>
                  </a:lnTo>
                  <a:lnTo>
                    <a:pt x="8" y="52"/>
                  </a:lnTo>
                  <a:lnTo>
                    <a:pt x="12" y="48"/>
                  </a:lnTo>
                  <a:lnTo>
                    <a:pt x="17" y="42"/>
                  </a:lnTo>
                  <a:lnTo>
                    <a:pt x="23" y="39"/>
                  </a:lnTo>
                  <a:lnTo>
                    <a:pt x="29" y="33"/>
                  </a:lnTo>
                  <a:lnTo>
                    <a:pt x="37" y="29"/>
                  </a:lnTo>
                  <a:lnTo>
                    <a:pt x="44" y="25"/>
                  </a:lnTo>
                  <a:lnTo>
                    <a:pt x="52" y="21"/>
                  </a:lnTo>
                  <a:lnTo>
                    <a:pt x="61" y="17"/>
                  </a:lnTo>
                  <a:lnTo>
                    <a:pt x="71" y="14"/>
                  </a:lnTo>
                  <a:lnTo>
                    <a:pt x="81" y="10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100" y="6"/>
                  </a:lnTo>
                  <a:lnTo>
                    <a:pt x="109" y="4"/>
                  </a:lnTo>
                  <a:lnTo>
                    <a:pt x="119" y="2"/>
                  </a:lnTo>
                  <a:lnTo>
                    <a:pt x="129" y="0"/>
                  </a:lnTo>
                  <a:lnTo>
                    <a:pt x="138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71" y="2"/>
                  </a:lnTo>
                  <a:lnTo>
                    <a:pt x="177" y="4"/>
                  </a:lnTo>
                  <a:lnTo>
                    <a:pt x="182" y="6"/>
                  </a:lnTo>
                  <a:lnTo>
                    <a:pt x="188" y="8"/>
                  </a:lnTo>
                  <a:lnTo>
                    <a:pt x="192" y="10"/>
                  </a:lnTo>
                  <a:lnTo>
                    <a:pt x="196" y="14"/>
                  </a:lnTo>
                  <a:lnTo>
                    <a:pt x="198" y="17"/>
                  </a:lnTo>
                  <a:lnTo>
                    <a:pt x="200" y="21"/>
                  </a:lnTo>
                  <a:close/>
                </a:path>
              </a:pathLst>
            </a:custGeom>
            <a:solidFill>
              <a:srgbClr val="acacac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2707200" y="5208120"/>
              <a:ext cx="434880" cy="174960"/>
            </a:xfrm>
            <a:custGeom>
              <a:avLst/>
              <a:gdLst/>
              <a:ahLst/>
              <a:rect l="l" t="t" r="r" b="b"/>
              <a:pathLst>
                <a:path w="206" h="83">
                  <a:moveTo>
                    <a:pt x="206" y="43"/>
                  </a:moveTo>
                  <a:lnTo>
                    <a:pt x="206" y="46"/>
                  </a:lnTo>
                  <a:lnTo>
                    <a:pt x="204" y="50"/>
                  </a:lnTo>
                  <a:lnTo>
                    <a:pt x="202" y="54"/>
                  </a:lnTo>
                  <a:lnTo>
                    <a:pt x="198" y="58"/>
                  </a:lnTo>
                  <a:lnTo>
                    <a:pt x="194" y="62"/>
                  </a:lnTo>
                  <a:lnTo>
                    <a:pt x="189" y="66"/>
                  </a:lnTo>
                  <a:lnTo>
                    <a:pt x="183" y="68"/>
                  </a:lnTo>
                  <a:lnTo>
                    <a:pt x="175" y="71"/>
                  </a:lnTo>
                  <a:lnTo>
                    <a:pt x="169" y="73"/>
                  </a:lnTo>
                  <a:lnTo>
                    <a:pt x="162" y="77"/>
                  </a:lnTo>
                  <a:lnTo>
                    <a:pt x="152" y="79"/>
                  </a:lnTo>
                  <a:lnTo>
                    <a:pt x="142" y="81"/>
                  </a:lnTo>
                  <a:lnTo>
                    <a:pt x="135" y="81"/>
                  </a:lnTo>
                  <a:lnTo>
                    <a:pt x="123" y="83"/>
                  </a:lnTo>
                  <a:lnTo>
                    <a:pt x="114" y="83"/>
                  </a:lnTo>
                  <a:lnTo>
                    <a:pt x="104" y="83"/>
                  </a:lnTo>
                  <a:lnTo>
                    <a:pt x="104" y="83"/>
                  </a:lnTo>
                  <a:lnTo>
                    <a:pt x="93" y="83"/>
                  </a:lnTo>
                  <a:lnTo>
                    <a:pt x="83" y="83"/>
                  </a:lnTo>
                  <a:lnTo>
                    <a:pt x="73" y="81"/>
                  </a:lnTo>
                  <a:lnTo>
                    <a:pt x="64" y="81"/>
                  </a:lnTo>
                  <a:lnTo>
                    <a:pt x="54" y="79"/>
                  </a:lnTo>
                  <a:lnTo>
                    <a:pt x="46" y="77"/>
                  </a:lnTo>
                  <a:lnTo>
                    <a:pt x="39" y="73"/>
                  </a:lnTo>
                  <a:lnTo>
                    <a:pt x="31" y="71"/>
                  </a:lnTo>
                  <a:lnTo>
                    <a:pt x="23" y="68"/>
                  </a:lnTo>
                  <a:lnTo>
                    <a:pt x="18" y="66"/>
                  </a:lnTo>
                  <a:lnTo>
                    <a:pt x="14" y="62"/>
                  </a:lnTo>
                  <a:lnTo>
                    <a:pt x="8" y="58"/>
                  </a:lnTo>
                  <a:lnTo>
                    <a:pt x="6" y="5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8" y="25"/>
                  </a:lnTo>
                  <a:lnTo>
                    <a:pt x="14" y="22"/>
                  </a:lnTo>
                  <a:lnTo>
                    <a:pt x="18" y="18"/>
                  </a:lnTo>
                  <a:lnTo>
                    <a:pt x="23" y="16"/>
                  </a:lnTo>
                  <a:lnTo>
                    <a:pt x="31" y="12"/>
                  </a:lnTo>
                  <a:lnTo>
                    <a:pt x="39" y="10"/>
                  </a:lnTo>
                  <a:lnTo>
                    <a:pt x="46" y="8"/>
                  </a:lnTo>
                  <a:lnTo>
                    <a:pt x="54" y="4"/>
                  </a:lnTo>
                  <a:lnTo>
                    <a:pt x="64" y="2"/>
                  </a:lnTo>
                  <a:lnTo>
                    <a:pt x="73" y="2"/>
                  </a:lnTo>
                  <a:lnTo>
                    <a:pt x="83" y="0"/>
                  </a:lnTo>
                  <a:lnTo>
                    <a:pt x="93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14" y="0"/>
                  </a:lnTo>
                  <a:lnTo>
                    <a:pt x="123" y="0"/>
                  </a:lnTo>
                  <a:lnTo>
                    <a:pt x="135" y="2"/>
                  </a:lnTo>
                  <a:lnTo>
                    <a:pt x="142" y="2"/>
                  </a:lnTo>
                  <a:lnTo>
                    <a:pt x="152" y="4"/>
                  </a:lnTo>
                  <a:lnTo>
                    <a:pt x="162" y="8"/>
                  </a:lnTo>
                  <a:lnTo>
                    <a:pt x="169" y="10"/>
                  </a:lnTo>
                  <a:lnTo>
                    <a:pt x="175" y="12"/>
                  </a:lnTo>
                  <a:lnTo>
                    <a:pt x="183" y="16"/>
                  </a:lnTo>
                  <a:lnTo>
                    <a:pt x="189" y="18"/>
                  </a:lnTo>
                  <a:lnTo>
                    <a:pt x="194" y="22"/>
                  </a:lnTo>
                  <a:lnTo>
                    <a:pt x="198" y="25"/>
                  </a:lnTo>
                  <a:lnTo>
                    <a:pt x="202" y="29"/>
                  </a:lnTo>
                  <a:lnTo>
                    <a:pt x="204" y="33"/>
                  </a:lnTo>
                  <a:lnTo>
                    <a:pt x="206" y="37"/>
                  </a:lnTo>
                  <a:lnTo>
                    <a:pt x="206" y="43"/>
                  </a:lnTo>
                  <a:close/>
                </a:path>
              </a:pathLst>
            </a:custGeom>
            <a:solidFill>
              <a:srgbClr val="acacac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2323440" y="5366520"/>
              <a:ext cx="432720" cy="179280"/>
            </a:xfrm>
            <a:custGeom>
              <a:avLst/>
              <a:gdLst/>
              <a:ahLst/>
              <a:rect l="l" t="t" r="r" b="b"/>
              <a:pathLst>
                <a:path w="205" h="85">
                  <a:moveTo>
                    <a:pt x="205" y="42"/>
                  </a:moveTo>
                  <a:lnTo>
                    <a:pt x="205" y="46"/>
                  </a:lnTo>
                  <a:lnTo>
                    <a:pt x="203" y="52"/>
                  </a:lnTo>
                  <a:lnTo>
                    <a:pt x="202" y="56"/>
                  </a:lnTo>
                  <a:lnTo>
                    <a:pt x="198" y="60"/>
                  </a:lnTo>
                  <a:lnTo>
                    <a:pt x="194" y="64"/>
                  </a:lnTo>
                  <a:lnTo>
                    <a:pt x="188" y="66"/>
                  </a:lnTo>
                  <a:lnTo>
                    <a:pt x="182" y="69"/>
                  </a:lnTo>
                  <a:lnTo>
                    <a:pt x="175" y="73"/>
                  </a:lnTo>
                  <a:lnTo>
                    <a:pt x="167" y="75"/>
                  </a:lnTo>
                  <a:lnTo>
                    <a:pt x="159" y="77"/>
                  </a:lnTo>
                  <a:lnTo>
                    <a:pt x="152" y="79"/>
                  </a:lnTo>
                  <a:lnTo>
                    <a:pt x="142" y="81"/>
                  </a:lnTo>
                  <a:lnTo>
                    <a:pt x="132" y="83"/>
                  </a:lnTo>
                  <a:lnTo>
                    <a:pt x="123" y="85"/>
                  </a:lnTo>
                  <a:lnTo>
                    <a:pt x="113" y="85"/>
                  </a:lnTo>
                  <a:lnTo>
                    <a:pt x="102" y="85"/>
                  </a:lnTo>
                  <a:lnTo>
                    <a:pt x="102" y="85"/>
                  </a:lnTo>
                  <a:lnTo>
                    <a:pt x="92" y="85"/>
                  </a:lnTo>
                  <a:lnTo>
                    <a:pt x="83" y="85"/>
                  </a:lnTo>
                  <a:lnTo>
                    <a:pt x="73" y="83"/>
                  </a:lnTo>
                  <a:lnTo>
                    <a:pt x="63" y="81"/>
                  </a:lnTo>
                  <a:lnTo>
                    <a:pt x="54" y="79"/>
                  </a:lnTo>
                  <a:lnTo>
                    <a:pt x="46" y="77"/>
                  </a:lnTo>
                  <a:lnTo>
                    <a:pt x="36" y="75"/>
                  </a:lnTo>
                  <a:lnTo>
                    <a:pt x="31" y="73"/>
                  </a:lnTo>
                  <a:lnTo>
                    <a:pt x="23" y="69"/>
                  </a:lnTo>
                  <a:lnTo>
                    <a:pt x="17" y="66"/>
                  </a:lnTo>
                  <a:lnTo>
                    <a:pt x="11" y="64"/>
                  </a:lnTo>
                  <a:lnTo>
                    <a:pt x="8" y="60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4" y="31"/>
                  </a:lnTo>
                  <a:lnTo>
                    <a:pt x="8" y="27"/>
                  </a:lnTo>
                  <a:lnTo>
                    <a:pt x="11" y="23"/>
                  </a:lnTo>
                  <a:lnTo>
                    <a:pt x="17" y="19"/>
                  </a:lnTo>
                  <a:lnTo>
                    <a:pt x="23" y="16"/>
                  </a:lnTo>
                  <a:lnTo>
                    <a:pt x="31" y="14"/>
                  </a:lnTo>
                  <a:lnTo>
                    <a:pt x="36" y="10"/>
                  </a:lnTo>
                  <a:lnTo>
                    <a:pt x="46" y="8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3" y="2"/>
                  </a:lnTo>
                  <a:lnTo>
                    <a:pt x="83" y="2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13" y="2"/>
                  </a:lnTo>
                  <a:lnTo>
                    <a:pt x="123" y="2"/>
                  </a:lnTo>
                  <a:lnTo>
                    <a:pt x="132" y="2"/>
                  </a:lnTo>
                  <a:lnTo>
                    <a:pt x="142" y="4"/>
                  </a:lnTo>
                  <a:lnTo>
                    <a:pt x="152" y="6"/>
                  </a:lnTo>
                  <a:lnTo>
                    <a:pt x="159" y="8"/>
                  </a:lnTo>
                  <a:lnTo>
                    <a:pt x="167" y="10"/>
                  </a:lnTo>
                  <a:lnTo>
                    <a:pt x="175" y="14"/>
                  </a:lnTo>
                  <a:lnTo>
                    <a:pt x="182" y="16"/>
                  </a:lnTo>
                  <a:lnTo>
                    <a:pt x="188" y="19"/>
                  </a:lnTo>
                  <a:lnTo>
                    <a:pt x="194" y="23"/>
                  </a:lnTo>
                  <a:lnTo>
                    <a:pt x="198" y="27"/>
                  </a:lnTo>
                  <a:lnTo>
                    <a:pt x="202" y="31"/>
                  </a:lnTo>
                  <a:lnTo>
                    <a:pt x="203" y="35"/>
                  </a:lnTo>
                  <a:lnTo>
                    <a:pt x="205" y="39"/>
                  </a:lnTo>
                  <a:lnTo>
                    <a:pt x="205" y="42"/>
                  </a:lnTo>
                  <a:close/>
                </a:path>
              </a:pathLst>
            </a:custGeom>
            <a:solidFill>
              <a:srgbClr val="acacac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984040" y="5714640"/>
              <a:ext cx="428400" cy="192240"/>
            </a:xfrm>
            <a:custGeom>
              <a:avLst/>
              <a:gdLst/>
              <a:ahLst/>
              <a:rect l="l" t="t" r="r" b="b"/>
              <a:pathLst>
                <a:path w="203" h="91">
                  <a:moveTo>
                    <a:pt x="203" y="64"/>
                  </a:moveTo>
                  <a:lnTo>
                    <a:pt x="202" y="68"/>
                  </a:lnTo>
                  <a:lnTo>
                    <a:pt x="200" y="71"/>
                  </a:lnTo>
                  <a:lnTo>
                    <a:pt x="196" y="75"/>
                  </a:lnTo>
                  <a:lnTo>
                    <a:pt x="192" y="77"/>
                  </a:lnTo>
                  <a:lnTo>
                    <a:pt x="188" y="81"/>
                  </a:lnTo>
                  <a:lnTo>
                    <a:pt x="182" y="83"/>
                  </a:lnTo>
                  <a:lnTo>
                    <a:pt x="175" y="85"/>
                  </a:lnTo>
                  <a:lnTo>
                    <a:pt x="169" y="87"/>
                  </a:lnTo>
                  <a:lnTo>
                    <a:pt x="161" y="89"/>
                  </a:lnTo>
                  <a:lnTo>
                    <a:pt x="152" y="89"/>
                  </a:lnTo>
                  <a:lnTo>
                    <a:pt x="144" y="91"/>
                  </a:lnTo>
                  <a:lnTo>
                    <a:pt x="134" y="91"/>
                  </a:lnTo>
                  <a:lnTo>
                    <a:pt x="125" y="91"/>
                  </a:lnTo>
                  <a:lnTo>
                    <a:pt x="115" y="89"/>
                  </a:lnTo>
                  <a:lnTo>
                    <a:pt x="106" y="89"/>
                  </a:lnTo>
                  <a:lnTo>
                    <a:pt x="94" y="87"/>
                  </a:lnTo>
                  <a:lnTo>
                    <a:pt x="94" y="87"/>
                  </a:lnTo>
                  <a:lnTo>
                    <a:pt x="84" y="85"/>
                  </a:lnTo>
                  <a:lnTo>
                    <a:pt x="75" y="83"/>
                  </a:lnTo>
                  <a:lnTo>
                    <a:pt x="65" y="79"/>
                  </a:lnTo>
                  <a:lnTo>
                    <a:pt x="56" y="77"/>
                  </a:lnTo>
                  <a:lnTo>
                    <a:pt x="48" y="73"/>
                  </a:lnTo>
                  <a:lnTo>
                    <a:pt x="40" y="69"/>
                  </a:lnTo>
                  <a:lnTo>
                    <a:pt x="33" y="66"/>
                  </a:lnTo>
                  <a:lnTo>
                    <a:pt x="25" y="62"/>
                  </a:lnTo>
                  <a:lnTo>
                    <a:pt x="19" y="58"/>
                  </a:lnTo>
                  <a:lnTo>
                    <a:pt x="13" y="54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41"/>
                  </a:lnTo>
                  <a:lnTo>
                    <a:pt x="2" y="37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8" y="16"/>
                  </a:lnTo>
                  <a:lnTo>
                    <a:pt x="11" y="14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9" y="6"/>
                  </a:lnTo>
                  <a:lnTo>
                    <a:pt x="36" y="4"/>
                  </a:lnTo>
                  <a:lnTo>
                    <a:pt x="44" y="2"/>
                  </a:lnTo>
                  <a:lnTo>
                    <a:pt x="52" y="2"/>
                  </a:lnTo>
                  <a:lnTo>
                    <a:pt x="59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88" y="2"/>
                  </a:lnTo>
                  <a:lnTo>
                    <a:pt x="98" y="2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19" y="6"/>
                  </a:lnTo>
                  <a:lnTo>
                    <a:pt x="129" y="8"/>
                  </a:lnTo>
                  <a:lnTo>
                    <a:pt x="138" y="12"/>
                  </a:lnTo>
                  <a:lnTo>
                    <a:pt x="148" y="14"/>
                  </a:lnTo>
                  <a:lnTo>
                    <a:pt x="155" y="18"/>
                  </a:lnTo>
                  <a:lnTo>
                    <a:pt x="165" y="21"/>
                  </a:lnTo>
                  <a:lnTo>
                    <a:pt x="171" y="25"/>
                  </a:lnTo>
                  <a:lnTo>
                    <a:pt x="178" y="29"/>
                  </a:lnTo>
                  <a:lnTo>
                    <a:pt x="184" y="33"/>
                  </a:lnTo>
                  <a:lnTo>
                    <a:pt x="190" y="37"/>
                  </a:lnTo>
                  <a:lnTo>
                    <a:pt x="194" y="41"/>
                  </a:lnTo>
                  <a:lnTo>
                    <a:pt x="198" y="46"/>
                  </a:lnTo>
                  <a:lnTo>
                    <a:pt x="202" y="50"/>
                  </a:lnTo>
                  <a:lnTo>
                    <a:pt x="202" y="54"/>
                  </a:lnTo>
                  <a:lnTo>
                    <a:pt x="203" y="60"/>
                  </a:lnTo>
                  <a:lnTo>
                    <a:pt x="203" y="64"/>
                  </a:lnTo>
                  <a:close/>
                </a:path>
              </a:pathLst>
            </a:custGeom>
            <a:solidFill>
              <a:srgbClr val="acacac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846520" y="5995440"/>
              <a:ext cx="415800" cy="210960"/>
            </a:xfrm>
            <a:custGeom>
              <a:avLst/>
              <a:gdLst/>
              <a:ahLst/>
              <a:rect l="l" t="t" r="r" b="b"/>
              <a:pathLst>
                <a:path w="197" h="100">
                  <a:moveTo>
                    <a:pt x="197" y="80"/>
                  </a:moveTo>
                  <a:lnTo>
                    <a:pt x="195" y="84"/>
                  </a:lnTo>
                  <a:lnTo>
                    <a:pt x="192" y="88"/>
                  </a:lnTo>
                  <a:lnTo>
                    <a:pt x="188" y="90"/>
                  </a:lnTo>
                  <a:lnTo>
                    <a:pt x="184" y="92"/>
                  </a:lnTo>
                  <a:lnTo>
                    <a:pt x="178" y="96"/>
                  </a:lnTo>
                  <a:lnTo>
                    <a:pt x="172" y="98"/>
                  </a:lnTo>
                  <a:lnTo>
                    <a:pt x="167" y="98"/>
                  </a:lnTo>
                  <a:lnTo>
                    <a:pt x="159" y="100"/>
                  </a:lnTo>
                  <a:lnTo>
                    <a:pt x="151" y="100"/>
                  </a:lnTo>
                  <a:lnTo>
                    <a:pt x="144" y="100"/>
                  </a:lnTo>
                  <a:lnTo>
                    <a:pt x="134" y="100"/>
                  </a:lnTo>
                  <a:lnTo>
                    <a:pt x="124" y="98"/>
                  </a:lnTo>
                  <a:lnTo>
                    <a:pt x="115" y="98"/>
                  </a:lnTo>
                  <a:lnTo>
                    <a:pt x="105" y="96"/>
                  </a:lnTo>
                  <a:lnTo>
                    <a:pt x="96" y="92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76" y="86"/>
                  </a:lnTo>
                  <a:lnTo>
                    <a:pt x="67" y="82"/>
                  </a:lnTo>
                  <a:lnTo>
                    <a:pt x="57" y="79"/>
                  </a:lnTo>
                  <a:lnTo>
                    <a:pt x="50" y="75"/>
                  </a:lnTo>
                  <a:lnTo>
                    <a:pt x="40" y="71"/>
                  </a:lnTo>
                  <a:lnTo>
                    <a:pt x="32" y="67"/>
                  </a:lnTo>
                  <a:lnTo>
                    <a:pt x="27" y="61"/>
                  </a:lnTo>
                  <a:lnTo>
                    <a:pt x="21" y="57"/>
                  </a:lnTo>
                  <a:lnTo>
                    <a:pt x="15" y="52"/>
                  </a:lnTo>
                  <a:lnTo>
                    <a:pt x="9" y="48"/>
                  </a:lnTo>
                  <a:lnTo>
                    <a:pt x="5" y="42"/>
                  </a:lnTo>
                  <a:lnTo>
                    <a:pt x="3" y="38"/>
                  </a:lnTo>
                  <a:lnTo>
                    <a:pt x="2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3" y="11"/>
                  </a:lnTo>
                  <a:lnTo>
                    <a:pt x="7" y="9"/>
                  </a:lnTo>
                  <a:lnTo>
                    <a:pt x="13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30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1" y="2"/>
                  </a:lnTo>
                  <a:lnTo>
                    <a:pt x="80" y="2"/>
                  </a:lnTo>
                  <a:lnTo>
                    <a:pt x="90" y="4"/>
                  </a:lnTo>
                  <a:lnTo>
                    <a:pt x="99" y="8"/>
                  </a:lnTo>
                  <a:lnTo>
                    <a:pt x="111" y="9"/>
                  </a:lnTo>
                  <a:lnTo>
                    <a:pt x="111" y="9"/>
                  </a:lnTo>
                  <a:lnTo>
                    <a:pt x="121" y="13"/>
                  </a:lnTo>
                  <a:lnTo>
                    <a:pt x="130" y="17"/>
                  </a:lnTo>
                  <a:lnTo>
                    <a:pt x="140" y="21"/>
                  </a:lnTo>
                  <a:lnTo>
                    <a:pt x="147" y="25"/>
                  </a:lnTo>
                  <a:lnTo>
                    <a:pt x="155" y="29"/>
                  </a:lnTo>
                  <a:lnTo>
                    <a:pt x="163" y="32"/>
                  </a:lnTo>
                  <a:lnTo>
                    <a:pt x="171" y="38"/>
                  </a:lnTo>
                  <a:lnTo>
                    <a:pt x="176" y="42"/>
                  </a:lnTo>
                  <a:lnTo>
                    <a:pt x="182" y="48"/>
                  </a:lnTo>
                  <a:lnTo>
                    <a:pt x="186" y="52"/>
                  </a:lnTo>
                  <a:lnTo>
                    <a:pt x="190" y="57"/>
                  </a:lnTo>
                  <a:lnTo>
                    <a:pt x="194" y="61"/>
                  </a:lnTo>
                  <a:lnTo>
                    <a:pt x="195" y="67"/>
                  </a:lnTo>
                  <a:lnTo>
                    <a:pt x="197" y="71"/>
                  </a:lnTo>
                  <a:lnTo>
                    <a:pt x="197" y="75"/>
                  </a:lnTo>
                  <a:lnTo>
                    <a:pt x="197" y="80"/>
                  </a:lnTo>
                  <a:close/>
                </a:path>
              </a:pathLst>
            </a:custGeom>
            <a:solidFill>
              <a:srgbClr val="e34913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2684160" y="5452920"/>
              <a:ext cx="383760" cy="265680"/>
            </a:xfrm>
            <a:custGeom>
              <a:avLst/>
              <a:gdLst/>
              <a:ahLst/>
              <a:rect l="l" t="t" r="r" b="b"/>
              <a:pathLst>
                <a:path w="182" h="126">
                  <a:moveTo>
                    <a:pt x="180" y="11"/>
                  </a:moveTo>
                  <a:lnTo>
                    <a:pt x="182" y="15"/>
                  </a:lnTo>
                  <a:lnTo>
                    <a:pt x="182" y="21"/>
                  </a:lnTo>
                  <a:lnTo>
                    <a:pt x="182" y="25"/>
                  </a:lnTo>
                  <a:lnTo>
                    <a:pt x="182" y="30"/>
                  </a:lnTo>
                  <a:lnTo>
                    <a:pt x="180" y="34"/>
                  </a:lnTo>
                  <a:lnTo>
                    <a:pt x="176" y="40"/>
                  </a:lnTo>
                  <a:lnTo>
                    <a:pt x="173" y="46"/>
                  </a:lnTo>
                  <a:lnTo>
                    <a:pt x="169" y="51"/>
                  </a:lnTo>
                  <a:lnTo>
                    <a:pt x="165" y="59"/>
                  </a:lnTo>
                  <a:lnTo>
                    <a:pt x="159" y="65"/>
                  </a:lnTo>
                  <a:lnTo>
                    <a:pt x="152" y="71"/>
                  </a:lnTo>
                  <a:lnTo>
                    <a:pt x="146" y="76"/>
                  </a:lnTo>
                  <a:lnTo>
                    <a:pt x="138" y="82"/>
                  </a:lnTo>
                  <a:lnTo>
                    <a:pt x="130" y="88"/>
                  </a:lnTo>
                  <a:lnTo>
                    <a:pt x="121" y="94"/>
                  </a:lnTo>
                  <a:lnTo>
                    <a:pt x="113" y="99"/>
                  </a:lnTo>
                  <a:lnTo>
                    <a:pt x="113" y="99"/>
                  </a:lnTo>
                  <a:lnTo>
                    <a:pt x="104" y="105"/>
                  </a:lnTo>
                  <a:lnTo>
                    <a:pt x="94" y="109"/>
                  </a:lnTo>
                  <a:lnTo>
                    <a:pt x="84" y="113"/>
                  </a:lnTo>
                  <a:lnTo>
                    <a:pt x="77" y="117"/>
                  </a:lnTo>
                  <a:lnTo>
                    <a:pt x="67" y="119"/>
                  </a:lnTo>
                  <a:lnTo>
                    <a:pt x="59" y="122"/>
                  </a:lnTo>
                  <a:lnTo>
                    <a:pt x="52" y="124"/>
                  </a:lnTo>
                  <a:lnTo>
                    <a:pt x="44" y="124"/>
                  </a:lnTo>
                  <a:lnTo>
                    <a:pt x="36" y="126"/>
                  </a:lnTo>
                  <a:lnTo>
                    <a:pt x="29" y="126"/>
                  </a:lnTo>
                  <a:lnTo>
                    <a:pt x="23" y="124"/>
                  </a:lnTo>
                  <a:lnTo>
                    <a:pt x="17" y="124"/>
                  </a:lnTo>
                  <a:lnTo>
                    <a:pt x="13" y="122"/>
                  </a:lnTo>
                  <a:lnTo>
                    <a:pt x="9" y="121"/>
                  </a:lnTo>
                  <a:lnTo>
                    <a:pt x="6" y="119"/>
                  </a:lnTo>
                  <a:lnTo>
                    <a:pt x="2" y="115"/>
                  </a:lnTo>
                  <a:lnTo>
                    <a:pt x="2" y="115"/>
                  </a:lnTo>
                  <a:lnTo>
                    <a:pt x="2" y="111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2" y="96"/>
                  </a:lnTo>
                  <a:lnTo>
                    <a:pt x="4" y="92"/>
                  </a:lnTo>
                  <a:lnTo>
                    <a:pt x="6" y="86"/>
                  </a:lnTo>
                  <a:lnTo>
                    <a:pt x="9" y="80"/>
                  </a:lnTo>
                  <a:lnTo>
                    <a:pt x="13" y="74"/>
                  </a:lnTo>
                  <a:lnTo>
                    <a:pt x="19" y="67"/>
                  </a:lnTo>
                  <a:lnTo>
                    <a:pt x="25" y="61"/>
                  </a:lnTo>
                  <a:lnTo>
                    <a:pt x="31" y="55"/>
                  </a:lnTo>
                  <a:lnTo>
                    <a:pt x="38" y="49"/>
                  </a:lnTo>
                  <a:lnTo>
                    <a:pt x="46" y="44"/>
                  </a:lnTo>
                  <a:lnTo>
                    <a:pt x="54" y="38"/>
                  </a:lnTo>
                  <a:lnTo>
                    <a:pt x="61" y="32"/>
                  </a:lnTo>
                  <a:lnTo>
                    <a:pt x="71" y="26"/>
                  </a:lnTo>
                  <a:lnTo>
                    <a:pt x="71" y="26"/>
                  </a:lnTo>
                  <a:lnTo>
                    <a:pt x="80" y="21"/>
                  </a:lnTo>
                  <a:lnTo>
                    <a:pt x="88" y="17"/>
                  </a:lnTo>
                  <a:lnTo>
                    <a:pt x="98" y="13"/>
                  </a:lnTo>
                  <a:lnTo>
                    <a:pt x="107" y="9"/>
                  </a:lnTo>
                  <a:lnTo>
                    <a:pt x="115" y="7"/>
                  </a:lnTo>
                  <a:lnTo>
                    <a:pt x="125" y="3"/>
                  </a:lnTo>
                  <a:lnTo>
                    <a:pt x="132" y="1"/>
                  </a:lnTo>
                  <a:lnTo>
                    <a:pt x="140" y="1"/>
                  </a:lnTo>
                  <a:lnTo>
                    <a:pt x="148" y="0"/>
                  </a:lnTo>
                  <a:lnTo>
                    <a:pt x="153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1" y="3"/>
                  </a:lnTo>
                  <a:lnTo>
                    <a:pt x="175" y="5"/>
                  </a:lnTo>
                  <a:lnTo>
                    <a:pt x="178" y="7"/>
                  </a:lnTo>
                  <a:lnTo>
                    <a:pt x="180" y="11"/>
                  </a:lnTo>
                  <a:close/>
                </a:path>
              </a:pathLst>
            </a:custGeom>
            <a:solidFill>
              <a:srgbClr val="e34913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754560" y="34632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754560" y="39456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661680" y="478800"/>
              <a:ext cx="21096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661680" y="523440"/>
              <a:ext cx="20664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081800" y="31212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1081800" y="360720"/>
              <a:ext cx="21096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786240" y="63720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786240" y="685800"/>
              <a:ext cx="20664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1284480" y="400680"/>
              <a:ext cx="20664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1282680" y="451440"/>
              <a:ext cx="20844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1033200" y="601200"/>
              <a:ext cx="21096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1033200" y="65016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932040" y="447120"/>
              <a:ext cx="21096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932040" y="49608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1261080" y="56772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1261080" y="61632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1067040" y="822960"/>
              <a:ext cx="20664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1067040" y="871920"/>
              <a:ext cx="20664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394280" y="79128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389960" y="83592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1094400" y="111456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1094400" y="116280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1345680" y="1078560"/>
              <a:ext cx="20664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1345680" y="1127160"/>
              <a:ext cx="20664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1244160" y="92448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1244160" y="972720"/>
              <a:ext cx="21096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1573560" y="104724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1573560" y="109548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1525320" y="519120"/>
              <a:ext cx="21096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525320" y="567720"/>
              <a:ext cx="20664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305720" y="1272600"/>
              <a:ext cx="21096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1305720" y="131724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36120" y="83160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36120" y="879840"/>
              <a:ext cx="21096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839160" y="924480"/>
              <a:ext cx="20664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839160" y="968400"/>
              <a:ext cx="20664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490680" y="968400"/>
              <a:ext cx="20664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486360" y="101736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820080" y="1091160"/>
              <a:ext cx="20664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815760" y="114012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997200" y="1297800"/>
              <a:ext cx="210960" cy="216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997200" y="134676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2067840" y="1086840"/>
              <a:ext cx="432720" cy="174960"/>
            </a:xfrm>
            <a:custGeom>
              <a:avLst/>
              <a:gdLst/>
              <a:ahLst/>
              <a:rect l="l" t="t" r="r" b="b"/>
              <a:pathLst>
                <a:path w="205" h="83">
                  <a:moveTo>
                    <a:pt x="205" y="41"/>
                  </a:moveTo>
                  <a:lnTo>
                    <a:pt x="205" y="46"/>
                  </a:lnTo>
                  <a:lnTo>
                    <a:pt x="203" y="50"/>
                  </a:lnTo>
                  <a:lnTo>
                    <a:pt x="202" y="54"/>
                  </a:lnTo>
                  <a:lnTo>
                    <a:pt x="198" y="58"/>
                  </a:lnTo>
                  <a:lnTo>
                    <a:pt x="194" y="62"/>
                  </a:lnTo>
                  <a:lnTo>
                    <a:pt x="188" y="64"/>
                  </a:lnTo>
                  <a:lnTo>
                    <a:pt x="182" y="68"/>
                  </a:lnTo>
                  <a:lnTo>
                    <a:pt x="177" y="71"/>
                  </a:lnTo>
                  <a:lnTo>
                    <a:pt x="169" y="73"/>
                  </a:lnTo>
                  <a:lnTo>
                    <a:pt x="161" y="75"/>
                  </a:lnTo>
                  <a:lnTo>
                    <a:pt x="152" y="77"/>
                  </a:lnTo>
                  <a:lnTo>
                    <a:pt x="144" y="79"/>
                  </a:lnTo>
                  <a:lnTo>
                    <a:pt x="134" y="81"/>
                  </a:lnTo>
                  <a:lnTo>
                    <a:pt x="125" y="83"/>
                  </a:lnTo>
                  <a:lnTo>
                    <a:pt x="113" y="83"/>
                  </a:lnTo>
                  <a:lnTo>
                    <a:pt x="104" y="83"/>
                  </a:lnTo>
                  <a:lnTo>
                    <a:pt x="104" y="83"/>
                  </a:lnTo>
                  <a:lnTo>
                    <a:pt x="92" y="83"/>
                  </a:lnTo>
                  <a:lnTo>
                    <a:pt x="83" y="83"/>
                  </a:lnTo>
                  <a:lnTo>
                    <a:pt x="73" y="81"/>
                  </a:lnTo>
                  <a:lnTo>
                    <a:pt x="63" y="79"/>
                  </a:lnTo>
                  <a:lnTo>
                    <a:pt x="54" y="77"/>
                  </a:lnTo>
                  <a:lnTo>
                    <a:pt x="46" y="75"/>
                  </a:lnTo>
                  <a:lnTo>
                    <a:pt x="38" y="73"/>
                  </a:lnTo>
                  <a:lnTo>
                    <a:pt x="31" y="71"/>
                  </a:lnTo>
                  <a:lnTo>
                    <a:pt x="25" y="68"/>
                  </a:lnTo>
                  <a:lnTo>
                    <a:pt x="17" y="64"/>
                  </a:lnTo>
                  <a:lnTo>
                    <a:pt x="13" y="62"/>
                  </a:lnTo>
                  <a:lnTo>
                    <a:pt x="8" y="58"/>
                  </a:lnTo>
                  <a:lnTo>
                    <a:pt x="6" y="54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8" y="25"/>
                  </a:lnTo>
                  <a:lnTo>
                    <a:pt x="13" y="21"/>
                  </a:lnTo>
                  <a:lnTo>
                    <a:pt x="17" y="18"/>
                  </a:lnTo>
                  <a:lnTo>
                    <a:pt x="25" y="14"/>
                  </a:lnTo>
                  <a:lnTo>
                    <a:pt x="31" y="12"/>
                  </a:lnTo>
                  <a:lnTo>
                    <a:pt x="38" y="10"/>
                  </a:lnTo>
                  <a:lnTo>
                    <a:pt x="46" y="6"/>
                  </a:lnTo>
                  <a:lnTo>
                    <a:pt x="54" y="4"/>
                  </a:lnTo>
                  <a:lnTo>
                    <a:pt x="63" y="2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2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13" y="0"/>
                  </a:lnTo>
                  <a:lnTo>
                    <a:pt x="125" y="0"/>
                  </a:lnTo>
                  <a:lnTo>
                    <a:pt x="134" y="0"/>
                  </a:lnTo>
                  <a:lnTo>
                    <a:pt x="144" y="2"/>
                  </a:lnTo>
                  <a:lnTo>
                    <a:pt x="152" y="4"/>
                  </a:lnTo>
                  <a:lnTo>
                    <a:pt x="161" y="6"/>
                  </a:lnTo>
                  <a:lnTo>
                    <a:pt x="169" y="10"/>
                  </a:lnTo>
                  <a:lnTo>
                    <a:pt x="177" y="12"/>
                  </a:lnTo>
                  <a:lnTo>
                    <a:pt x="182" y="14"/>
                  </a:lnTo>
                  <a:lnTo>
                    <a:pt x="188" y="18"/>
                  </a:lnTo>
                  <a:lnTo>
                    <a:pt x="194" y="21"/>
                  </a:lnTo>
                  <a:lnTo>
                    <a:pt x="198" y="25"/>
                  </a:lnTo>
                  <a:lnTo>
                    <a:pt x="202" y="29"/>
                  </a:lnTo>
                  <a:lnTo>
                    <a:pt x="203" y="33"/>
                  </a:lnTo>
                  <a:lnTo>
                    <a:pt x="205" y="37"/>
                  </a:lnTo>
                  <a:lnTo>
                    <a:pt x="205" y="41"/>
                  </a:lnTo>
                  <a:close/>
                </a:path>
              </a:pathLst>
            </a:custGeom>
            <a:solidFill>
              <a:srgbClr val="c1c2c1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2067840" y="782640"/>
              <a:ext cx="426240" cy="189720"/>
            </a:xfrm>
            <a:custGeom>
              <a:avLst/>
              <a:gdLst/>
              <a:ahLst/>
              <a:rect l="l" t="t" r="r" b="b"/>
              <a:pathLst>
                <a:path w="202" h="90">
                  <a:moveTo>
                    <a:pt x="202" y="63"/>
                  </a:moveTo>
                  <a:lnTo>
                    <a:pt x="200" y="67"/>
                  </a:lnTo>
                  <a:lnTo>
                    <a:pt x="198" y="71"/>
                  </a:lnTo>
                  <a:lnTo>
                    <a:pt x="196" y="75"/>
                  </a:lnTo>
                  <a:lnTo>
                    <a:pt x="192" y="78"/>
                  </a:lnTo>
                  <a:lnTo>
                    <a:pt x="186" y="80"/>
                  </a:lnTo>
                  <a:lnTo>
                    <a:pt x="180" y="82"/>
                  </a:lnTo>
                  <a:lnTo>
                    <a:pt x="175" y="86"/>
                  </a:lnTo>
                  <a:lnTo>
                    <a:pt x="167" y="88"/>
                  </a:lnTo>
                  <a:lnTo>
                    <a:pt x="159" y="88"/>
                  </a:lnTo>
                  <a:lnTo>
                    <a:pt x="152" y="90"/>
                  </a:lnTo>
                  <a:lnTo>
                    <a:pt x="142" y="90"/>
                  </a:lnTo>
                  <a:lnTo>
                    <a:pt x="132" y="90"/>
                  </a:lnTo>
                  <a:lnTo>
                    <a:pt x="123" y="90"/>
                  </a:lnTo>
                  <a:lnTo>
                    <a:pt x="113" y="90"/>
                  </a:lnTo>
                  <a:lnTo>
                    <a:pt x="104" y="88"/>
                  </a:lnTo>
                  <a:lnTo>
                    <a:pt x="94" y="86"/>
                  </a:lnTo>
                  <a:lnTo>
                    <a:pt x="94" y="86"/>
                  </a:lnTo>
                  <a:lnTo>
                    <a:pt x="83" y="84"/>
                  </a:lnTo>
                  <a:lnTo>
                    <a:pt x="73" y="82"/>
                  </a:lnTo>
                  <a:lnTo>
                    <a:pt x="63" y="80"/>
                  </a:lnTo>
                  <a:lnTo>
                    <a:pt x="54" y="76"/>
                  </a:lnTo>
                  <a:lnTo>
                    <a:pt x="46" y="73"/>
                  </a:lnTo>
                  <a:lnTo>
                    <a:pt x="38" y="69"/>
                  </a:lnTo>
                  <a:lnTo>
                    <a:pt x="31" y="65"/>
                  </a:lnTo>
                  <a:lnTo>
                    <a:pt x="25" y="61"/>
                  </a:lnTo>
                  <a:lnTo>
                    <a:pt x="17" y="57"/>
                  </a:lnTo>
                  <a:lnTo>
                    <a:pt x="13" y="53"/>
                  </a:lnTo>
                  <a:lnTo>
                    <a:pt x="8" y="50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27" y="5"/>
                  </a:lnTo>
                  <a:lnTo>
                    <a:pt x="35" y="3"/>
                  </a:lnTo>
                  <a:lnTo>
                    <a:pt x="42" y="2"/>
                  </a:lnTo>
                  <a:lnTo>
                    <a:pt x="50" y="2"/>
                  </a:lnTo>
                  <a:lnTo>
                    <a:pt x="60" y="2"/>
                  </a:lnTo>
                  <a:lnTo>
                    <a:pt x="67" y="0"/>
                  </a:lnTo>
                  <a:lnTo>
                    <a:pt x="77" y="2"/>
                  </a:lnTo>
                  <a:lnTo>
                    <a:pt x="88" y="2"/>
                  </a:lnTo>
                  <a:lnTo>
                    <a:pt x="98" y="2"/>
                  </a:lnTo>
                  <a:lnTo>
                    <a:pt x="108" y="3"/>
                  </a:lnTo>
                  <a:lnTo>
                    <a:pt x="108" y="3"/>
                  </a:lnTo>
                  <a:lnTo>
                    <a:pt x="119" y="5"/>
                  </a:lnTo>
                  <a:lnTo>
                    <a:pt x="129" y="9"/>
                  </a:lnTo>
                  <a:lnTo>
                    <a:pt x="138" y="11"/>
                  </a:lnTo>
                  <a:lnTo>
                    <a:pt x="146" y="15"/>
                  </a:lnTo>
                  <a:lnTo>
                    <a:pt x="156" y="17"/>
                  </a:lnTo>
                  <a:lnTo>
                    <a:pt x="163" y="21"/>
                  </a:lnTo>
                  <a:lnTo>
                    <a:pt x="171" y="25"/>
                  </a:lnTo>
                  <a:lnTo>
                    <a:pt x="177" y="28"/>
                  </a:lnTo>
                  <a:lnTo>
                    <a:pt x="182" y="32"/>
                  </a:lnTo>
                  <a:lnTo>
                    <a:pt x="188" y="38"/>
                  </a:lnTo>
                  <a:lnTo>
                    <a:pt x="194" y="42"/>
                  </a:lnTo>
                  <a:lnTo>
                    <a:pt x="196" y="46"/>
                  </a:lnTo>
                  <a:lnTo>
                    <a:pt x="200" y="50"/>
                  </a:lnTo>
                  <a:lnTo>
                    <a:pt x="202" y="55"/>
                  </a:lnTo>
                  <a:lnTo>
                    <a:pt x="202" y="59"/>
                  </a:lnTo>
                  <a:lnTo>
                    <a:pt x="202" y="63"/>
                  </a:lnTo>
                  <a:close/>
                </a:path>
              </a:pathLst>
            </a:custGeom>
            <a:solidFill>
              <a:srgbClr val="c1c2c1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2270160" y="1390680"/>
              <a:ext cx="421920" cy="210960"/>
            </a:xfrm>
            <a:custGeom>
              <a:avLst/>
              <a:gdLst/>
              <a:ahLst/>
              <a:rect l="l" t="t" r="r" b="b"/>
              <a:pathLst>
                <a:path w="200" h="100">
                  <a:moveTo>
                    <a:pt x="198" y="81"/>
                  </a:moveTo>
                  <a:lnTo>
                    <a:pt x="196" y="85"/>
                  </a:lnTo>
                  <a:lnTo>
                    <a:pt x="194" y="87"/>
                  </a:lnTo>
                  <a:lnTo>
                    <a:pt x="190" y="91"/>
                  </a:lnTo>
                  <a:lnTo>
                    <a:pt x="186" y="92"/>
                  </a:lnTo>
                  <a:lnTo>
                    <a:pt x="181" y="96"/>
                  </a:lnTo>
                  <a:lnTo>
                    <a:pt x="175" y="96"/>
                  </a:lnTo>
                  <a:lnTo>
                    <a:pt x="167" y="98"/>
                  </a:lnTo>
                  <a:lnTo>
                    <a:pt x="161" y="100"/>
                  </a:lnTo>
                  <a:lnTo>
                    <a:pt x="154" y="100"/>
                  </a:lnTo>
                  <a:lnTo>
                    <a:pt x="144" y="100"/>
                  </a:lnTo>
                  <a:lnTo>
                    <a:pt x="136" y="100"/>
                  </a:lnTo>
                  <a:lnTo>
                    <a:pt x="127" y="98"/>
                  </a:lnTo>
                  <a:lnTo>
                    <a:pt x="117" y="96"/>
                  </a:lnTo>
                  <a:lnTo>
                    <a:pt x="108" y="94"/>
                  </a:lnTo>
                  <a:lnTo>
                    <a:pt x="98" y="92"/>
                  </a:lnTo>
                  <a:lnTo>
                    <a:pt x="88" y="91"/>
                  </a:lnTo>
                  <a:lnTo>
                    <a:pt x="88" y="91"/>
                  </a:lnTo>
                  <a:lnTo>
                    <a:pt x="77" y="87"/>
                  </a:lnTo>
                  <a:lnTo>
                    <a:pt x="67" y="83"/>
                  </a:lnTo>
                  <a:lnTo>
                    <a:pt x="60" y="79"/>
                  </a:lnTo>
                  <a:lnTo>
                    <a:pt x="50" y="75"/>
                  </a:lnTo>
                  <a:lnTo>
                    <a:pt x="42" y="71"/>
                  </a:lnTo>
                  <a:lnTo>
                    <a:pt x="35" y="66"/>
                  </a:lnTo>
                  <a:lnTo>
                    <a:pt x="29" y="62"/>
                  </a:lnTo>
                  <a:lnTo>
                    <a:pt x="21" y="58"/>
                  </a:lnTo>
                  <a:lnTo>
                    <a:pt x="16" y="52"/>
                  </a:lnTo>
                  <a:lnTo>
                    <a:pt x="12" y="48"/>
                  </a:lnTo>
                  <a:lnTo>
                    <a:pt x="8" y="43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9" y="4"/>
                  </a:lnTo>
                  <a:lnTo>
                    <a:pt x="25" y="2"/>
                  </a:lnTo>
                  <a:lnTo>
                    <a:pt x="33" y="2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3" y="2"/>
                  </a:lnTo>
                  <a:lnTo>
                    <a:pt x="83" y="2"/>
                  </a:lnTo>
                  <a:lnTo>
                    <a:pt x="92" y="4"/>
                  </a:lnTo>
                  <a:lnTo>
                    <a:pt x="102" y="8"/>
                  </a:lnTo>
                  <a:lnTo>
                    <a:pt x="112" y="10"/>
                  </a:lnTo>
                  <a:lnTo>
                    <a:pt x="112" y="10"/>
                  </a:lnTo>
                  <a:lnTo>
                    <a:pt x="123" y="14"/>
                  </a:lnTo>
                  <a:lnTo>
                    <a:pt x="133" y="18"/>
                  </a:lnTo>
                  <a:lnTo>
                    <a:pt x="140" y="21"/>
                  </a:lnTo>
                  <a:lnTo>
                    <a:pt x="150" y="25"/>
                  </a:lnTo>
                  <a:lnTo>
                    <a:pt x="158" y="29"/>
                  </a:lnTo>
                  <a:lnTo>
                    <a:pt x="165" y="33"/>
                  </a:lnTo>
                  <a:lnTo>
                    <a:pt x="171" y="39"/>
                  </a:lnTo>
                  <a:lnTo>
                    <a:pt x="179" y="43"/>
                  </a:lnTo>
                  <a:lnTo>
                    <a:pt x="184" y="48"/>
                  </a:lnTo>
                  <a:lnTo>
                    <a:pt x="188" y="52"/>
                  </a:lnTo>
                  <a:lnTo>
                    <a:pt x="192" y="58"/>
                  </a:lnTo>
                  <a:lnTo>
                    <a:pt x="196" y="62"/>
                  </a:lnTo>
                  <a:lnTo>
                    <a:pt x="198" y="67"/>
                  </a:lnTo>
                  <a:lnTo>
                    <a:pt x="198" y="71"/>
                  </a:lnTo>
                  <a:lnTo>
                    <a:pt x="200" y="75"/>
                  </a:lnTo>
                  <a:lnTo>
                    <a:pt x="198" y="81"/>
                  </a:lnTo>
                  <a:close/>
                </a:path>
              </a:pathLst>
            </a:custGeom>
            <a:solidFill>
              <a:srgbClr val="c1c2c1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1865160" y="1390680"/>
              <a:ext cx="389880" cy="261720"/>
            </a:xfrm>
            <a:custGeom>
              <a:avLst/>
              <a:gdLst/>
              <a:ahLst/>
              <a:rect l="l" t="t" r="r" b="b"/>
              <a:pathLst>
                <a:path w="185" h="124">
                  <a:moveTo>
                    <a:pt x="181" y="11"/>
                  </a:moveTo>
                  <a:lnTo>
                    <a:pt x="183" y="15"/>
                  </a:lnTo>
                  <a:lnTo>
                    <a:pt x="185" y="19"/>
                  </a:lnTo>
                  <a:lnTo>
                    <a:pt x="183" y="25"/>
                  </a:lnTo>
                  <a:lnTo>
                    <a:pt x="183" y="28"/>
                  </a:lnTo>
                  <a:lnTo>
                    <a:pt x="181" y="34"/>
                  </a:lnTo>
                  <a:lnTo>
                    <a:pt x="177" y="40"/>
                  </a:lnTo>
                  <a:lnTo>
                    <a:pt x="175" y="46"/>
                  </a:lnTo>
                  <a:lnTo>
                    <a:pt x="169" y="51"/>
                  </a:lnTo>
                  <a:lnTo>
                    <a:pt x="166" y="57"/>
                  </a:lnTo>
                  <a:lnTo>
                    <a:pt x="160" y="63"/>
                  </a:lnTo>
                  <a:lnTo>
                    <a:pt x="154" y="71"/>
                  </a:lnTo>
                  <a:lnTo>
                    <a:pt x="146" y="76"/>
                  </a:lnTo>
                  <a:lnTo>
                    <a:pt x="139" y="82"/>
                  </a:lnTo>
                  <a:lnTo>
                    <a:pt x="131" y="88"/>
                  </a:lnTo>
                  <a:lnTo>
                    <a:pt x="121" y="94"/>
                  </a:lnTo>
                  <a:lnTo>
                    <a:pt x="114" y="99"/>
                  </a:lnTo>
                  <a:lnTo>
                    <a:pt x="114" y="99"/>
                  </a:lnTo>
                  <a:lnTo>
                    <a:pt x="104" y="103"/>
                  </a:lnTo>
                  <a:lnTo>
                    <a:pt x="95" y="109"/>
                  </a:lnTo>
                  <a:lnTo>
                    <a:pt x="87" y="113"/>
                  </a:lnTo>
                  <a:lnTo>
                    <a:pt x="77" y="117"/>
                  </a:lnTo>
                  <a:lnTo>
                    <a:pt x="68" y="119"/>
                  </a:lnTo>
                  <a:lnTo>
                    <a:pt x="60" y="120"/>
                  </a:lnTo>
                  <a:lnTo>
                    <a:pt x="52" y="122"/>
                  </a:lnTo>
                  <a:lnTo>
                    <a:pt x="45" y="124"/>
                  </a:lnTo>
                  <a:lnTo>
                    <a:pt x="37" y="124"/>
                  </a:lnTo>
                  <a:lnTo>
                    <a:pt x="31" y="124"/>
                  </a:lnTo>
                  <a:lnTo>
                    <a:pt x="23" y="124"/>
                  </a:lnTo>
                  <a:lnTo>
                    <a:pt x="18" y="124"/>
                  </a:lnTo>
                  <a:lnTo>
                    <a:pt x="14" y="122"/>
                  </a:lnTo>
                  <a:lnTo>
                    <a:pt x="10" y="120"/>
                  </a:lnTo>
                  <a:lnTo>
                    <a:pt x="6" y="117"/>
                  </a:lnTo>
                  <a:lnTo>
                    <a:pt x="4" y="115"/>
                  </a:lnTo>
                  <a:lnTo>
                    <a:pt x="4" y="115"/>
                  </a:lnTo>
                  <a:lnTo>
                    <a:pt x="2" y="109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2" y="96"/>
                  </a:lnTo>
                  <a:lnTo>
                    <a:pt x="4" y="90"/>
                  </a:lnTo>
                  <a:lnTo>
                    <a:pt x="6" y="84"/>
                  </a:lnTo>
                  <a:lnTo>
                    <a:pt x="10" y="78"/>
                  </a:lnTo>
                  <a:lnTo>
                    <a:pt x="14" y="73"/>
                  </a:lnTo>
                  <a:lnTo>
                    <a:pt x="20" y="67"/>
                  </a:lnTo>
                  <a:lnTo>
                    <a:pt x="25" y="61"/>
                  </a:lnTo>
                  <a:lnTo>
                    <a:pt x="31" y="55"/>
                  </a:lnTo>
                  <a:lnTo>
                    <a:pt x="39" y="49"/>
                  </a:lnTo>
                  <a:lnTo>
                    <a:pt x="47" y="44"/>
                  </a:lnTo>
                  <a:lnTo>
                    <a:pt x="54" y="38"/>
                  </a:lnTo>
                  <a:lnTo>
                    <a:pt x="62" y="32"/>
                  </a:lnTo>
                  <a:lnTo>
                    <a:pt x="71" y="26"/>
                  </a:lnTo>
                  <a:lnTo>
                    <a:pt x="71" y="26"/>
                  </a:lnTo>
                  <a:lnTo>
                    <a:pt x="81" y="21"/>
                  </a:lnTo>
                  <a:lnTo>
                    <a:pt x="91" y="17"/>
                  </a:lnTo>
                  <a:lnTo>
                    <a:pt x="98" y="13"/>
                  </a:lnTo>
                  <a:lnTo>
                    <a:pt x="108" y="9"/>
                  </a:lnTo>
                  <a:lnTo>
                    <a:pt x="116" y="5"/>
                  </a:lnTo>
                  <a:lnTo>
                    <a:pt x="125" y="3"/>
                  </a:lnTo>
                  <a:lnTo>
                    <a:pt x="133" y="1"/>
                  </a:lnTo>
                  <a:lnTo>
                    <a:pt x="141" y="1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60" y="0"/>
                  </a:lnTo>
                  <a:lnTo>
                    <a:pt x="166" y="1"/>
                  </a:lnTo>
                  <a:lnTo>
                    <a:pt x="171" y="3"/>
                  </a:lnTo>
                  <a:lnTo>
                    <a:pt x="175" y="5"/>
                  </a:lnTo>
                  <a:lnTo>
                    <a:pt x="179" y="7"/>
                  </a:lnTo>
                  <a:lnTo>
                    <a:pt x="181" y="11"/>
                  </a:lnTo>
                  <a:close/>
                </a:path>
              </a:pathLst>
            </a:custGeom>
            <a:solidFill>
              <a:srgbClr val="c1c2c1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2067840" y="1694880"/>
              <a:ext cx="424080" cy="206640"/>
            </a:xfrm>
            <a:custGeom>
              <a:avLst/>
              <a:gdLst/>
              <a:ahLst/>
              <a:rect l="l" t="t" r="r" b="b"/>
              <a:pathLst>
                <a:path w="201" h="98">
                  <a:moveTo>
                    <a:pt x="199" y="23"/>
                  </a:moveTo>
                  <a:lnTo>
                    <a:pt x="201" y="27"/>
                  </a:lnTo>
                  <a:lnTo>
                    <a:pt x="199" y="31"/>
                  </a:lnTo>
                  <a:lnTo>
                    <a:pt x="199" y="36"/>
                  </a:lnTo>
                  <a:lnTo>
                    <a:pt x="196" y="40"/>
                  </a:lnTo>
                  <a:lnTo>
                    <a:pt x="194" y="44"/>
                  </a:lnTo>
                  <a:lnTo>
                    <a:pt x="190" y="50"/>
                  </a:lnTo>
                  <a:lnTo>
                    <a:pt x="184" y="54"/>
                  </a:lnTo>
                  <a:lnTo>
                    <a:pt x="178" y="59"/>
                  </a:lnTo>
                  <a:lnTo>
                    <a:pt x="173" y="63"/>
                  </a:lnTo>
                  <a:lnTo>
                    <a:pt x="165" y="67"/>
                  </a:lnTo>
                  <a:lnTo>
                    <a:pt x="157" y="73"/>
                  </a:lnTo>
                  <a:lnTo>
                    <a:pt x="150" y="77"/>
                  </a:lnTo>
                  <a:lnTo>
                    <a:pt x="140" y="81"/>
                  </a:lnTo>
                  <a:lnTo>
                    <a:pt x="130" y="82"/>
                  </a:lnTo>
                  <a:lnTo>
                    <a:pt x="121" y="86"/>
                  </a:lnTo>
                  <a:lnTo>
                    <a:pt x="111" y="90"/>
                  </a:lnTo>
                  <a:lnTo>
                    <a:pt x="111" y="90"/>
                  </a:lnTo>
                  <a:lnTo>
                    <a:pt x="102" y="92"/>
                  </a:lnTo>
                  <a:lnTo>
                    <a:pt x="92" y="94"/>
                  </a:lnTo>
                  <a:lnTo>
                    <a:pt x="82" y="96"/>
                  </a:lnTo>
                  <a:lnTo>
                    <a:pt x="73" y="96"/>
                  </a:lnTo>
                  <a:lnTo>
                    <a:pt x="63" y="98"/>
                  </a:lnTo>
                  <a:lnTo>
                    <a:pt x="54" y="98"/>
                  </a:lnTo>
                  <a:lnTo>
                    <a:pt x="46" y="98"/>
                  </a:lnTo>
                  <a:lnTo>
                    <a:pt x="38" y="96"/>
                  </a:lnTo>
                  <a:lnTo>
                    <a:pt x="31" y="96"/>
                  </a:lnTo>
                  <a:lnTo>
                    <a:pt x="25" y="94"/>
                  </a:lnTo>
                  <a:lnTo>
                    <a:pt x="19" y="92"/>
                  </a:lnTo>
                  <a:lnTo>
                    <a:pt x="13" y="90"/>
                  </a:lnTo>
                  <a:lnTo>
                    <a:pt x="9" y="86"/>
                  </a:lnTo>
                  <a:lnTo>
                    <a:pt x="6" y="82"/>
                  </a:lnTo>
                  <a:lnTo>
                    <a:pt x="4" y="81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0" y="71"/>
                  </a:lnTo>
                  <a:lnTo>
                    <a:pt x="2" y="67"/>
                  </a:lnTo>
                  <a:lnTo>
                    <a:pt x="2" y="63"/>
                  </a:lnTo>
                  <a:lnTo>
                    <a:pt x="6" y="57"/>
                  </a:lnTo>
                  <a:lnTo>
                    <a:pt x="7" y="54"/>
                  </a:lnTo>
                  <a:lnTo>
                    <a:pt x="13" y="48"/>
                  </a:lnTo>
                  <a:lnTo>
                    <a:pt x="17" y="44"/>
                  </a:lnTo>
                  <a:lnTo>
                    <a:pt x="23" y="40"/>
                  </a:lnTo>
                  <a:lnTo>
                    <a:pt x="29" y="34"/>
                  </a:lnTo>
                  <a:lnTo>
                    <a:pt x="36" y="31"/>
                  </a:lnTo>
                  <a:lnTo>
                    <a:pt x="44" y="27"/>
                  </a:lnTo>
                  <a:lnTo>
                    <a:pt x="52" y="23"/>
                  </a:lnTo>
                  <a:lnTo>
                    <a:pt x="61" y="19"/>
                  </a:lnTo>
                  <a:lnTo>
                    <a:pt x="71" y="15"/>
                  </a:lnTo>
                  <a:lnTo>
                    <a:pt x="80" y="11"/>
                  </a:lnTo>
                  <a:lnTo>
                    <a:pt x="90" y="9"/>
                  </a:lnTo>
                  <a:lnTo>
                    <a:pt x="90" y="9"/>
                  </a:lnTo>
                  <a:lnTo>
                    <a:pt x="100" y="6"/>
                  </a:lnTo>
                  <a:lnTo>
                    <a:pt x="109" y="4"/>
                  </a:lnTo>
                  <a:lnTo>
                    <a:pt x="119" y="2"/>
                  </a:lnTo>
                  <a:lnTo>
                    <a:pt x="128" y="2"/>
                  </a:lnTo>
                  <a:lnTo>
                    <a:pt x="138" y="2"/>
                  </a:lnTo>
                  <a:lnTo>
                    <a:pt x="148" y="0"/>
                  </a:lnTo>
                  <a:lnTo>
                    <a:pt x="155" y="2"/>
                  </a:lnTo>
                  <a:lnTo>
                    <a:pt x="163" y="2"/>
                  </a:lnTo>
                  <a:lnTo>
                    <a:pt x="171" y="4"/>
                  </a:lnTo>
                  <a:lnTo>
                    <a:pt x="176" y="4"/>
                  </a:lnTo>
                  <a:lnTo>
                    <a:pt x="182" y="6"/>
                  </a:lnTo>
                  <a:lnTo>
                    <a:pt x="188" y="9"/>
                  </a:lnTo>
                  <a:lnTo>
                    <a:pt x="192" y="11"/>
                  </a:lnTo>
                  <a:lnTo>
                    <a:pt x="196" y="15"/>
                  </a:lnTo>
                  <a:lnTo>
                    <a:pt x="198" y="19"/>
                  </a:lnTo>
                  <a:lnTo>
                    <a:pt x="199" y="23"/>
                  </a:lnTo>
                  <a:close/>
                </a:path>
              </a:pathLst>
            </a:custGeom>
            <a:solidFill>
              <a:srgbClr val="c1c2c1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2574000" y="1694880"/>
              <a:ext cx="434880" cy="1792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206" y="42"/>
                  </a:moveTo>
                  <a:lnTo>
                    <a:pt x="206" y="46"/>
                  </a:lnTo>
                  <a:lnTo>
                    <a:pt x="204" y="52"/>
                  </a:lnTo>
                  <a:lnTo>
                    <a:pt x="202" y="56"/>
                  </a:lnTo>
                  <a:lnTo>
                    <a:pt x="198" y="60"/>
                  </a:lnTo>
                  <a:lnTo>
                    <a:pt x="194" y="63"/>
                  </a:lnTo>
                  <a:lnTo>
                    <a:pt x="188" y="65"/>
                  </a:lnTo>
                  <a:lnTo>
                    <a:pt x="183" y="69"/>
                  </a:lnTo>
                  <a:lnTo>
                    <a:pt x="175" y="73"/>
                  </a:lnTo>
                  <a:lnTo>
                    <a:pt x="169" y="75"/>
                  </a:lnTo>
                  <a:lnTo>
                    <a:pt x="161" y="77"/>
                  </a:lnTo>
                  <a:lnTo>
                    <a:pt x="152" y="79"/>
                  </a:lnTo>
                  <a:lnTo>
                    <a:pt x="142" y="81"/>
                  </a:lnTo>
                  <a:lnTo>
                    <a:pt x="135" y="83"/>
                  </a:lnTo>
                  <a:lnTo>
                    <a:pt x="123" y="85"/>
                  </a:lnTo>
                  <a:lnTo>
                    <a:pt x="113" y="85"/>
                  </a:lnTo>
                  <a:lnTo>
                    <a:pt x="104" y="85"/>
                  </a:lnTo>
                  <a:lnTo>
                    <a:pt x="104" y="85"/>
                  </a:lnTo>
                  <a:lnTo>
                    <a:pt x="92" y="85"/>
                  </a:lnTo>
                  <a:lnTo>
                    <a:pt x="83" y="85"/>
                  </a:lnTo>
                  <a:lnTo>
                    <a:pt x="73" y="83"/>
                  </a:lnTo>
                  <a:lnTo>
                    <a:pt x="63" y="81"/>
                  </a:lnTo>
                  <a:lnTo>
                    <a:pt x="54" y="79"/>
                  </a:lnTo>
                  <a:lnTo>
                    <a:pt x="46" y="77"/>
                  </a:lnTo>
                  <a:lnTo>
                    <a:pt x="39" y="75"/>
                  </a:lnTo>
                  <a:lnTo>
                    <a:pt x="31" y="73"/>
                  </a:lnTo>
                  <a:lnTo>
                    <a:pt x="23" y="69"/>
                  </a:lnTo>
                  <a:lnTo>
                    <a:pt x="17" y="65"/>
                  </a:lnTo>
                  <a:lnTo>
                    <a:pt x="14" y="63"/>
                  </a:lnTo>
                  <a:lnTo>
                    <a:pt x="8" y="60"/>
                  </a:lnTo>
                  <a:lnTo>
                    <a:pt x="6" y="56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6" y="31"/>
                  </a:lnTo>
                  <a:lnTo>
                    <a:pt x="8" y="27"/>
                  </a:lnTo>
                  <a:lnTo>
                    <a:pt x="14" y="23"/>
                  </a:lnTo>
                  <a:lnTo>
                    <a:pt x="17" y="19"/>
                  </a:lnTo>
                  <a:lnTo>
                    <a:pt x="23" y="15"/>
                  </a:lnTo>
                  <a:lnTo>
                    <a:pt x="31" y="14"/>
                  </a:lnTo>
                  <a:lnTo>
                    <a:pt x="39" y="10"/>
                  </a:lnTo>
                  <a:lnTo>
                    <a:pt x="46" y="8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3" y="2"/>
                  </a:lnTo>
                  <a:lnTo>
                    <a:pt x="83" y="2"/>
                  </a:lnTo>
                  <a:lnTo>
                    <a:pt x="92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23" y="2"/>
                  </a:lnTo>
                  <a:lnTo>
                    <a:pt x="135" y="2"/>
                  </a:lnTo>
                  <a:lnTo>
                    <a:pt x="142" y="4"/>
                  </a:lnTo>
                  <a:lnTo>
                    <a:pt x="152" y="6"/>
                  </a:lnTo>
                  <a:lnTo>
                    <a:pt x="161" y="8"/>
                  </a:lnTo>
                  <a:lnTo>
                    <a:pt x="169" y="10"/>
                  </a:lnTo>
                  <a:lnTo>
                    <a:pt x="175" y="14"/>
                  </a:lnTo>
                  <a:lnTo>
                    <a:pt x="183" y="15"/>
                  </a:lnTo>
                  <a:lnTo>
                    <a:pt x="188" y="19"/>
                  </a:lnTo>
                  <a:lnTo>
                    <a:pt x="194" y="23"/>
                  </a:lnTo>
                  <a:lnTo>
                    <a:pt x="198" y="27"/>
                  </a:lnTo>
                  <a:lnTo>
                    <a:pt x="202" y="31"/>
                  </a:lnTo>
                  <a:lnTo>
                    <a:pt x="204" y="35"/>
                  </a:lnTo>
                  <a:lnTo>
                    <a:pt x="206" y="39"/>
                  </a:lnTo>
                  <a:lnTo>
                    <a:pt x="206" y="42"/>
                  </a:lnTo>
                  <a:close/>
                </a:path>
              </a:pathLst>
            </a:custGeom>
            <a:solidFill>
              <a:srgbClr val="c1c2c1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2371680" y="1897920"/>
              <a:ext cx="432720" cy="177120"/>
            </a:xfrm>
            <a:custGeom>
              <a:avLst/>
              <a:gdLst/>
              <a:ahLst/>
              <a:rect l="l" t="t" r="r" b="b"/>
              <a:pathLst>
                <a:path w="205" h="84">
                  <a:moveTo>
                    <a:pt x="205" y="42"/>
                  </a:moveTo>
                  <a:lnTo>
                    <a:pt x="205" y="46"/>
                  </a:lnTo>
                  <a:lnTo>
                    <a:pt x="203" y="50"/>
                  </a:lnTo>
                  <a:lnTo>
                    <a:pt x="201" y="54"/>
                  </a:lnTo>
                  <a:lnTo>
                    <a:pt x="197" y="58"/>
                  </a:lnTo>
                  <a:lnTo>
                    <a:pt x="194" y="61"/>
                  </a:lnTo>
                  <a:lnTo>
                    <a:pt x="188" y="65"/>
                  </a:lnTo>
                  <a:lnTo>
                    <a:pt x="182" y="69"/>
                  </a:lnTo>
                  <a:lnTo>
                    <a:pt x="174" y="71"/>
                  </a:lnTo>
                  <a:lnTo>
                    <a:pt x="167" y="75"/>
                  </a:lnTo>
                  <a:lnTo>
                    <a:pt x="159" y="77"/>
                  </a:lnTo>
                  <a:lnTo>
                    <a:pt x="151" y="79"/>
                  </a:lnTo>
                  <a:lnTo>
                    <a:pt x="142" y="81"/>
                  </a:lnTo>
                  <a:lnTo>
                    <a:pt x="132" y="82"/>
                  </a:lnTo>
                  <a:lnTo>
                    <a:pt x="123" y="82"/>
                  </a:lnTo>
                  <a:lnTo>
                    <a:pt x="113" y="84"/>
                  </a:lnTo>
                  <a:lnTo>
                    <a:pt x="101" y="84"/>
                  </a:lnTo>
                  <a:lnTo>
                    <a:pt x="101" y="84"/>
                  </a:lnTo>
                  <a:lnTo>
                    <a:pt x="92" y="84"/>
                  </a:lnTo>
                  <a:lnTo>
                    <a:pt x="82" y="82"/>
                  </a:lnTo>
                  <a:lnTo>
                    <a:pt x="73" y="82"/>
                  </a:lnTo>
                  <a:lnTo>
                    <a:pt x="63" y="81"/>
                  </a:lnTo>
                  <a:lnTo>
                    <a:pt x="53" y="79"/>
                  </a:lnTo>
                  <a:lnTo>
                    <a:pt x="46" y="77"/>
                  </a:lnTo>
                  <a:lnTo>
                    <a:pt x="38" y="75"/>
                  </a:lnTo>
                  <a:lnTo>
                    <a:pt x="30" y="71"/>
                  </a:lnTo>
                  <a:lnTo>
                    <a:pt x="23" y="69"/>
                  </a:lnTo>
                  <a:lnTo>
                    <a:pt x="17" y="65"/>
                  </a:lnTo>
                  <a:lnTo>
                    <a:pt x="11" y="61"/>
                  </a:lnTo>
                  <a:lnTo>
                    <a:pt x="7" y="58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7" y="25"/>
                  </a:lnTo>
                  <a:lnTo>
                    <a:pt x="11" y="23"/>
                  </a:lnTo>
                  <a:lnTo>
                    <a:pt x="17" y="19"/>
                  </a:lnTo>
                  <a:lnTo>
                    <a:pt x="23" y="15"/>
                  </a:lnTo>
                  <a:lnTo>
                    <a:pt x="30" y="13"/>
                  </a:lnTo>
                  <a:lnTo>
                    <a:pt x="38" y="10"/>
                  </a:lnTo>
                  <a:lnTo>
                    <a:pt x="46" y="8"/>
                  </a:lnTo>
                  <a:lnTo>
                    <a:pt x="53" y="6"/>
                  </a:lnTo>
                  <a:lnTo>
                    <a:pt x="63" y="4"/>
                  </a:lnTo>
                  <a:lnTo>
                    <a:pt x="73" y="2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13" y="0"/>
                  </a:lnTo>
                  <a:lnTo>
                    <a:pt x="123" y="2"/>
                  </a:lnTo>
                  <a:lnTo>
                    <a:pt x="132" y="2"/>
                  </a:lnTo>
                  <a:lnTo>
                    <a:pt x="142" y="4"/>
                  </a:lnTo>
                  <a:lnTo>
                    <a:pt x="151" y="6"/>
                  </a:lnTo>
                  <a:lnTo>
                    <a:pt x="159" y="8"/>
                  </a:lnTo>
                  <a:lnTo>
                    <a:pt x="167" y="10"/>
                  </a:lnTo>
                  <a:lnTo>
                    <a:pt x="174" y="13"/>
                  </a:lnTo>
                  <a:lnTo>
                    <a:pt x="182" y="15"/>
                  </a:lnTo>
                  <a:lnTo>
                    <a:pt x="188" y="19"/>
                  </a:lnTo>
                  <a:lnTo>
                    <a:pt x="194" y="23"/>
                  </a:lnTo>
                  <a:lnTo>
                    <a:pt x="197" y="25"/>
                  </a:lnTo>
                  <a:lnTo>
                    <a:pt x="201" y="29"/>
                  </a:lnTo>
                  <a:lnTo>
                    <a:pt x="203" y="34"/>
                  </a:lnTo>
                  <a:lnTo>
                    <a:pt x="205" y="38"/>
                  </a:lnTo>
                  <a:lnTo>
                    <a:pt x="205" y="42"/>
                  </a:lnTo>
                  <a:close/>
                </a:path>
              </a:pathLst>
            </a:custGeom>
            <a:solidFill>
              <a:srgbClr val="c1c2c1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2979720" y="1593720"/>
              <a:ext cx="430560" cy="191880"/>
            </a:xfrm>
            <a:custGeom>
              <a:avLst/>
              <a:gdLst/>
              <a:ahLst/>
              <a:rect l="l" t="t" r="r" b="b"/>
              <a:pathLst>
                <a:path w="204" h="91">
                  <a:moveTo>
                    <a:pt x="204" y="64"/>
                  </a:moveTo>
                  <a:lnTo>
                    <a:pt x="202" y="68"/>
                  </a:lnTo>
                  <a:lnTo>
                    <a:pt x="200" y="71"/>
                  </a:lnTo>
                  <a:lnTo>
                    <a:pt x="198" y="75"/>
                  </a:lnTo>
                  <a:lnTo>
                    <a:pt x="192" y="79"/>
                  </a:lnTo>
                  <a:lnTo>
                    <a:pt x="188" y="81"/>
                  </a:lnTo>
                  <a:lnTo>
                    <a:pt x="183" y="83"/>
                  </a:lnTo>
                  <a:lnTo>
                    <a:pt x="177" y="87"/>
                  </a:lnTo>
                  <a:lnTo>
                    <a:pt x="169" y="87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44" y="91"/>
                  </a:lnTo>
                  <a:lnTo>
                    <a:pt x="135" y="91"/>
                  </a:lnTo>
                  <a:lnTo>
                    <a:pt x="125" y="91"/>
                  </a:lnTo>
                  <a:lnTo>
                    <a:pt x="115" y="91"/>
                  </a:lnTo>
                  <a:lnTo>
                    <a:pt x="106" y="89"/>
                  </a:lnTo>
                  <a:lnTo>
                    <a:pt x="96" y="87"/>
                  </a:lnTo>
                  <a:lnTo>
                    <a:pt x="96" y="87"/>
                  </a:lnTo>
                  <a:lnTo>
                    <a:pt x="85" y="85"/>
                  </a:lnTo>
                  <a:lnTo>
                    <a:pt x="75" y="83"/>
                  </a:lnTo>
                  <a:lnTo>
                    <a:pt x="66" y="79"/>
                  </a:lnTo>
                  <a:lnTo>
                    <a:pt x="56" y="77"/>
                  </a:lnTo>
                  <a:lnTo>
                    <a:pt x="48" y="73"/>
                  </a:lnTo>
                  <a:lnTo>
                    <a:pt x="41" y="69"/>
                  </a:lnTo>
                  <a:lnTo>
                    <a:pt x="33" y="66"/>
                  </a:lnTo>
                  <a:lnTo>
                    <a:pt x="25" y="62"/>
                  </a:lnTo>
                  <a:lnTo>
                    <a:pt x="19" y="58"/>
                  </a:lnTo>
                  <a:lnTo>
                    <a:pt x="16" y="54"/>
                  </a:lnTo>
                  <a:lnTo>
                    <a:pt x="10" y="50"/>
                  </a:lnTo>
                  <a:lnTo>
                    <a:pt x="6" y="44"/>
                  </a:lnTo>
                  <a:lnTo>
                    <a:pt x="4" y="41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8" y="16"/>
                  </a:lnTo>
                  <a:lnTo>
                    <a:pt x="12" y="14"/>
                  </a:lnTo>
                  <a:lnTo>
                    <a:pt x="18" y="10"/>
                  </a:lnTo>
                  <a:lnTo>
                    <a:pt x="23" y="8"/>
                  </a:lnTo>
                  <a:lnTo>
                    <a:pt x="29" y="6"/>
                  </a:lnTo>
                  <a:lnTo>
                    <a:pt x="37" y="4"/>
                  </a:lnTo>
                  <a:lnTo>
                    <a:pt x="44" y="2"/>
                  </a:lnTo>
                  <a:lnTo>
                    <a:pt x="52" y="2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89" y="2"/>
                  </a:lnTo>
                  <a:lnTo>
                    <a:pt x="100" y="2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9" y="6"/>
                  </a:lnTo>
                  <a:lnTo>
                    <a:pt x="131" y="10"/>
                  </a:lnTo>
                  <a:lnTo>
                    <a:pt x="140" y="12"/>
                  </a:lnTo>
                  <a:lnTo>
                    <a:pt x="148" y="16"/>
                  </a:lnTo>
                  <a:lnTo>
                    <a:pt x="158" y="18"/>
                  </a:lnTo>
                  <a:lnTo>
                    <a:pt x="165" y="21"/>
                  </a:lnTo>
                  <a:lnTo>
                    <a:pt x="173" y="25"/>
                  </a:lnTo>
                  <a:lnTo>
                    <a:pt x="179" y="29"/>
                  </a:lnTo>
                  <a:lnTo>
                    <a:pt x="185" y="33"/>
                  </a:lnTo>
                  <a:lnTo>
                    <a:pt x="190" y="37"/>
                  </a:lnTo>
                  <a:lnTo>
                    <a:pt x="194" y="43"/>
                  </a:lnTo>
                  <a:lnTo>
                    <a:pt x="198" y="46"/>
                  </a:lnTo>
                  <a:lnTo>
                    <a:pt x="202" y="50"/>
                  </a:lnTo>
                  <a:lnTo>
                    <a:pt x="204" y="56"/>
                  </a:lnTo>
                  <a:lnTo>
                    <a:pt x="204" y="60"/>
                  </a:lnTo>
                  <a:lnTo>
                    <a:pt x="204" y="64"/>
                  </a:lnTo>
                  <a:close/>
                </a:path>
              </a:pathLst>
            </a:custGeom>
            <a:solidFill>
              <a:srgbClr val="c1c2c1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2574000" y="782640"/>
              <a:ext cx="426240" cy="202680"/>
            </a:xfrm>
            <a:custGeom>
              <a:avLst/>
              <a:gdLst/>
              <a:ahLst/>
              <a:rect l="l" t="t" r="r" b="b"/>
              <a:pathLst>
                <a:path w="202" h="96">
                  <a:moveTo>
                    <a:pt x="200" y="21"/>
                  </a:moveTo>
                  <a:lnTo>
                    <a:pt x="202" y="27"/>
                  </a:lnTo>
                  <a:lnTo>
                    <a:pt x="200" y="31"/>
                  </a:lnTo>
                  <a:lnTo>
                    <a:pt x="200" y="35"/>
                  </a:lnTo>
                  <a:lnTo>
                    <a:pt x="196" y="40"/>
                  </a:lnTo>
                  <a:lnTo>
                    <a:pt x="194" y="44"/>
                  </a:lnTo>
                  <a:lnTo>
                    <a:pt x="190" y="50"/>
                  </a:lnTo>
                  <a:lnTo>
                    <a:pt x="185" y="54"/>
                  </a:lnTo>
                  <a:lnTo>
                    <a:pt x="179" y="58"/>
                  </a:lnTo>
                  <a:lnTo>
                    <a:pt x="173" y="63"/>
                  </a:lnTo>
                  <a:lnTo>
                    <a:pt x="165" y="67"/>
                  </a:lnTo>
                  <a:lnTo>
                    <a:pt x="158" y="71"/>
                  </a:lnTo>
                  <a:lnTo>
                    <a:pt x="150" y="75"/>
                  </a:lnTo>
                  <a:lnTo>
                    <a:pt x="140" y="79"/>
                  </a:lnTo>
                  <a:lnTo>
                    <a:pt x="131" y="83"/>
                  </a:lnTo>
                  <a:lnTo>
                    <a:pt x="121" y="86"/>
                  </a:lnTo>
                  <a:lnTo>
                    <a:pt x="112" y="88"/>
                  </a:lnTo>
                  <a:lnTo>
                    <a:pt x="112" y="88"/>
                  </a:lnTo>
                  <a:lnTo>
                    <a:pt x="102" y="92"/>
                  </a:lnTo>
                  <a:lnTo>
                    <a:pt x="92" y="94"/>
                  </a:lnTo>
                  <a:lnTo>
                    <a:pt x="83" y="96"/>
                  </a:lnTo>
                  <a:lnTo>
                    <a:pt x="73" y="96"/>
                  </a:lnTo>
                  <a:lnTo>
                    <a:pt x="64" y="96"/>
                  </a:lnTo>
                  <a:lnTo>
                    <a:pt x="54" y="96"/>
                  </a:lnTo>
                  <a:lnTo>
                    <a:pt x="46" y="96"/>
                  </a:lnTo>
                  <a:lnTo>
                    <a:pt x="39" y="96"/>
                  </a:lnTo>
                  <a:lnTo>
                    <a:pt x="31" y="94"/>
                  </a:lnTo>
                  <a:lnTo>
                    <a:pt x="25" y="94"/>
                  </a:lnTo>
                  <a:lnTo>
                    <a:pt x="19" y="90"/>
                  </a:lnTo>
                  <a:lnTo>
                    <a:pt x="14" y="88"/>
                  </a:lnTo>
                  <a:lnTo>
                    <a:pt x="10" y="86"/>
                  </a:lnTo>
                  <a:lnTo>
                    <a:pt x="6" y="83"/>
                  </a:lnTo>
                  <a:lnTo>
                    <a:pt x="4" y="79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0" y="71"/>
                  </a:lnTo>
                  <a:lnTo>
                    <a:pt x="2" y="67"/>
                  </a:lnTo>
                  <a:lnTo>
                    <a:pt x="2" y="62"/>
                  </a:lnTo>
                  <a:lnTo>
                    <a:pt x="6" y="58"/>
                  </a:lnTo>
                  <a:lnTo>
                    <a:pt x="8" y="52"/>
                  </a:lnTo>
                  <a:lnTo>
                    <a:pt x="14" y="48"/>
                  </a:lnTo>
                  <a:lnTo>
                    <a:pt x="18" y="44"/>
                  </a:lnTo>
                  <a:lnTo>
                    <a:pt x="23" y="38"/>
                  </a:lnTo>
                  <a:lnTo>
                    <a:pt x="29" y="35"/>
                  </a:lnTo>
                  <a:lnTo>
                    <a:pt x="37" y="31"/>
                  </a:lnTo>
                  <a:lnTo>
                    <a:pt x="44" y="25"/>
                  </a:lnTo>
                  <a:lnTo>
                    <a:pt x="52" y="21"/>
                  </a:lnTo>
                  <a:lnTo>
                    <a:pt x="62" y="17"/>
                  </a:lnTo>
                  <a:lnTo>
                    <a:pt x="71" y="14"/>
                  </a:lnTo>
                  <a:lnTo>
                    <a:pt x="81" y="12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100" y="6"/>
                  </a:lnTo>
                  <a:lnTo>
                    <a:pt x="110" y="4"/>
                  </a:lnTo>
                  <a:lnTo>
                    <a:pt x="119" y="2"/>
                  </a:lnTo>
                  <a:lnTo>
                    <a:pt x="129" y="0"/>
                  </a:lnTo>
                  <a:lnTo>
                    <a:pt x="139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3" y="2"/>
                  </a:lnTo>
                  <a:lnTo>
                    <a:pt x="171" y="2"/>
                  </a:lnTo>
                  <a:lnTo>
                    <a:pt x="177" y="4"/>
                  </a:lnTo>
                  <a:lnTo>
                    <a:pt x="183" y="6"/>
                  </a:lnTo>
                  <a:lnTo>
                    <a:pt x="188" y="8"/>
                  </a:lnTo>
                  <a:lnTo>
                    <a:pt x="192" y="12"/>
                  </a:lnTo>
                  <a:lnTo>
                    <a:pt x="196" y="14"/>
                  </a:lnTo>
                  <a:lnTo>
                    <a:pt x="198" y="17"/>
                  </a:lnTo>
                  <a:lnTo>
                    <a:pt x="200" y="21"/>
                  </a:lnTo>
                  <a:close/>
                </a:path>
              </a:pathLst>
            </a:custGeom>
            <a:solidFill>
              <a:srgbClr val="c1c2c1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2979720" y="884160"/>
              <a:ext cx="432720" cy="179280"/>
            </a:xfrm>
            <a:custGeom>
              <a:avLst/>
              <a:gdLst/>
              <a:ahLst/>
              <a:rect l="l" t="t" r="r" b="b"/>
              <a:pathLst>
                <a:path w="205" h="85">
                  <a:moveTo>
                    <a:pt x="205" y="43"/>
                  </a:moveTo>
                  <a:lnTo>
                    <a:pt x="205" y="46"/>
                  </a:lnTo>
                  <a:lnTo>
                    <a:pt x="203" y="50"/>
                  </a:lnTo>
                  <a:lnTo>
                    <a:pt x="201" y="54"/>
                  </a:lnTo>
                  <a:lnTo>
                    <a:pt x="197" y="58"/>
                  </a:lnTo>
                  <a:lnTo>
                    <a:pt x="194" y="62"/>
                  </a:lnTo>
                  <a:lnTo>
                    <a:pt x="188" y="66"/>
                  </a:lnTo>
                  <a:lnTo>
                    <a:pt x="182" y="69"/>
                  </a:lnTo>
                  <a:lnTo>
                    <a:pt x="176" y="71"/>
                  </a:lnTo>
                  <a:lnTo>
                    <a:pt x="169" y="75"/>
                  </a:lnTo>
                  <a:lnTo>
                    <a:pt x="161" y="77"/>
                  </a:lnTo>
                  <a:lnTo>
                    <a:pt x="151" y="79"/>
                  </a:lnTo>
                  <a:lnTo>
                    <a:pt x="142" y="81"/>
                  </a:lnTo>
                  <a:lnTo>
                    <a:pt x="134" y="83"/>
                  </a:lnTo>
                  <a:lnTo>
                    <a:pt x="122" y="83"/>
                  </a:lnTo>
                  <a:lnTo>
                    <a:pt x="113" y="85"/>
                  </a:lnTo>
                  <a:lnTo>
                    <a:pt x="103" y="85"/>
                  </a:lnTo>
                  <a:lnTo>
                    <a:pt x="103" y="85"/>
                  </a:lnTo>
                  <a:lnTo>
                    <a:pt x="92" y="85"/>
                  </a:lnTo>
                  <a:lnTo>
                    <a:pt x="82" y="83"/>
                  </a:lnTo>
                  <a:lnTo>
                    <a:pt x="73" y="83"/>
                  </a:lnTo>
                  <a:lnTo>
                    <a:pt x="63" y="81"/>
                  </a:lnTo>
                  <a:lnTo>
                    <a:pt x="53" y="79"/>
                  </a:lnTo>
                  <a:lnTo>
                    <a:pt x="46" y="77"/>
                  </a:lnTo>
                  <a:lnTo>
                    <a:pt x="38" y="75"/>
                  </a:lnTo>
                  <a:lnTo>
                    <a:pt x="30" y="71"/>
                  </a:lnTo>
                  <a:lnTo>
                    <a:pt x="23" y="69"/>
                  </a:lnTo>
                  <a:lnTo>
                    <a:pt x="17" y="66"/>
                  </a:lnTo>
                  <a:lnTo>
                    <a:pt x="13" y="62"/>
                  </a:lnTo>
                  <a:lnTo>
                    <a:pt x="7" y="58"/>
                  </a:lnTo>
                  <a:lnTo>
                    <a:pt x="5" y="5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5" y="29"/>
                  </a:lnTo>
                  <a:lnTo>
                    <a:pt x="7" y="25"/>
                  </a:lnTo>
                  <a:lnTo>
                    <a:pt x="13" y="23"/>
                  </a:lnTo>
                  <a:lnTo>
                    <a:pt x="17" y="20"/>
                  </a:lnTo>
                  <a:lnTo>
                    <a:pt x="23" y="16"/>
                  </a:lnTo>
                  <a:lnTo>
                    <a:pt x="30" y="14"/>
                  </a:lnTo>
                  <a:lnTo>
                    <a:pt x="38" y="10"/>
                  </a:lnTo>
                  <a:lnTo>
                    <a:pt x="46" y="8"/>
                  </a:lnTo>
                  <a:lnTo>
                    <a:pt x="53" y="6"/>
                  </a:lnTo>
                  <a:lnTo>
                    <a:pt x="63" y="4"/>
                  </a:lnTo>
                  <a:lnTo>
                    <a:pt x="73" y="2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13" y="0"/>
                  </a:lnTo>
                  <a:lnTo>
                    <a:pt x="122" y="2"/>
                  </a:lnTo>
                  <a:lnTo>
                    <a:pt x="134" y="2"/>
                  </a:lnTo>
                  <a:lnTo>
                    <a:pt x="142" y="4"/>
                  </a:lnTo>
                  <a:lnTo>
                    <a:pt x="151" y="6"/>
                  </a:lnTo>
                  <a:lnTo>
                    <a:pt x="161" y="8"/>
                  </a:lnTo>
                  <a:lnTo>
                    <a:pt x="169" y="10"/>
                  </a:lnTo>
                  <a:lnTo>
                    <a:pt x="176" y="14"/>
                  </a:lnTo>
                  <a:lnTo>
                    <a:pt x="182" y="16"/>
                  </a:lnTo>
                  <a:lnTo>
                    <a:pt x="188" y="20"/>
                  </a:lnTo>
                  <a:lnTo>
                    <a:pt x="194" y="23"/>
                  </a:lnTo>
                  <a:lnTo>
                    <a:pt x="197" y="25"/>
                  </a:lnTo>
                  <a:lnTo>
                    <a:pt x="201" y="29"/>
                  </a:lnTo>
                  <a:lnTo>
                    <a:pt x="203" y="35"/>
                  </a:lnTo>
                  <a:lnTo>
                    <a:pt x="205" y="39"/>
                  </a:lnTo>
                  <a:lnTo>
                    <a:pt x="205" y="43"/>
                  </a:lnTo>
                  <a:close/>
                </a:path>
              </a:pathLst>
            </a:custGeom>
            <a:solidFill>
              <a:srgbClr val="c1c2c1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2574000" y="1086840"/>
              <a:ext cx="434880" cy="174960"/>
            </a:xfrm>
            <a:custGeom>
              <a:avLst/>
              <a:gdLst/>
              <a:ahLst/>
              <a:rect l="l" t="t" r="r" b="b"/>
              <a:pathLst>
                <a:path w="206" h="83">
                  <a:moveTo>
                    <a:pt x="206" y="42"/>
                  </a:moveTo>
                  <a:lnTo>
                    <a:pt x="206" y="46"/>
                  </a:lnTo>
                  <a:lnTo>
                    <a:pt x="204" y="50"/>
                  </a:lnTo>
                  <a:lnTo>
                    <a:pt x="202" y="54"/>
                  </a:lnTo>
                  <a:lnTo>
                    <a:pt x="198" y="58"/>
                  </a:lnTo>
                  <a:lnTo>
                    <a:pt x="194" y="62"/>
                  </a:lnTo>
                  <a:lnTo>
                    <a:pt x="188" y="65"/>
                  </a:lnTo>
                  <a:lnTo>
                    <a:pt x="183" y="67"/>
                  </a:lnTo>
                  <a:lnTo>
                    <a:pt x="175" y="71"/>
                  </a:lnTo>
                  <a:lnTo>
                    <a:pt x="167" y="73"/>
                  </a:lnTo>
                  <a:lnTo>
                    <a:pt x="160" y="77"/>
                  </a:lnTo>
                  <a:lnTo>
                    <a:pt x="152" y="79"/>
                  </a:lnTo>
                  <a:lnTo>
                    <a:pt x="142" y="81"/>
                  </a:lnTo>
                  <a:lnTo>
                    <a:pt x="133" y="81"/>
                  </a:lnTo>
                  <a:lnTo>
                    <a:pt x="123" y="83"/>
                  </a:lnTo>
                  <a:lnTo>
                    <a:pt x="113" y="83"/>
                  </a:lnTo>
                  <a:lnTo>
                    <a:pt x="104" y="83"/>
                  </a:lnTo>
                  <a:lnTo>
                    <a:pt x="104" y="83"/>
                  </a:lnTo>
                  <a:lnTo>
                    <a:pt x="92" y="83"/>
                  </a:lnTo>
                  <a:lnTo>
                    <a:pt x="83" y="83"/>
                  </a:lnTo>
                  <a:lnTo>
                    <a:pt x="73" y="81"/>
                  </a:lnTo>
                  <a:lnTo>
                    <a:pt x="64" y="81"/>
                  </a:lnTo>
                  <a:lnTo>
                    <a:pt x="54" y="79"/>
                  </a:lnTo>
                  <a:lnTo>
                    <a:pt x="46" y="77"/>
                  </a:lnTo>
                  <a:lnTo>
                    <a:pt x="39" y="73"/>
                  </a:lnTo>
                  <a:lnTo>
                    <a:pt x="31" y="71"/>
                  </a:lnTo>
                  <a:lnTo>
                    <a:pt x="23" y="67"/>
                  </a:lnTo>
                  <a:lnTo>
                    <a:pt x="17" y="65"/>
                  </a:lnTo>
                  <a:lnTo>
                    <a:pt x="12" y="62"/>
                  </a:lnTo>
                  <a:lnTo>
                    <a:pt x="8" y="58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7" y="17"/>
                  </a:lnTo>
                  <a:lnTo>
                    <a:pt x="23" y="15"/>
                  </a:lnTo>
                  <a:lnTo>
                    <a:pt x="31" y="12"/>
                  </a:lnTo>
                  <a:lnTo>
                    <a:pt x="39" y="10"/>
                  </a:lnTo>
                  <a:lnTo>
                    <a:pt x="46" y="8"/>
                  </a:lnTo>
                  <a:lnTo>
                    <a:pt x="54" y="4"/>
                  </a:lnTo>
                  <a:lnTo>
                    <a:pt x="64" y="2"/>
                  </a:lnTo>
                  <a:lnTo>
                    <a:pt x="73" y="2"/>
                  </a:lnTo>
                  <a:lnTo>
                    <a:pt x="83" y="0"/>
                  </a:lnTo>
                  <a:lnTo>
                    <a:pt x="92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13" y="0"/>
                  </a:lnTo>
                  <a:lnTo>
                    <a:pt x="123" y="0"/>
                  </a:lnTo>
                  <a:lnTo>
                    <a:pt x="133" y="2"/>
                  </a:lnTo>
                  <a:lnTo>
                    <a:pt x="142" y="2"/>
                  </a:lnTo>
                  <a:lnTo>
                    <a:pt x="152" y="4"/>
                  </a:lnTo>
                  <a:lnTo>
                    <a:pt x="160" y="8"/>
                  </a:lnTo>
                  <a:lnTo>
                    <a:pt x="167" y="10"/>
                  </a:lnTo>
                  <a:lnTo>
                    <a:pt x="175" y="12"/>
                  </a:lnTo>
                  <a:lnTo>
                    <a:pt x="183" y="15"/>
                  </a:lnTo>
                  <a:lnTo>
                    <a:pt x="188" y="17"/>
                  </a:lnTo>
                  <a:lnTo>
                    <a:pt x="194" y="21"/>
                  </a:lnTo>
                  <a:lnTo>
                    <a:pt x="198" y="25"/>
                  </a:lnTo>
                  <a:lnTo>
                    <a:pt x="202" y="29"/>
                  </a:lnTo>
                  <a:lnTo>
                    <a:pt x="204" y="33"/>
                  </a:lnTo>
                  <a:lnTo>
                    <a:pt x="206" y="37"/>
                  </a:lnTo>
                  <a:lnTo>
                    <a:pt x="206" y="42"/>
                  </a:lnTo>
                  <a:close/>
                </a:path>
              </a:pathLst>
            </a:custGeom>
            <a:solidFill>
              <a:srgbClr val="c1c2c1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3182040" y="1390680"/>
              <a:ext cx="430560" cy="192240"/>
            </a:xfrm>
            <a:custGeom>
              <a:avLst/>
              <a:gdLst/>
              <a:ahLst/>
              <a:rect l="l" t="t" r="r" b="b"/>
              <a:pathLst>
                <a:path w="204" h="91">
                  <a:moveTo>
                    <a:pt x="204" y="64"/>
                  </a:moveTo>
                  <a:lnTo>
                    <a:pt x="202" y="67"/>
                  </a:lnTo>
                  <a:lnTo>
                    <a:pt x="200" y="71"/>
                  </a:lnTo>
                  <a:lnTo>
                    <a:pt x="196" y="75"/>
                  </a:lnTo>
                  <a:lnTo>
                    <a:pt x="192" y="79"/>
                  </a:lnTo>
                  <a:lnTo>
                    <a:pt x="188" y="81"/>
                  </a:lnTo>
                  <a:lnTo>
                    <a:pt x="183" y="85"/>
                  </a:lnTo>
                  <a:lnTo>
                    <a:pt x="175" y="87"/>
                  </a:lnTo>
                  <a:lnTo>
                    <a:pt x="169" y="89"/>
                  </a:lnTo>
                  <a:lnTo>
                    <a:pt x="161" y="89"/>
                  </a:lnTo>
                  <a:lnTo>
                    <a:pt x="152" y="91"/>
                  </a:lnTo>
                  <a:lnTo>
                    <a:pt x="144" y="91"/>
                  </a:lnTo>
                  <a:lnTo>
                    <a:pt x="135" y="91"/>
                  </a:lnTo>
                  <a:lnTo>
                    <a:pt x="125" y="91"/>
                  </a:lnTo>
                  <a:lnTo>
                    <a:pt x="115" y="91"/>
                  </a:lnTo>
                  <a:lnTo>
                    <a:pt x="106" y="89"/>
                  </a:lnTo>
                  <a:lnTo>
                    <a:pt x="94" y="87"/>
                  </a:lnTo>
                  <a:lnTo>
                    <a:pt x="94" y="87"/>
                  </a:lnTo>
                  <a:lnTo>
                    <a:pt x="85" y="85"/>
                  </a:lnTo>
                  <a:lnTo>
                    <a:pt x="75" y="83"/>
                  </a:lnTo>
                  <a:lnTo>
                    <a:pt x="65" y="81"/>
                  </a:lnTo>
                  <a:lnTo>
                    <a:pt x="56" y="77"/>
                  </a:lnTo>
                  <a:lnTo>
                    <a:pt x="48" y="73"/>
                  </a:lnTo>
                  <a:lnTo>
                    <a:pt x="40" y="69"/>
                  </a:lnTo>
                  <a:lnTo>
                    <a:pt x="33" y="66"/>
                  </a:lnTo>
                  <a:lnTo>
                    <a:pt x="25" y="62"/>
                  </a:lnTo>
                  <a:lnTo>
                    <a:pt x="19" y="58"/>
                  </a:lnTo>
                  <a:lnTo>
                    <a:pt x="14" y="54"/>
                  </a:lnTo>
                  <a:lnTo>
                    <a:pt x="10" y="50"/>
                  </a:lnTo>
                  <a:lnTo>
                    <a:pt x="6" y="46"/>
                  </a:lnTo>
                  <a:lnTo>
                    <a:pt x="4" y="41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7" y="10"/>
                  </a:lnTo>
                  <a:lnTo>
                    <a:pt x="23" y="8"/>
                  </a:lnTo>
                  <a:lnTo>
                    <a:pt x="29" y="6"/>
                  </a:lnTo>
                  <a:lnTo>
                    <a:pt x="37" y="4"/>
                  </a:lnTo>
                  <a:lnTo>
                    <a:pt x="44" y="2"/>
                  </a:lnTo>
                  <a:lnTo>
                    <a:pt x="52" y="2"/>
                  </a:lnTo>
                  <a:lnTo>
                    <a:pt x="60" y="2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8" y="2"/>
                  </a:lnTo>
                  <a:lnTo>
                    <a:pt x="100" y="4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9" y="6"/>
                  </a:lnTo>
                  <a:lnTo>
                    <a:pt x="129" y="10"/>
                  </a:lnTo>
                  <a:lnTo>
                    <a:pt x="138" y="12"/>
                  </a:lnTo>
                  <a:lnTo>
                    <a:pt x="148" y="16"/>
                  </a:lnTo>
                  <a:lnTo>
                    <a:pt x="158" y="18"/>
                  </a:lnTo>
                  <a:lnTo>
                    <a:pt x="165" y="21"/>
                  </a:lnTo>
                  <a:lnTo>
                    <a:pt x="173" y="25"/>
                  </a:lnTo>
                  <a:lnTo>
                    <a:pt x="179" y="29"/>
                  </a:lnTo>
                  <a:lnTo>
                    <a:pt x="184" y="33"/>
                  </a:lnTo>
                  <a:lnTo>
                    <a:pt x="190" y="39"/>
                  </a:lnTo>
                  <a:lnTo>
                    <a:pt x="194" y="43"/>
                  </a:lnTo>
                  <a:lnTo>
                    <a:pt x="198" y="46"/>
                  </a:lnTo>
                  <a:lnTo>
                    <a:pt x="202" y="50"/>
                  </a:lnTo>
                  <a:lnTo>
                    <a:pt x="204" y="56"/>
                  </a:lnTo>
                  <a:lnTo>
                    <a:pt x="204" y="60"/>
                  </a:lnTo>
                  <a:lnTo>
                    <a:pt x="204" y="64"/>
                  </a:lnTo>
                  <a:close/>
                </a:path>
              </a:pathLst>
            </a:custGeom>
            <a:solidFill>
              <a:srgbClr val="c1c2c1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3182040" y="1796400"/>
              <a:ext cx="417600" cy="210960"/>
            </a:xfrm>
            <a:custGeom>
              <a:avLst/>
              <a:gdLst/>
              <a:ahLst/>
              <a:rect l="l" t="t" r="r" b="b"/>
              <a:pathLst>
                <a:path w="198" h="100">
                  <a:moveTo>
                    <a:pt x="198" y="80"/>
                  </a:moveTo>
                  <a:lnTo>
                    <a:pt x="196" y="84"/>
                  </a:lnTo>
                  <a:lnTo>
                    <a:pt x="192" y="88"/>
                  </a:lnTo>
                  <a:lnTo>
                    <a:pt x="188" y="90"/>
                  </a:lnTo>
                  <a:lnTo>
                    <a:pt x="184" y="94"/>
                  </a:lnTo>
                  <a:lnTo>
                    <a:pt x="178" y="96"/>
                  </a:lnTo>
                  <a:lnTo>
                    <a:pt x="173" y="98"/>
                  </a:lnTo>
                  <a:lnTo>
                    <a:pt x="167" y="100"/>
                  </a:lnTo>
                  <a:lnTo>
                    <a:pt x="159" y="100"/>
                  </a:lnTo>
                  <a:lnTo>
                    <a:pt x="152" y="100"/>
                  </a:lnTo>
                  <a:lnTo>
                    <a:pt x="144" y="100"/>
                  </a:lnTo>
                  <a:lnTo>
                    <a:pt x="134" y="100"/>
                  </a:lnTo>
                  <a:lnTo>
                    <a:pt x="125" y="100"/>
                  </a:lnTo>
                  <a:lnTo>
                    <a:pt x="115" y="98"/>
                  </a:lnTo>
                  <a:lnTo>
                    <a:pt x="105" y="96"/>
                  </a:lnTo>
                  <a:lnTo>
                    <a:pt x="96" y="94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77" y="86"/>
                  </a:lnTo>
                  <a:lnTo>
                    <a:pt x="67" y="84"/>
                  </a:lnTo>
                  <a:lnTo>
                    <a:pt x="57" y="80"/>
                  </a:lnTo>
                  <a:lnTo>
                    <a:pt x="50" y="75"/>
                  </a:lnTo>
                  <a:lnTo>
                    <a:pt x="40" y="71"/>
                  </a:lnTo>
                  <a:lnTo>
                    <a:pt x="34" y="67"/>
                  </a:lnTo>
                  <a:lnTo>
                    <a:pt x="27" y="61"/>
                  </a:lnTo>
                  <a:lnTo>
                    <a:pt x="21" y="57"/>
                  </a:lnTo>
                  <a:lnTo>
                    <a:pt x="15" y="52"/>
                  </a:lnTo>
                  <a:lnTo>
                    <a:pt x="9" y="48"/>
                  </a:lnTo>
                  <a:lnTo>
                    <a:pt x="6" y="42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6" y="13"/>
                  </a:lnTo>
                  <a:lnTo>
                    <a:pt x="8" y="9"/>
                  </a:lnTo>
                  <a:lnTo>
                    <a:pt x="13" y="7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38" y="2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3" y="2"/>
                  </a:lnTo>
                  <a:lnTo>
                    <a:pt x="71" y="2"/>
                  </a:lnTo>
                  <a:lnTo>
                    <a:pt x="81" y="4"/>
                  </a:lnTo>
                  <a:lnTo>
                    <a:pt x="90" y="6"/>
                  </a:lnTo>
                  <a:lnTo>
                    <a:pt x="102" y="7"/>
                  </a:lnTo>
                  <a:lnTo>
                    <a:pt x="111" y="9"/>
                  </a:lnTo>
                  <a:lnTo>
                    <a:pt x="111" y="9"/>
                  </a:lnTo>
                  <a:lnTo>
                    <a:pt x="121" y="13"/>
                  </a:lnTo>
                  <a:lnTo>
                    <a:pt x="130" y="17"/>
                  </a:lnTo>
                  <a:lnTo>
                    <a:pt x="140" y="21"/>
                  </a:lnTo>
                  <a:lnTo>
                    <a:pt x="148" y="25"/>
                  </a:lnTo>
                  <a:lnTo>
                    <a:pt x="155" y="29"/>
                  </a:lnTo>
                  <a:lnTo>
                    <a:pt x="163" y="34"/>
                  </a:lnTo>
                  <a:lnTo>
                    <a:pt x="171" y="38"/>
                  </a:lnTo>
                  <a:lnTo>
                    <a:pt x="177" y="44"/>
                  </a:lnTo>
                  <a:lnTo>
                    <a:pt x="182" y="48"/>
                  </a:lnTo>
                  <a:lnTo>
                    <a:pt x="186" y="54"/>
                  </a:lnTo>
                  <a:lnTo>
                    <a:pt x="190" y="57"/>
                  </a:lnTo>
                  <a:lnTo>
                    <a:pt x="194" y="63"/>
                  </a:lnTo>
                  <a:lnTo>
                    <a:pt x="196" y="67"/>
                  </a:lnTo>
                  <a:lnTo>
                    <a:pt x="198" y="71"/>
                  </a:lnTo>
                  <a:lnTo>
                    <a:pt x="198" y="77"/>
                  </a:lnTo>
                  <a:lnTo>
                    <a:pt x="198" y="80"/>
                  </a:lnTo>
                  <a:close/>
                </a:path>
              </a:pathLst>
            </a:custGeom>
            <a:solidFill>
              <a:srgbClr val="c1c2c1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2777040" y="1289880"/>
              <a:ext cx="383760" cy="263520"/>
            </a:xfrm>
            <a:custGeom>
              <a:avLst/>
              <a:gdLst/>
              <a:ahLst/>
              <a:rect l="l" t="t" r="r" b="b"/>
              <a:pathLst>
                <a:path w="182" h="125">
                  <a:moveTo>
                    <a:pt x="181" y="12"/>
                  </a:moveTo>
                  <a:lnTo>
                    <a:pt x="182" y="16"/>
                  </a:lnTo>
                  <a:lnTo>
                    <a:pt x="182" y="20"/>
                  </a:lnTo>
                  <a:lnTo>
                    <a:pt x="182" y="23"/>
                  </a:lnTo>
                  <a:lnTo>
                    <a:pt x="182" y="29"/>
                  </a:lnTo>
                  <a:lnTo>
                    <a:pt x="181" y="35"/>
                  </a:lnTo>
                  <a:lnTo>
                    <a:pt x="177" y="41"/>
                  </a:lnTo>
                  <a:lnTo>
                    <a:pt x="173" y="47"/>
                  </a:lnTo>
                  <a:lnTo>
                    <a:pt x="169" y="52"/>
                  </a:lnTo>
                  <a:lnTo>
                    <a:pt x="165" y="58"/>
                  </a:lnTo>
                  <a:lnTo>
                    <a:pt x="159" y="64"/>
                  </a:lnTo>
                  <a:lnTo>
                    <a:pt x="152" y="70"/>
                  </a:lnTo>
                  <a:lnTo>
                    <a:pt x="146" y="75"/>
                  </a:lnTo>
                  <a:lnTo>
                    <a:pt x="138" y="81"/>
                  </a:lnTo>
                  <a:lnTo>
                    <a:pt x="131" y="87"/>
                  </a:lnTo>
                  <a:lnTo>
                    <a:pt x="121" y="93"/>
                  </a:lnTo>
                  <a:lnTo>
                    <a:pt x="113" y="98"/>
                  </a:lnTo>
                  <a:lnTo>
                    <a:pt x="113" y="98"/>
                  </a:lnTo>
                  <a:lnTo>
                    <a:pt x="104" y="104"/>
                  </a:lnTo>
                  <a:lnTo>
                    <a:pt x="94" y="108"/>
                  </a:lnTo>
                  <a:lnTo>
                    <a:pt x="85" y="112"/>
                  </a:lnTo>
                  <a:lnTo>
                    <a:pt x="77" y="116"/>
                  </a:lnTo>
                  <a:lnTo>
                    <a:pt x="67" y="119"/>
                  </a:lnTo>
                  <a:lnTo>
                    <a:pt x="60" y="121"/>
                  </a:lnTo>
                  <a:lnTo>
                    <a:pt x="52" y="123"/>
                  </a:lnTo>
                  <a:lnTo>
                    <a:pt x="44" y="125"/>
                  </a:lnTo>
                  <a:lnTo>
                    <a:pt x="37" y="125"/>
                  </a:lnTo>
                  <a:lnTo>
                    <a:pt x="29" y="125"/>
                  </a:lnTo>
                  <a:lnTo>
                    <a:pt x="23" y="125"/>
                  </a:lnTo>
                  <a:lnTo>
                    <a:pt x="17" y="123"/>
                  </a:lnTo>
                  <a:lnTo>
                    <a:pt x="14" y="123"/>
                  </a:lnTo>
                  <a:lnTo>
                    <a:pt x="10" y="119"/>
                  </a:lnTo>
                  <a:lnTo>
                    <a:pt x="6" y="118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2" y="96"/>
                  </a:lnTo>
                  <a:lnTo>
                    <a:pt x="4" y="91"/>
                  </a:lnTo>
                  <a:lnTo>
                    <a:pt x="6" y="85"/>
                  </a:lnTo>
                  <a:lnTo>
                    <a:pt x="10" y="79"/>
                  </a:lnTo>
                  <a:lnTo>
                    <a:pt x="14" y="73"/>
                  </a:lnTo>
                  <a:lnTo>
                    <a:pt x="19" y="68"/>
                  </a:lnTo>
                  <a:lnTo>
                    <a:pt x="25" y="62"/>
                  </a:lnTo>
                  <a:lnTo>
                    <a:pt x="31" y="54"/>
                  </a:lnTo>
                  <a:lnTo>
                    <a:pt x="38" y="48"/>
                  </a:lnTo>
                  <a:lnTo>
                    <a:pt x="46" y="43"/>
                  </a:lnTo>
                  <a:lnTo>
                    <a:pt x="54" y="37"/>
                  </a:lnTo>
                  <a:lnTo>
                    <a:pt x="62" y="31"/>
                  </a:lnTo>
                  <a:lnTo>
                    <a:pt x="71" y="25"/>
                  </a:lnTo>
                  <a:lnTo>
                    <a:pt x="71" y="25"/>
                  </a:lnTo>
                  <a:lnTo>
                    <a:pt x="81" y="22"/>
                  </a:lnTo>
                  <a:lnTo>
                    <a:pt x="88" y="16"/>
                  </a:lnTo>
                  <a:lnTo>
                    <a:pt x="98" y="12"/>
                  </a:lnTo>
                  <a:lnTo>
                    <a:pt x="108" y="10"/>
                  </a:lnTo>
                  <a:lnTo>
                    <a:pt x="115" y="6"/>
                  </a:lnTo>
                  <a:lnTo>
                    <a:pt x="125" y="4"/>
                  </a:lnTo>
                  <a:lnTo>
                    <a:pt x="133" y="2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5" y="0"/>
                  </a:lnTo>
                  <a:lnTo>
                    <a:pt x="171" y="2"/>
                  </a:lnTo>
                  <a:lnTo>
                    <a:pt x="175" y="4"/>
                  </a:lnTo>
                  <a:lnTo>
                    <a:pt x="179" y="8"/>
                  </a:lnTo>
                  <a:lnTo>
                    <a:pt x="181" y="12"/>
                  </a:lnTo>
                  <a:close/>
                </a:path>
              </a:pathLst>
            </a:custGeom>
            <a:solidFill>
              <a:srgbClr val="c1c2c1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1641240" y="2271240"/>
              <a:ext cx="342000" cy="2160"/>
            </a:xfrm>
            <a:prstGeom prst="line">
              <a:avLst/>
            </a:prstGeom>
            <a:ln w="52560">
              <a:solidFill>
                <a:srgbClr val="ff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1816200" y="2091600"/>
              <a:ext cx="2160" cy="352800"/>
            </a:xfrm>
            <a:prstGeom prst="line">
              <a:avLst/>
            </a:prstGeom>
            <a:ln w="52560">
              <a:solidFill>
                <a:srgbClr val="ff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41400" y="-838080"/>
              <a:ext cx="2742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Hybridizatio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41400" y="-230040"/>
              <a:ext cx="36478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80" name=""/>
            <p:cNvGrpSpPr/>
            <p:nvPr/>
          </p:nvGrpSpPr>
          <p:grpSpPr>
            <a:xfrm>
              <a:off x="851400" y="3620160"/>
              <a:ext cx="200520" cy="388080"/>
              <a:chOff x="851400" y="3620160"/>
              <a:chExt cx="200520" cy="388080"/>
            </a:xfrm>
          </p:grpSpPr>
          <p:sp>
            <p:nvSpPr>
              <p:cNvPr id="4081" name=""/>
              <p:cNvSpPr/>
              <p:nvPr/>
            </p:nvSpPr>
            <p:spPr>
              <a:xfrm>
                <a:off x="851760" y="3816720"/>
                <a:ext cx="198360" cy="189000"/>
              </a:xfrm>
              <a:custGeom>
                <a:avLst/>
                <a:gdLst/>
                <a:ahLst/>
                <a:rect l="l" t="t" r="r" b="b"/>
                <a:pathLst>
                  <a:path w="94" h="90">
                    <a:moveTo>
                      <a:pt x="94" y="0"/>
                    </a:moveTo>
                    <a:lnTo>
                      <a:pt x="46" y="90"/>
                    </a:lnTo>
                    <a:lnTo>
                      <a:pt x="0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 flipH="1">
                <a:off x="948240" y="3816720"/>
                <a:ext cx="101160" cy="189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948600" y="4006080"/>
                <a:ext cx="216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 flipH="1" flipV="1">
                <a:off x="851400" y="3816360"/>
                <a:ext cx="96840" cy="189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851760" y="3816720"/>
                <a:ext cx="2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851760" y="3816720"/>
                <a:ext cx="198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1050120" y="3816720"/>
                <a:ext cx="1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923400" y="3620520"/>
                <a:ext cx="61200" cy="196200"/>
              </a:xfrm>
              <a:prstGeom prst="rect">
                <a:avLst/>
              </a:pr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 flipH="1">
                <a:off x="923400" y="3816720"/>
                <a:ext cx="612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923400" y="3816720"/>
                <a:ext cx="2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 flipV="1">
                <a:off x="923400" y="3620160"/>
                <a:ext cx="2160" cy="19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923400" y="3620520"/>
                <a:ext cx="216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923400" y="3620520"/>
                <a:ext cx="6120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984600" y="3620520"/>
                <a:ext cx="216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984600" y="3620520"/>
                <a:ext cx="2160" cy="19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984600" y="3816720"/>
                <a:ext cx="2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97" name=""/>
            <p:cNvSpPr/>
            <p:nvPr/>
          </p:nvSpPr>
          <p:spPr>
            <a:xfrm>
              <a:off x="102600" y="82080"/>
              <a:ext cx="3732120" cy="2160"/>
            </a:xfrm>
            <a:prstGeom prst="line">
              <a:avLst/>
            </a:prstGeom>
            <a:ln w="52560">
              <a:solidFill>
                <a:srgbClr val="ff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834720" y="82080"/>
              <a:ext cx="1800" cy="2160"/>
            </a:xfrm>
            <a:prstGeom prst="line">
              <a:avLst/>
            </a:prstGeom>
            <a:ln w="52560">
              <a:solidFill>
                <a:srgbClr val="ff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3834720" y="82080"/>
              <a:ext cx="1800" cy="6755400"/>
            </a:xfrm>
            <a:prstGeom prst="line">
              <a:avLst/>
            </a:prstGeom>
            <a:ln w="52560">
              <a:solidFill>
                <a:srgbClr val="ff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3834720" y="6837840"/>
              <a:ext cx="1800" cy="2160"/>
            </a:xfrm>
            <a:prstGeom prst="line">
              <a:avLst/>
            </a:prstGeom>
            <a:ln w="52560">
              <a:solidFill>
                <a:srgbClr val="ff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 flipH="1">
              <a:off x="102240" y="6837840"/>
              <a:ext cx="3732120" cy="2160"/>
            </a:xfrm>
            <a:prstGeom prst="line">
              <a:avLst/>
            </a:prstGeom>
            <a:ln w="52560">
              <a:solidFill>
                <a:srgbClr val="ff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102600" y="6837840"/>
              <a:ext cx="1800" cy="2160"/>
            </a:xfrm>
            <a:prstGeom prst="line">
              <a:avLst/>
            </a:prstGeom>
            <a:ln w="52560">
              <a:solidFill>
                <a:srgbClr val="ff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 flipV="1">
              <a:off x="102600" y="81720"/>
              <a:ext cx="1800" cy="6755400"/>
            </a:xfrm>
            <a:prstGeom prst="line">
              <a:avLst/>
            </a:prstGeom>
            <a:ln w="52560">
              <a:solidFill>
                <a:srgbClr val="ff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102600" y="82080"/>
              <a:ext cx="1800" cy="2160"/>
            </a:xfrm>
            <a:prstGeom prst="line">
              <a:avLst/>
            </a:prstGeom>
            <a:ln w="52560">
              <a:solidFill>
                <a:srgbClr val="ffe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98280" y="77760"/>
              <a:ext cx="3732120" cy="2160"/>
            </a:xfrm>
            <a:prstGeom prst="line">
              <a:avLst/>
            </a:prstGeom>
            <a:ln w="46080">
              <a:solidFill>
                <a:srgbClr val="e9ce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3830400" y="77760"/>
              <a:ext cx="2160" cy="2160"/>
            </a:xfrm>
            <a:prstGeom prst="line">
              <a:avLst/>
            </a:prstGeom>
            <a:ln w="46080">
              <a:solidFill>
                <a:srgbClr val="e9ce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3830400" y="77760"/>
              <a:ext cx="2160" cy="6756120"/>
            </a:xfrm>
            <a:prstGeom prst="line">
              <a:avLst/>
            </a:prstGeom>
            <a:ln w="46080">
              <a:solidFill>
                <a:srgbClr val="e9ce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3830400" y="6833880"/>
              <a:ext cx="2160" cy="1800"/>
            </a:xfrm>
            <a:prstGeom prst="line">
              <a:avLst/>
            </a:prstGeom>
            <a:ln w="46080">
              <a:solidFill>
                <a:srgbClr val="e9ce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97920" y="6833880"/>
              <a:ext cx="3732120" cy="1800"/>
            </a:xfrm>
            <a:prstGeom prst="line">
              <a:avLst/>
            </a:prstGeom>
            <a:ln w="46080">
              <a:solidFill>
                <a:srgbClr val="e9ce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98280" y="6833880"/>
              <a:ext cx="1800" cy="1800"/>
            </a:xfrm>
            <a:prstGeom prst="line">
              <a:avLst/>
            </a:prstGeom>
            <a:ln w="46080">
              <a:solidFill>
                <a:srgbClr val="e9ce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 flipV="1">
              <a:off x="98280" y="77400"/>
              <a:ext cx="1800" cy="6756120"/>
            </a:xfrm>
            <a:prstGeom prst="line">
              <a:avLst/>
            </a:prstGeom>
            <a:ln w="46080">
              <a:solidFill>
                <a:srgbClr val="e9ce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98280" y="77760"/>
              <a:ext cx="1800" cy="2160"/>
            </a:xfrm>
            <a:prstGeom prst="line">
              <a:avLst/>
            </a:prstGeom>
            <a:ln w="46080">
              <a:solidFill>
                <a:srgbClr val="e9ce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93960" y="73800"/>
              <a:ext cx="3732120" cy="1800"/>
            </a:xfrm>
            <a:prstGeom prst="line">
              <a:avLst/>
            </a:prstGeom>
            <a:ln w="39600">
              <a:solidFill>
                <a:srgbClr val="cab4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826080" y="73800"/>
              <a:ext cx="2160" cy="1800"/>
            </a:xfrm>
            <a:prstGeom prst="line">
              <a:avLst/>
            </a:prstGeom>
            <a:ln w="39600">
              <a:solidFill>
                <a:srgbClr val="cab4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826080" y="73800"/>
              <a:ext cx="2160" cy="6755400"/>
            </a:xfrm>
            <a:prstGeom prst="line">
              <a:avLst/>
            </a:prstGeom>
            <a:ln w="39600">
              <a:solidFill>
                <a:srgbClr val="cab4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826080" y="6829560"/>
              <a:ext cx="2160" cy="1800"/>
            </a:xfrm>
            <a:prstGeom prst="line">
              <a:avLst/>
            </a:prstGeom>
            <a:ln w="39600">
              <a:solidFill>
                <a:srgbClr val="cab4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 flipH="1">
              <a:off x="93600" y="6829560"/>
              <a:ext cx="3732120" cy="1800"/>
            </a:xfrm>
            <a:prstGeom prst="line">
              <a:avLst/>
            </a:prstGeom>
            <a:ln w="39600">
              <a:solidFill>
                <a:srgbClr val="cab4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93960" y="6829560"/>
              <a:ext cx="1800" cy="1800"/>
            </a:xfrm>
            <a:prstGeom prst="line">
              <a:avLst/>
            </a:prstGeom>
            <a:ln w="39600">
              <a:solidFill>
                <a:srgbClr val="cab4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 flipV="1">
              <a:off x="93960" y="73440"/>
              <a:ext cx="1800" cy="6755400"/>
            </a:xfrm>
            <a:prstGeom prst="line">
              <a:avLst/>
            </a:prstGeom>
            <a:ln w="39600">
              <a:solidFill>
                <a:srgbClr val="cab4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93960" y="73800"/>
              <a:ext cx="1800" cy="1800"/>
            </a:xfrm>
            <a:prstGeom prst="line">
              <a:avLst/>
            </a:prstGeom>
            <a:ln w="39600">
              <a:solidFill>
                <a:srgbClr val="cab4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89640" y="69480"/>
              <a:ext cx="3732120" cy="1800"/>
            </a:xfrm>
            <a:prstGeom prst="line">
              <a:avLst/>
            </a:prstGeom>
            <a:ln w="33480">
              <a:solidFill>
                <a:srgbClr val="ab9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3821760" y="69480"/>
              <a:ext cx="2160" cy="1800"/>
            </a:xfrm>
            <a:prstGeom prst="line">
              <a:avLst/>
            </a:prstGeom>
            <a:ln w="33480">
              <a:solidFill>
                <a:srgbClr val="ab9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3821760" y="69480"/>
              <a:ext cx="2160" cy="6755400"/>
            </a:xfrm>
            <a:prstGeom prst="line">
              <a:avLst/>
            </a:prstGeom>
            <a:ln w="33480">
              <a:solidFill>
                <a:srgbClr val="ab9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3821760" y="6825240"/>
              <a:ext cx="2160" cy="1800"/>
            </a:xfrm>
            <a:prstGeom prst="line">
              <a:avLst/>
            </a:prstGeom>
            <a:ln w="33480">
              <a:solidFill>
                <a:srgbClr val="ab9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 flipH="1">
              <a:off x="89280" y="6825240"/>
              <a:ext cx="3732120" cy="1800"/>
            </a:xfrm>
            <a:prstGeom prst="line">
              <a:avLst/>
            </a:prstGeom>
            <a:ln w="33480">
              <a:solidFill>
                <a:srgbClr val="ab9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89640" y="6825240"/>
              <a:ext cx="2160" cy="1800"/>
            </a:xfrm>
            <a:prstGeom prst="line">
              <a:avLst/>
            </a:prstGeom>
            <a:ln w="33480">
              <a:solidFill>
                <a:srgbClr val="ab9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 flipV="1">
              <a:off x="89640" y="69120"/>
              <a:ext cx="2160" cy="6755400"/>
            </a:xfrm>
            <a:prstGeom prst="line">
              <a:avLst/>
            </a:prstGeom>
            <a:ln w="33480">
              <a:solidFill>
                <a:srgbClr val="ab9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89640" y="69480"/>
              <a:ext cx="2160" cy="1800"/>
            </a:xfrm>
            <a:prstGeom prst="line">
              <a:avLst/>
            </a:prstGeom>
            <a:ln w="33480">
              <a:solidFill>
                <a:srgbClr val="ab9b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85320" y="65160"/>
              <a:ext cx="3732480" cy="1800"/>
            </a:xfrm>
            <a:prstGeom prst="line">
              <a:avLst/>
            </a:prstGeom>
            <a:ln w="27000">
              <a:solidFill>
                <a:srgbClr val="887e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3817800" y="65160"/>
              <a:ext cx="1800" cy="1800"/>
            </a:xfrm>
            <a:prstGeom prst="line">
              <a:avLst/>
            </a:prstGeom>
            <a:ln w="27000">
              <a:solidFill>
                <a:srgbClr val="887e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3817800" y="65160"/>
              <a:ext cx="1800" cy="6755400"/>
            </a:xfrm>
            <a:prstGeom prst="line">
              <a:avLst/>
            </a:prstGeom>
            <a:ln w="27000">
              <a:solidFill>
                <a:srgbClr val="887e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3817800" y="6820920"/>
              <a:ext cx="1800" cy="2160"/>
            </a:xfrm>
            <a:prstGeom prst="line">
              <a:avLst/>
            </a:prstGeom>
            <a:ln w="27000">
              <a:solidFill>
                <a:srgbClr val="887e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 flipH="1">
              <a:off x="85320" y="6820920"/>
              <a:ext cx="3732480" cy="2160"/>
            </a:xfrm>
            <a:prstGeom prst="line">
              <a:avLst/>
            </a:prstGeom>
            <a:ln w="27000">
              <a:solidFill>
                <a:srgbClr val="887e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85320" y="6820920"/>
              <a:ext cx="2160" cy="2160"/>
            </a:xfrm>
            <a:prstGeom prst="line">
              <a:avLst/>
            </a:prstGeom>
            <a:ln w="27000">
              <a:solidFill>
                <a:srgbClr val="887e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 flipV="1">
              <a:off x="85320" y="64800"/>
              <a:ext cx="2160" cy="6755400"/>
            </a:xfrm>
            <a:prstGeom prst="line">
              <a:avLst/>
            </a:prstGeom>
            <a:ln w="27000">
              <a:solidFill>
                <a:srgbClr val="887e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85320" y="65160"/>
              <a:ext cx="2160" cy="1800"/>
            </a:xfrm>
            <a:prstGeom prst="line">
              <a:avLst/>
            </a:prstGeom>
            <a:ln w="27000">
              <a:solidFill>
                <a:srgbClr val="887e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81000" y="60840"/>
              <a:ext cx="3734280" cy="2160"/>
            </a:xfrm>
            <a:prstGeom prst="line">
              <a:avLst/>
            </a:prstGeom>
            <a:ln w="20520">
              <a:solidFill>
                <a:srgbClr val="655e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3815640" y="60840"/>
              <a:ext cx="2160" cy="2160"/>
            </a:xfrm>
            <a:prstGeom prst="line">
              <a:avLst/>
            </a:prstGeom>
            <a:ln w="20520">
              <a:solidFill>
                <a:srgbClr val="655e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3815640" y="60840"/>
              <a:ext cx="2160" cy="6757920"/>
            </a:xfrm>
            <a:prstGeom prst="line">
              <a:avLst/>
            </a:prstGeom>
            <a:ln w="20520">
              <a:solidFill>
                <a:srgbClr val="655e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3815640" y="6819120"/>
              <a:ext cx="2160" cy="1800"/>
            </a:xfrm>
            <a:prstGeom prst="line">
              <a:avLst/>
            </a:prstGeom>
            <a:ln w="20520">
              <a:solidFill>
                <a:srgbClr val="655e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 flipH="1">
              <a:off x="80640" y="6819120"/>
              <a:ext cx="3734280" cy="1800"/>
            </a:xfrm>
            <a:prstGeom prst="line">
              <a:avLst/>
            </a:prstGeom>
            <a:ln w="20520">
              <a:solidFill>
                <a:srgbClr val="655e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81000" y="6819120"/>
              <a:ext cx="2160" cy="1800"/>
            </a:xfrm>
            <a:prstGeom prst="line">
              <a:avLst/>
            </a:prstGeom>
            <a:ln w="20520">
              <a:solidFill>
                <a:srgbClr val="655e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 flipV="1">
              <a:off x="81000" y="60840"/>
              <a:ext cx="2160" cy="6757920"/>
            </a:xfrm>
            <a:prstGeom prst="line">
              <a:avLst/>
            </a:prstGeom>
            <a:ln w="20520">
              <a:solidFill>
                <a:srgbClr val="655e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81000" y="60840"/>
              <a:ext cx="2160" cy="2160"/>
            </a:xfrm>
            <a:prstGeom prst="line">
              <a:avLst/>
            </a:prstGeom>
            <a:ln w="20520">
              <a:solidFill>
                <a:srgbClr val="655e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77040" y="56520"/>
              <a:ext cx="3733920" cy="2160"/>
            </a:xfrm>
            <a:prstGeom prst="line">
              <a:avLst/>
            </a:prstGeom>
            <a:ln w="15840">
              <a:solidFill>
                <a:srgbClr val="3836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3811320" y="56520"/>
              <a:ext cx="2160" cy="2160"/>
            </a:xfrm>
            <a:prstGeom prst="line">
              <a:avLst/>
            </a:prstGeom>
            <a:ln w="15840">
              <a:solidFill>
                <a:srgbClr val="3836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811320" y="56520"/>
              <a:ext cx="2160" cy="6757920"/>
            </a:xfrm>
            <a:prstGeom prst="line">
              <a:avLst/>
            </a:prstGeom>
            <a:ln w="15840">
              <a:solidFill>
                <a:srgbClr val="3836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3811320" y="6814800"/>
              <a:ext cx="2160" cy="1800"/>
            </a:xfrm>
            <a:prstGeom prst="line">
              <a:avLst/>
            </a:prstGeom>
            <a:ln w="15840">
              <a:solidFill>
                <a:srgbClr val="3836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 flipH="1">
              <a:off x="77040" y="6814800"/>
              <a:ext cx="3733920" cy="1800"/>
            </a:xfrm>
            <a:prstGeom prst="line">
              <a:avLst/>
            </a:prstGeom>
            <a:ln w="15840">
              <a:solidFill>
                <a:srgbClr val="3836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77040" y="6814800"/>
              <a:ext cx="1800" cy="1800"/>
            </a:xfrm>
            <a:prstGeom prst="line">
              <a:avLst/>
            </a:prstGeom>
            <a:ln w="15840">
              <a:solidFill>
                <a:srgbClr val="3836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 flipV="1">
              <a:off x="77040" y="56520"/>
              <a:ext cx="1800" cy="6757920"/>
            </a:xfrm>
            <a:prstGeom prst="line">
              <a:avLst/>
            </a:prstGeom>
            <a:ln w="15840">
              <a:solidFill>
                <a:srgbClr val="3836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77040" y="56520"/>
              <a:ext cx="1800" cy="2160"/>
            </a:xfrm>
            <a:prstGeom prst="line">
              <a:avLst/>
            </a:prstGeom>
            <a:ln w="15840">
              <a:solidFill>
                <a:srgbClr val="3836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72720" y="52560"/>
              <a:ext cx="373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807360" y="52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807360" y="52560"/>
              <a:ext cx="1800" cy="67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807360" y="6810480"/>
              <a:ext cx="18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 flipH="1">
              <a:off x="72360" y="6810480"/>
              <a:ext cx="37342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72720" y="6810480"/>
              <a:ext cx="18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 flipV="1">
              <a:off x="72720" y="52200"/>
              <a:ext cx="1800" cy="67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2720" y="52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51880" y="1140120"/>
              <a:ext cx="20664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47560" y="1188360"/>
              <a:ext cx="210960" cy="1800"/>
            </a:xfrm>
            <a:prstGeom prst="line">
              <a:avLst/>
            </a:prstGeom>
            <a:ln w="19080">
              <a:solidFill>
                <a:srgbClr val="c1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63" name=""/>
            <p:cNvGrpSpPr/>
            <p:nvPr/>
          </p:nvGrpSpPr>
          <p:grpSpPr>
            <a:xfrm>
              <a:off x="750240" y="2910960"/>
              <a:ext cx="611640" cy="276120"/>
              <a:chOff x="750240" y="2910960"/>
              <a:chExt cx="611640" cy="276120"/>
            </a:xfrm>
          </p:grpSpPr>
          <p:sp>
            <p:nvSpPr>
              <p:cNvPr id="4164" name=""/>
              <p:cNvSpPr/>
              <p:nvPr/>
            </p:nvSpPr>
            <p:spPr>
              <a:xfrm flipH="1" flipV="1">
                <a:off x="851400" y="3011760"/>
                <a:ext cx="122400" cy="167040"/>
              </a:xfrm>
              <a:prstGeom prst="line">
                <a:avLst/>
              </a:prstGeom>
              <a:ln w="28440">
                <a:solidFill>
                  <a:srgbClr val="ff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 flipH="1">
                <a:off x="939960" y="3185280"/>
                <a:ext cx="421920" cy="1800"/>
              </a:xfrm>
              <a:prstGeom prst="line">
                <a:avLst/>
              </a:prstGeom>
              <a:ln w="525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750240" y="2910960"/>
                <a:ext cx="227880" cy="17280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42"/>
                    </a:moveTo>
                    <a:lnTo>
                      <a:pt x="106" y="46"/>
                    </a:lnTo>
                    <a:lnTo>
                      <a:pt x="106" y="49"/>
                    </a:lnTo>
                    <a:lnTo>
                      <a:pt x="104" y="53"/>
                    </a:lnTo>
                    <a:lnTo>
                      <a:pt x="102" y="57"/>
                    </a:lnTo>
                    <a:lnTo>
                      <a:pt x="100" y="61"/>
                    </a:lnTo>
                    <a:lnTo>
                      <a:pt x="98" y="65"/>
                    </a:lnTo>
                    <a:lnTo>
                      <a:pt x="94" y="67"/>
                    </a:lnTo>
                    <a:lnTo>
                      <a:pt x="90" y="71"/>
                    </a:lnTo>
                    <a:lnTo>
                      <a:pt x="86" y="73"/>
                    </a:lnTo>
                    <a:lnTo>
                      <a:pt x="83" y="76"/>
                    </a:lnTo>
                    <a:lnTo>
                      <a:pt x="79" y="78"/>
                    </a:lnTo>
                    <a:lnTo>
                      <a:pt x="75" y="80"/>
                    </a:lnTo>
                    <a:lnTo>
                      <a:pt x="69" y="80"/>
                    </a:lnTo>
                    <a:lnTo>
                      <a:pt x="63" y="82"/>
                    </a:lnTo>
                    <a:lnTo>
                      <a:pt x="60" y="82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48" y="82"/>
                    </a:lnTo>
                    <a:lnTo>
                      <a:pt x="42" y="82"/>
                    </a:lnTo>
                    <a:lnTo>
                      <a:pt x="36" y="80"/>
                    </a:lnTo>
                    <a:lnTo>
                      <a:pt x="33" y="80"/>
                    </a:lnTo>
                    <a:lnTo>
                      <a:pt x="27" y="78"/>
                    </a:lnTo>
                    <a:lnTo>
                      <a:pt x="23" y="76"/>
                    </a:lnTo>
                    <a:lnTo>
                      <a:pt x="19" y="73"/>
                    </a:lnTo>
                    <a:lnTo>
                      <a:pt x="15" y="71"/>
                    </a:lnTo>
                    <a:lnTo>
                      <a:pt x="12" y="67"/>
                    </a:lnTo>
                    <a:lnTo>
                      <a:pt x="10" y="65"/>
                    </a:lnTo>
                    <a:lnTo>
                      <a:pt x="6" y="61"/>
                    </a:lnTo>
                    <a:lnTo>
                      <a:pt x="4" y="57"/>
                    </a:lnTo>
                    <a:lnTo>
                      <a:pt x="2" y="53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8"/>
                    </a:lnTo>
                    <a:lnTo>
                      <a:pt x="4" y="25"/>
                    </a:lnTo>
                    <a:lnTo>
                      <a:pt x="6" y="21"/>
                    </a:lnTo>
                    <a:lnTo>
                      <a:pt x="10" y="19"/>
                    </a:lnTo>
                    <a:lnTo>
                      <a:pt x="12" y="15"/>
                    </a:lnTo>
                    <a:lnTo>
                      <a:pt x="15" y="11"/>
                    </a:lnTo>
                    <a:lnTo>
                      <a:pt x="19" y="9"/>
                    </a:lnTo>
                    <a:lnTo>
                      <a:pt x="23" y="7"/>
                    </a:lnTo>
                    <a:lnTo>
                      <a:pt x="27" y="5"/>
                    </a:lnTo>
                    <a:lnTo>
                      <a:pt x="33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9" y="2"/>
                    </a:lnTo>
                    <a:lnTo>
                      <a:pt x="75" y="3"/>
                    </a:lnTo>
                    <a:lnTo>
                      <a:pt x="79" y="5"/>
                    </a:lnTo>
                    <a:lnTo>
                      <a:pt x="83" y="7"/>
                    </a:lnTo>
                    <a:lnTo>
                      <a:pt x="86" y="9"/>
                    </a:lnTo>
                    <a:lnTo>
                      <a:pt x="90" y="11"/>
                    </a:lnTo>
                    <a:lnTo>
                      <a:pt x="94" y="15"/>
                    </a:lnTo>
                    <a:lnTo>
                      <a:pt x="98" y="19"/>
                    </a:lnTo>
                    <a:lnTo>
                      <a:pt x="100" y="21"/>
                    </a:lnTo>
                    <a:lnTo>
                      <a:pt x="102" y="25"/>
                    </a:lnTo>
                    <a:lnTo>
                      <a:pt x="104" y="28"/>
                    </a:lnTo>
                    <a:lnTo>
                      <a:pt x="106" y="32"/>
                    </a:lnTo>
                    <a:lnTo>
                      <a:pt x="106" y="38"/>
                    </a:lnTo>
                    <a:lnTo>
                      <a:pt x="108" y="42"/>
                    </a:lnTo>
                    <a:close/>
                  </a:path>
                </a:pathLst>
              </a:custGeom>
              <a:solidFill>
                <a:srgbClr val="ffe3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7" name=""/>
            <p:cNvGrpSpPr/>
            <p:nvPr/>
          </p:nvGrpSpPr>
          <p:grpSpPr>
            <a:xfrm>
              <a:off x="1561320" y="2708280"/>
              <a:ext cx="610920" cy="276120"/>
              <a:chOff x="1561320" y="2708280"/>
              <a:chExt cx="610920" cy="276120"/>
            </a:xfrm>
          </p:grpSpPr>
          <p:sp>
            <p:nvSpPr>
              <p:cNvPr id="4168" name=""/>
              <p:cNvSpPr/>
              <p:nvPr/>
            </p:nvSpPr>
            <p:spPr>
              <a:xfrm flipH="1" flipV="1">
                <a:off x="1662480" y="2809080"/>
                <a:ext cx="122400" cy="167040"/>
              </a:xfrm>
              <a:prstGeom prst="line">
                <a:avLst/>
              </a:prstGeom>
              <a:ln w="28440">
                <a:solidFill>
                  <a:srgbClr val="ff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 flipH="1">
                <a:off x="1750680" y="2982600"/>
                <a:ext cx="421560" cy="1800"/>
              </a:xfrm>
              <a:prstGeom prst="line">
                <a:avLst/>
              </a:prstGeom>
              <a:ln w="525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1561320" y="2708280"/>
                <a:ext cx="227880" cy="17280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42"/>
                    </a:moveTo>
                    <a:lnTo>
                      <a:pt x="106" y="46"/>
                    </a:lnTo>
                    <a:lnTo>
                      <a:pt x="106" y="49"/>
                    </a:lnTo>
                    <a:lnTo>
                      <a:pt x="104" y="53"/>
                    </a:lnTo>
                    <a:lnTo>
                      <a:pt x="102" y="57"/>
                    </a:lnTo>
                    <a:lnTo>
                      <a:pt x="100" y="61"/>
                    </a:lnTo>
                    <a:lnTo>
                      <a:pt x="98" y="65"/>
                    </a:lnTo>
                    <a:lnTo>
                      <a:pt x="94" y="67"/>
                    </a:lnTo>
                    <a:lnTo>
                      <a:pt x="90" y="71"/>
                    </a:lnTo>
                    <a:lnTo>
                      <a:pt x="86" y="73"/>
                    </a:lnTo>
                    <a:lnTo>
                      <a:pt x="83" y="76"/>
                    </a:lnTo>
                    <a:lnTo>
                      <a:pt x="79" y="78"/>
                    </a:lnTo>
                    <a:lnTo>
                      <a:pt x="75" y="80"/>
                    </a:lnTo>
                    <a:lnTo>
                      <a:pt x="69" y="80"/>
                    </a:lnTo>
                    <a:lnTo>
                      <a:pt x="63" y="82"/>
                    </a:lnTo>
                    <a:lnTo>
                      <a:pt x="60" y="82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48" y="82"/>
                    </a:lnTo>
                    <a:lnTo>
                      <a:pt x="42" y="82"/>
                    </a:lnTo>
                    <a:lnTo>
                      <a:pt x="36" y="80"/>
                    </a:lnTo>
                    <a:lnTo>
                      <a:pt x="33" y="80"/>
                    </a:lnTo>
                    <a:lnTo>
                      <a:pt x="27" y="78"/>
                    </a:lnTo>
                    <a:lnTo>
                      <a:pt x="23" y="76"/>
                    </a:lnTo>
                    <a:lnTo>
                      <a:pt x="19" y="73"/>
                    </a:lnTo>
                    <a:lnTo>
                      <a:pt x="15" y="71"/>
                    </a:lnTo>
                    <a:lnTo>
                      <a:pt x="12" y="67"/>
                    </a:lnTo>
                    <a:lnTo>
                      <a:pt x="10" y="65"/>
                    </a:lnTo>
                    <a:lnTo>
                      <a:pt x="6" y="61"/>
                    </a:lnTo>
                    <a:lnTo>
                      <a:pt x="4" y="57"/>
                    </a:lnTo>
                    <a:lnTo>
                      <a:pt x="2" y="53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8"/>
                    </a:lnTo>
                    <a:lnTo>
                      <a:pt x="4" y="25"/>
                    </a:lnTo>
                    <a:lnTo>
                      <a:pt x="6" y="21"/>
                    </a:lnTo>
                    <a:lnTo>
                      <a:pt x="10" y="19"/>
                    </a:lnTo>
                    <a:lnTo>
                      <a:pt x="12" y="15"/>
                    </a:lnTo>
                    <a:lnTo>
                      <a:pt x="15" y="11"/>
                    </a:lnTo>
                    <a:lnTo>
                      <a:pt x="19" y="9"/>
                    </a:lnTo>
                    <a:lnTo>
                      <a:pt x="23" y="7"/>
                    </a:lnTo>
                    <a:lnTo>
                      <a:pt x="27" y="5"/>
                    </a:lnTo>
                    <a:lnTo>
                      <a:pt x="33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9" y="2"/>
                    </a:lnTo>
                    <a:lnTo>
                      <a:pt x="75" y="3"/>
                    </a:lnTo>
                    <a:lnTo>
                      <a:pt x="79" y="5"/>
                    </a:lnTo>
                    <a:lnTo>
                      <a:pt x="83" y="7"/>
                    </a:lnTo>
                    <a:lnTo>
                      <a:pt x="86" y="9"/>
                    </a:lnTo>
                    <a:lnTo>
                      <a:pt x="90" y="11"/>
                    </a:lnTo>
                    <a:lnTo>
                      <a:pt x="94" y="15"/>
                    </a:lnTo>
                    <a:lnTo>
                      <a:pt x="98" y="19"/>
                    </a:lnTo>
                    <a:lnTo>
                      <a:pt x="100" y="21"/>
                    </a:lnTo>
                    <a:lnTo>
                      <a:pt x="102" y="25"/>
                    </a:lnTo>
                    <a:lnTo>
                      <a:pt x="104" y="28"/>
                    </a:lnTo>
                    <a:lnTo>
                      <a:pt x="106" y="32"/>
                    </a:lnTo>
                    <a:lnTo>
                      <a:pt x="106" y="38"/>
                    </a:lnTo>
                    <a:lnTo>
                      <a:pt x="108" y="42"/>
                    </a:lnTo>
                    <a:close/>
                  </a:path>
                </a:pathLst>
              </a:custGeom>
              <a:solidFill>
                <a:srgbClr val="ffe3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71" name=""/>
            <p:cNvGrpSpPr/>
            <p:nvPr/>
          </p:nvGrpSpPr>
          <p:grpSpPr>
            <a:xfrm>
              <a:off x="750240" y="2505960"/>
              <a:ext cx="611640" cy="275760"/>
              <a:chOff x="750240" y="2505960"/>
              <a:chExt cx="611640" cy="275760"/>
            </a:xfrm>
          </p:grpSpPr>
          <p:sp>
            <p:nvSpPr>
              <p:cNvPr id="4172" name=""/>
              <p:cNvSpPr/>
              <p:nvPr/>
            </p:nvSpPr>
            <p:spPr>
              <a:xfrm flipH="1" flipV="1">
                <a:off x="851400" y="2606400"/>
                <a:ext cx="122400" cy="166680"/>
              </a:xfrm>
              <a:prstGeom prst="line">
                <a:avLst/>
              </a:prstGeom>
              <a:ln w="28440">
                <a:solidFill>
                  <a:srgbClr val="ff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 flipH="1">
                <a:off x="939960" y="2779920"/>
                <a:ext cx="421920" cy="1800"/>
              </a:xfrm>
              <a:prstGeom prst="line">
                <a:avLst/>
              </a:prstGeom>
              <a:ln w="525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750240" y="2505960"/>
                <a:ext cx="227880" cy="17244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42"/>
                    </a:moveTo>
                    <a:lnTo>
                      <a:pt x="106" y="46"/>
                    </a:lnTo>
                    <a:lnTo>
                      <a:pt x="106" y="49"/>
                    </a:lnTo>
                    <a:lnTo>
                      <a:pt x="104" y="53"/>
                    </a:lnTo>
                    <a:lnTo>
                      <a:pt x="102" y="57"/>
                    </a:lnTo>
                    <a:lnTo>
                      <a:pt x="100" y="61"/>
                    </a:lnTo>
                    <a:lnTo>
                      <a:pt x="98" y="65"/>
                    </a:lnTo>
                    <a:lnTo>
                      <a:pt x="94" y="67"/>
                    </a:lnTo>
                    <a:lnTo>
                      <a:pt x="90" y="71"/>
                    </a:lnTo>
                    <a:lnTo>
                      <a:pt x="86" y="73"/>
                    </a:lnTo>
                    <a:lnTo>
                      <a:pt x="83" y="76"/>
                    </a:lnTo>
                    <a:lnTo>
                      <a:pt x="79" y="78"/>
                    </a:lnTo>
                    <a:lnTo>
                      <a:pt x="75" y="80"/>
                    </a:lnTo>
                    <a:lnTo>
                      <a:pt x="69" y="80"/>
                    </a:lnTo>
                    <a:lnTo>
                      <a:pt x="63" y="82"/>
                    </a:lnTo>
                    <a:lnTo>
                      <a:pt x="60" y="82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48" y="82"/>
                    </a:lnTo>
                    <a:lnTo>
                      <a:pt x="42" y="82"/>
                    </a:lnTo>
                    <a:lnTo>
                      <a:pt x="36" y="80"/>
                    </a:lnTo>
                    <a:lnTo>
                      <a:pt x="33" y="80"/>
                    </a:lnTo>
                    <a:lnTo>
                      <a:pt x="27" y="78"/>
                    </a:lnTo>
                    <a:lnTo>
                      <a:pt x="23" y="76"/>
                    </a:lnTo>
                    <a:lnTo>
                      <a:pt x="19" y="73"/>
                    </a:lnTo>
                    <a:lnTo>
                      <a:pt x="15" y="71"/>
                    </a:lnTo>
                    <a:lnTo>
                      <a:pt x="12" y="67"/>
                    </a:lnTo>
                    <a:lnTo>
                      <a:pt x="10" y="65"/>
                    </a:lnTo>
                    <a:lnTo>
                      <a:pt x="6" y="61"/>
                    </a:lnTo>
                    <a:lnTo>
                      <a:pt x="4" y="57"/>
                    </a:lnTo>
                    <a:lnTo>
                      <a:pt x="2" y="53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8"/>
                    </a:lnTo>
                    <a:lnTo>
                      <a:pt x="4" y="25"/>
                    </a:lnTo>
                    <a:lnTo>
                      <a:pt x="6" y="21"/>
                    </a:lnTo>
                    <a:lnTo>
                      <a:pt x="10" y="19"/>
                    </a:lnTo>
                    <a:lnTo>
                      <a:pt x="12" y="15"/>
                    </a:lnTo>
                    <a:lnTo>
                      <a:pt x="15" y="11"/>
                    </a:lnTo>
                    <a:lnTo>
                      <a:pt x="19" y="9"/>
                    </a:lnTo>
                    <a:lnTo>
                      <a:pt x="23" y="7"/>
                    </a:lnTo>
                    <a:lnTo>
                      <a:pt x="27" y="5"/>
                    </a:lnTo>
                    <a:lnTo>
                      <a:pt x="33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9" y="2"/>
                    </a:lnTo>
                    <a:lnTo>
                      <a:pt x="75" y="3"/>
                    </a:lnTo>
                    <a:lnTo>
                      <a:pt x="79" y="5"/>
                    </a:lnTo>
                    <a:lnTo>
                      <a:pt x="83" y="7"/>
                    </a:lnTo>
                    <a:lnTo>
                      <a:pt x="86" y="9"/>
                    </a:lnTo>
                    <a:lnTo>
                      <a:pt x="90" y="11"/>
                    </a:lnTo>
                    <a:lnTo>
                      <a:pt x="94" y="15"/>
                    </a:lnTo>
                    <a:lnTo>
                      <a:pt x="98" y="19"/>
                    </a:lnTo>
                    <a:lnTo>
                      <a:pt x="100" y="21"/>
                    </a:lnTo>
                    <a:lnTo>
                      <a:pt x="102" y="25"/>
                    </a:lnTo>
                    <a:lnTo>
                      <a:pt x="104" y="28"/>
                    </a:lnTo>
                    <a:lnTo>
                      <a:pt x="106" y="32"/>
                    </a:lnTo>
                    <a:lnTo>
                      <a:pt x="106" y="38"/>
                    </a:lnTo>
                    <a:lnTo>
                      <a:pt x="108" y="42"/>
                    </a:lnTo>
                    <a:close/>
                  </a:path>
                </a:pathLst>
              </a:custGeom>
              <a:solidFill>
                <a:srgbClr val="ffe3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75" name=""/>
            <p:cNvGrpSpPr/>
            <p:nvPr/>
          </p:nvGrpSpPr>
          <p:grpSpPr>
            <a:xfrm>
              <a:off x="1561320" y="3114000"/>
              <a:ext cx="610920" cy="275760"/>
              <a:chOff x="1561320" y="3114000"/>
              <a:chExt cx="610920" cy="275760"/>
            </a:xfrm>
          </p:grpSpPr>
          <p:sp>
            <p:nvSpPr>
              <p:cNvPr id="4176" name=""/>
              <p:cNvSpPr/>
              <p:nvPr/>
            </p:nvSpPr>
            <p:spPr>
              <a:xfrm flipH="1" flipV="1">
                <a:off x="1662480" y="3214440"/>
                <a:ext cx="122400" cy="166680"/>
              </a:xfrm>
              <a:prstGeom prst="line">
                <a:avLst/>
              </a:prstGeom>
              <a:ln w="28440">
                <a:solidFill>
                  <a:srgbClr val="ff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 flipH="1">
                <a:off x="1750680" y="3387960"/>
                <a:ext cx="421560" cy="1800"/>
              </a:xfrm>
              <a:prstGeom prst="line">
                <a:avLst/>
              </a:prstGeom>
              <a:ln w="525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1561320" y="3114000"/>
                <a:ext cx="227880" cy="17244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42"/>
                    </a:moveTo>
                    <a:lnTo>
                      <a:pt x="106" y="46"/>
                    </a:lnTo>
                    <a:lnTo>
                      <a:pt x="106" y="49"/>
                    </a:lnTo>
                    <a:lnTo>
                      <a:pt x="104" y="53"/>
                    </a:lnTo>
                    <a:lnTo>
                      <a:pt x="102" y="57"/>
                    </a:lnTo>
                    <a:lnTo>
                      <a:pt x="100" y="61"/>
                    </a:lnTo>
                    <a:lnTo>
                      <a:pt x="98" y="65"/>
                    </a:lnTo>
                    <a:lnTo>
                      <a:pt x="94" y="67"/>
                    </a:lnTo>
                    <a:lnTo>
                      <a:pt x="90" y="71"/>
                    </a:lnTo>
                    <a:lnTo>
                      <a:pt x="86" y="73"/>
                    </a:lnTo>
                    <a:lnTo>
                      <a:pt x="83" y="76"/>
                    </a:lnTo>
                    <a:lnTo>
                      <a:pt x="79" y="78"/>
                    </a:lnTo>
                    <a:lnTo>
                      <a:pt x="75" y="80"/>
                    </a:lnTo>
                    <a:lnTo>
                      <a:pt x="69" y="80"/>
                    </a:lnTo>
                    <a:lnTo>
                      <a:pt x="63" y="82"/>
                    </a:lnTo>
                    <a:lnTo>
                      <a:pt x="60" y="82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48" y="82"/>
                    </a:lnTo>
                    <a:lnTo>
                      <a:pt x="42" y="82"/>
                    </a:lnTo>
                    <a:lnTo>
                      <a:pt x="36" y="80"/>
                    </a:lnTo>
                    <a:lnTo>
                      <a:pt x="33" y="80"/>
                    </a:lnTo>
                    <a:lnTo>
                      <a:pt x="27" y="78"/>
                    </a:lnTo>
                    <a:lnTo>
                      <a:pt x="23" y="76"/>
                    </a:lnTo>
                    <a:lnTo>
                      <a:pt x="19" y="73"/>
                    </a:lnTo>
                    <a:lnTo>
                      <a:pt x="15" y="71"/>
                    </a:lnTo>
                    <a:lnTo>
                      <a:pt x="12" y="67"/>
                    </a:lnTo>
                    <a:lnTo>
                      <a:pt x="10" y="65"/>
                    </a:lnTo>
                    <a:lnTo>
                      <a:pt x="6" y="61"/>
                    </a:lnTo>
                    <a:lnTo>
                      <a:pt x="4" y="57"/>
                    </a:lnTo>
                    <a:lnTo>
                      <a:pt x="2" y="53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8"/>
                    </a:lnTo>
                    <a:lnTo>
                      <a:pt x="4" y="25"/>
                    </a:lnTo>
                    <a:lnTo>
                      <a:pt x="6" y="21"/>
                    </a:lnTo>
                    <a:lnTo>
                      <a:pt x="10" y="19"/>
                    </a:lnTo>
                    <a:lnTo>
                      <a:pt x="12" y="15"/>
                    </a:lnTo>
                    <a:lnTo>
                      <a:pt x="15" y="11"/>
                    </a:lnTo>
                    <a:lnTo>
                      <a:pt x="19" y="9"/>
                    </a:lnTo>
                    <a:lnTo>
                      <a:pt x="23" y="7"/>
                    </a:lnTo>
                    <a:lnTo>
                      <a:pt x="27" y="5"/>
                    </a:lnTo>
                    <a:lnTo>
                      <a:pt x="33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9" y="2"/>
                    </a:lnTo>
                    <a:lnTo>
                      <a:pt x="75" y="3"/>
                    </a:lnTo>
                    <a:lnTo>
                      <a:pt x="79" y="5"/>
                    </a:lnTo>
                    <a:lnTo>
                      <a:pt x="83" y="7"/>
                    </a:lnTo>
                    <a:lnTo>
                      <a:pt x="86" y="9"/>
                    </a:lnTo>
                    <a:lnTo>
                      <a:pt x="90" y="11"/>
                    </a:lnTo>
                    <a:lnTo>
                      <a:pt x="94" y="15"/>
                    </a:lnTo>
                    <a:lnTo>
                      <a:pt x="98" y="19"/>
                    </a:lnTo>
                    <a:lnTo>
                      <a:pt x="100" y="21"/>
                    </a:lnTo>
                    <a:lnTo>
                      <a:pt x="102" y="25"/>
                    </a:lnTo>
                    <a:lnTo>
                      <a:pt x="104" y="28"/>
                    </a:lnTo>
                    <a:lnTo>
                      <a:pt x="106" y="32"/>
                    </a:lnTo>
                    <a:lnTo>
                      <a:pt x="106" y="38"/>
                    </a:lnTo>
                    <a:lnTo>
                      <a:pt x="108" y="42"/>
                    </a:lnTo>
                    <a:close/>
                  </a:path>
                </a:pathLst>
              </a:custGeom>
              <a:solidFill>
                <a:srgbClr val="ffe3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79" name=""/>
            <p:cNvGrpSpPr/>
            <p:nvPr/>
          </p:nvGrpSpPr>
          <p:grpSpPr>
            <a:xfrm>
              <a:off x="2270160" y="2606760"/>
              <a:ext cx="611640" cy="276120"/>
              <a:chOff x="2270160" y="2606760"/>
              <a:chExt cx="611640" cy="276120"/>
            </a:xfrm>
          </p:grpSpPr>
          <p:sp>
            <p:nvSpPr>
              <p:cNvPr id="4180" name=""/>
              <p:cNvSpPr/>
              <p:nvPr/>
            </p:nvSpPr>
            <p:spPr>
              <a:xfrm flipH="1" flipV="1">
                <a:off x="2371320" y="2707560"/>
                <a:ext cx="122400" cy="167040"/>
              </a:xfrm>
              <a:prstGeom prst="line">
                <a:avLst/>
              </a:prstGeom>
              <a:ln w="28440">
                <a:solidFill>
                  <a:srgbClr val="ff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 flipH="1">
                <a:off x="2459880" y="2881080"/>
                <a:ext cx="421920" cy="1800"/>
              </a:xfrm>
              <a:prstGeom prst="line">
                <a:avLst/>
              </a:prstGeom>
              <a:ln w="525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2270160" y="2606760"/>
                <a:ext cx="227880" cy="17280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42"/>
                    </a:moveTo>
                    <a:lnTo>
                      <a:pt x="106" y="46"/>
                    </a:lnTo>
                    <a:lnTo>
                      <a:pt x="106" y="49"/>
                    </a:lnTo>
                    <a:lnTo>
                      <a:pt x="104" y="53"/>
                    </a:lnTo>
                    <a:lnTo>
                      <a:pt x="102" y="57"/>
                    </a:lnTo>
                    <a:lnTo>
                      <a:pt x="100" y="61"/>
                    </a:lnTo>
                    <a:lnTo>
                      <a:pt x="98" y="65"/>
                    </a:lnTo>
                    <a:lnTo>
                      <a:pt x="94" y="67"/>
                    </a:lnTo>
                    <a:lnTo>
                      <a:pt x="90" y="71"/>
                    </a:lnTo>
                    <a:lnTo>
                      <a:pt x="86" y="73"/>
                    </a:lnTo>
                    <a:lnTo>
                      <a:pt x="83" y="76"/>
                    </a:lnTo>
                    <a:lnTo>
                      <a:pt x="79" y="78"/>
                    </a:lnTo>
                    <a:lnTo>
                      <a:pt x="75" y="80"/>
                    </a:lnTo>
                    <a:lnTo>
                      <a:pt x="69" y="80"/>
                    </a:lnTo>
                    <a:lnTo>
                      <a:pt x="63" y="82"/>
                    </a:lnTo>
                    <a:lnTo>
                      <a:pt x="60" y="82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48" y="82"/>
                    </a:lnTo>
                    <a:lnTo>
                      <a:pt x="42" y="82"/>
                    </a:lnTo>
                    <a:lnTo>
                      <a:pt x="36" y="80"/>
                    </a:lnTo>
                    <a:lnTo>
                      <a:pt x="33" y="80"/>
                    </a:lnTo>
                    <a:lnTo>
                      <a:pt x="27" y="78"/>
                    </a:lnTo>
                    <a:lnTo>
                      <a:pt x="23" y="76"/>
                    </a:lnTo>
                    <a:lnTo>
                      <a:pt x="19" y="73"/>
                    </a:lnTo>
                    <a:lnTo>
                      <a:pt x="15" y="71"/>
                    </a:lnTo>
                    <a:lnTo>
                      <a:pt x="12" y="67"/>
                    </a:lnTo>
                    <a:lnTo>
                      <a:pt x="10" y="65"/>
                    </a:lnTo>
                    <a:lnTo>
                      <a:pt x="6" y="61"/>
                    </a:lnTo>
                    <a:lnTo>
                      <a:pt x="4" y="57"/>
                    </a:lnTo>
                    <a:lnTo>
                      <a:pt x="2" y="53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8"/>
                    </a:lnTo>
                    <a:lnTo>
                      <a:pt x="4" y="25"/>
                    </a:lnTo>
                    <a:lnTo>
                      <a:pt x="6" y="21"/>
                    </a:lnTo>
                    <a:lnTo>
                      <a:pt x="10" y="19"/>
                    </a:lnTo>
                    <a:lnTo>
                      <a:pt x="12" y="15"/>
                    </a:lnTo>
                    <a:lnTo>
                      <a:pt x="15" y="11"/>
                    </a:lnTo>
                    <a:lnTo>
                      <a:pt x="19" y="9"/>
                    </a:lnTo>
                    <a:lnTo>
                      <a:pt x="23" y="7"/>
                    </a:lnTo>
                    <a:lnTo>
                      <a:pt x="27" y="5"/>
                    </a:lnTo>
                    <a:lnTo>
                      <a:pt x="33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9" y="2"/>
                    </a:lnTo>
                    <a:lnTo>
                      <a:pt x="75" y="3"/>
                    </a:lnTo>
                    <a:lnTo>
                      <a:pt x="79" y="5"/>
                    </a:lnTo>
                    <a:lnTo>
                      <a:pt x="83" y="7"/>
                    </a:lnTo>
                    <a:lnTo>
                      <a:pt x="86" y="9"/>
                    </a:lnTo>
                    <a:lnTo>
                      <a:pt x="90" y="11"/>
                    </a:lnTo>
                    <a:lnTo>
                      <a:pt x="94" y="15"/>
                    </a:lnTo>
                    <a:lnTo>
                      <a:pt x="98" y="19"/>
                    </a:lnTo>
                    <a:lnTo>
                      <a:pt x="100" y="21"/>
                    </a:lnTo>
                    <a:lnTo>
                      <a:pt x="102" y="25"/>
                    </a:lnTo>
                    <a:lnTo>
                      <a:pt x="104" y="28"/>
                    </a:lnTo>
                    <a:lnTo>
                      <a:pt x="106" y="32"/>
                    </a:lnTo>
                    <a:lnTo>
                      <a:pt x="106" y="38"/>
                    </a:lnTo>
                    <a:lnTo>
                      <a:pt x="108" y="42"/>
                    </a:lnTo>
                    <a:close/>
                  </a:path>
                </a:pathLst>
              </a:custGeom>
              <a:solidFill>
                <a:srgbClr val="ffe3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3" name=""/>
            <p:cNvGrpSpPr/>
            <p:nvPr/>
          </p:nvGrpSpPr>
          <p:grpSpPr>
            <a:xfrm>
              <a:off x="2371680" y="3214800"/>
              <a:ext cx="611640" cy="276120"/>
              <a:chOff x="2371680" y="3214800"/>
              <a:chExt cx="611640" cy="276120"/>
            </a:xfrm>
          </p:grpSpPr>
          <p:sp>
            <p:nvSpPr>
              <p:cNvPr id="4184" name=""/>
              <p:cNvSpPr/>
              <p:nvPr/>
            </p:nvSpPr>
            <p:spPr>
              <a:xfrm flipH="1" flipV="1">
                <a:off x="2472840" y="3315600"/>
                <a:ext cx="122400" cy="167040"/>
              </a:xfrm>
              <a:prstGeom prst="line">
                <a:avLst/>
              </a:prstGeom>
              <a:ln w="28440">
                <a:solidFill>
                  <a:srgbClr val="ff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 flipH="1">
                <a:off x="2561400" y="3489120"/>
                <a:ext cx="421920" cy="1800"/>
              </a:xfrm>
              <a:prstGeom prst="line">
                <a:avLst/>
              </a:prstGeom>
              <a:ln w="525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2371680" y="3214800"/>
                <a:ext cx="227880" cy="17280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42"/>
                    </a:moveTo>
                    <a:lnTo>
                      <a:pt x="106" y="46"/>
                    </a:lnTo>
                    <a:lnTo>
                      <a:pt x="106" y="49"/>
                    </a:lnTo>
                    <a:lnTo>
                      <a:pt x="104" y="53"/>
                    </a:lnTo>
                    <a:lnTo>
                      <a:pt x="102" y="57"/>
                    </a:lnTo>
                    <a:lnTo>
                      <a:pt x="100" y="61"/>
                    </a:lnTo>
                    <a:lnTo>
                      <a:pt x="98" y="65"/>
                    </a:lnTo>
                    <a:lnTo>
                      <a:pt x="94" y="67"/>
                    </a:lnTo>
                    <a:lnTo>
                      <a:pt x="90" y="71"/>
                    </a:lnTo>
                    <a:lnTo>
                      <a:pt x="86" y="73"/>
                    </a:lnTo>
                    <a:lnTo>
                      <a:pt x="83" y="76"/>
                    </a:lnTo>
                    <a:lnTo>
                      <a:pt x="79" y="78"/>
                    </a:lnTo>
                    <a:lnTo>
                      <a:pt x="75" y="80"/>
                    </a:lnTo>
                    <a:lnTo>
                      <a:pt x="69" y="80"/>
                    </a:lnTo>
                    <a:lnTo>
                      <a:pt x="63" y="82"/>
                    </a:lnTo>
                    <a:lnTo>
                      <a:pt x="60" y="82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48" y="82"/>
                    </a:lnTo>
                    <a:lnTo>
                      <a:pt x="42" y="82"/>
                    </a:lnTo>
                    <a:lnTo>
                      <a:pt x="36" y="80"/>
                    </a:lnTo>
                    <a:lnTo>
                      <a:pt x="33" y="80"/>
                    </a:lnTo>
                    <a:lnTo>
                      <a:pt x="27" y="78"/>
                    </a:lnTo>
                    <a:lnTo>
                      <a:pt x="23" y="76"/>
                    </a:lnTo>
                    <a:lnTo>
                      <a:pt x="19" y="73"/>
                    </a:lnTo>
                    <a:lnTo>
                      <a:pt x="15" y="71"/>
                    </a:lnTo>
                    <a:lnTo>
                      <a:pt x="12" y="67"/>
                    </a:lnTo>
                    <a:lnTo>
                      <a:pt x="10" y="65"/>
                    </a:lnTo>
                    <a:lnTo>
                      <a:pt x="6" y="61"/>
                    </a:lnTo>
                    <a:lnTo>
                      <a:pt x="4" y="57"/>
                    </a:lnTo>
                    <a:lnTo>
                      <a:pt x="2" y="53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8"/>
                    </a:lnTo>
                    <a:lnTo>
                      <a:pt x="4" y="25"/>
                    </a:lnTo>
                    <a:lnTo>
                      <a:pt x="6" y="21"/>
                    </a:lnTo>
                    <a:lnTo>
                      <a:pt x="10" y="19"/>
                    </a:lnTo>
                    <a:lnTo>
                      <a:pt x="12" y="15"/>
                    </a:lnTo>
                    <a:lnTo>
                      <a:pt x="15" y="11"/>
                    </a:lnTo>
                    <a:lnTo>
                      <a:pt x="19" y="9"/>
                    </a:lnTo>
                    <a:lnTo>
                      <a:pt x="23" y="7"/>
                    </a:lnTo>
                    <a:lnTo>
                      <a:pt x="27" y="5"/>
                    </a:lnTo>
                    <a:lnTo>
                      <a:pt x="33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9" y="2"/>
                    </a:lnTo>
                    <a:lnTo>
                      <a:pt x="75" y="3"/>
                    </a:lnTo>
                    <a:lnTo>
                      <a:pt x="79" y="5"/>
                    </a:lnTo>
                    <a:lnTo>
                      <a:pt x="83" y="7"/>
                    </a:lnTo>
                    <a:lnTo>
                      <a:pt x="86" y="9"/>
                    </a:lnTo>
                    <a:lnTo>
                      <a:pt x="90" y="11"/>
                    </a:lnTo>
                    <a:lnTo>
                      <a:pt x="94" y="15"/>
                    </a:lnTo>
                    <a:lnTo>
                      <a:pt x="98" y="19"/>
                    </a:lnTo>
                    <a:lnTo>
                      <a:pt x="100" y="21"/>
                    </a:lnTo>
                    <a:lnTo>
                      <a:pt x="102" y="25"/>
                    </a:lnTo>
                    <a:lnTo>
                      <a:pt x="104" y="28"/>
                    </a:lnTo>
                    <a:lnTo>
                      <a:pt x="106" y="32"/>
                    </a:lnTo>
                    <a:lnTo>
                      <a:pt x="106" y="38"/>
                    </a:lnTo>
                    <a:lnTo>
                      <a:pt x="108" y="42"/>
                    </a:lnTo>
                    <a:close/>
                  </a:path>
                </a:pathLst>
              </a:custGeom>
              <a:solidFill>
                <a:srgbClr val="ffe3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7" name=""/>
            <p:cNvGrpSpPr/>
            <p:nvPr/>
          </p:nvGrpSpPr>
          <p:grpSpPr>
            <a:xfrm>
              <a:off x="2371320" y="4126680"/>
              <a:ext cx="200520" cy="388440"/>
              <a:chOff x="2371320" y="4126680"/>
              <a:chExt cx="200520" cy="388440"/>
            </a:xfrm>
          </p:grpSpPr>
          <p:sp>
            <p:nvSpPr>
              <p:cNvPr id="4188" name=""/>
              <p:cNvSpPr/>
              <p:nvPr/>
            </p:nvSpPr>
            <p:spPr>
              <a:xfrm>
                <a:off x="2371680" y="4323240"/>
                <a:ext cx="198360" cy="189360"/>
              </a:xfrm>
              <a:custGeom>
                <a:avLst/>
                <a:gdLst/>
                <a:ahLst/>
                <a:rect l="l" t="t" r="r" b="b"/>
                <a:pathLst>
                  <a:path w="94" h="90">
                    <a:moveTo>
                      <a:pt x="94" y="0"/>
                    </a:moveTo>
                    <a:lnTo>
                      <a:pt x="46" y="90"/>
                    </a:lnTo>
                    <a:lnTo>
                      <a:pt x="0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 flipH="1">
                <a:off x="2468160" y="4323240"/>
                <a:ext cx="101160" cy="18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2468520" y="4512960"/>
                <a:ext cx="216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 flipH="1" flipV="1">
                <a:off x="2371320" y="4323240"/>
                <a:ext cx="96840" cy="18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2371680" y="4323240"/>
                <a:ext cx="2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2371680" y="4323240"/>
                <a:ext cx="198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2570040" y="4323240"/>
                <a:ext cx="1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2443320" y="4127040"/>
                <a:ext cx="61200" cy="196200"/>
              </a:xfrm>
              <a:prstGeom prst="rect">
                <a:avLst/>
              </a:pr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 flipH="1">
                <a:off x="2443320" y="4323240"/>
                <a:ext cx="612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2443320" y="4323240"/>
                <a:ext cx="2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 flipV="1">
                <a:off x="2443320" y="4126680"/>
                <a:ext cx="2160" cy="19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2443320" y="4127040"/>
                <a:ext cx="216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2443320" y="4127040"/>
                <a:ext cx="6120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2504520" y="4127040"/>
                <a:ext cx="216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2504520" y="4127040"/>
                <a:ext cx="2160" cy="19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2504520" y="4323240"/>
                <a:ext cx="2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04" name=""/>
            <p:cNvGrpSpPr/>
            <p:nvPr/>
          </p:nvGrpSpPr>
          <p:grpSpPr>
            <a:xfrm>
              <a:off x="2675520" y="3012480"/>
              <a:ext cx="611640" cy="276120"/>
              <a:chOff x="2675520" y="3012480"/>
              <a:chExt cx="611640" cy="276120"/>
            </a:xfrm>
          </p:grpSpPr>
          <p:sp>
            <p:nvSpPr>
              <p:cNvPr id="4205" name=""/>
              <p:cNvSpPr/>
              <p:nvPr/>
            </p:nvSpPr>
            <p:spPr>
              <a:xfrm flipH="1" flipV="1">
                <a:off x="2776680" y="3113280"/>
                <a:ext cx="122400" cy="167040"/>
              </a:xfrm>
              <a:prstGeom prst="line">
                <a:avLst/>
              </a:prstGeom>
              <a:ln w="28440">
                <a:solidFill>
                  <a:srgbClr val="ff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 flipH="1">
                <a:off x="2865240" y="3286800"/>
                <a:ext cx="421920" cy="1800"/>
              </a:xfrm>
              <a:prstGeom prst="line">
                <a:avLst/>
              </a:prstGeom>
              <a:ln w="52560">
                <a:solidFill>
                  <a:srgbClr val="e349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2675520" y="3012480"/>
                <a:ext cx="227880" cy="17280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42"/>
                    </a:moveTo>
                    <a:lnTo>
                      <a:pt x="106" y="46"/>
                    </a:lnTo>
                    <a:lnTo>
                      <a:pt x="106" y="49"/>
                    </a:lnTo>
                    <a:lnTo>
                      <a:pt x="104" y="53"/>
                    </a:lnTo>
                    <a:lnTo>
                      <a:pt x="102" y="57"/>
                    </a:lnTo>
                    <a:lnTo>
                      <a:pt x="100" y="61"/>
                    </a:lnTo>
                    <a:lnTo>
                      <a:pt x="98" y="65"/>
                    </a:lnTo>
                    <a:lnTo>
                      <a:pt x="94" y="67"/>
                    </a:lnTo>
                    <a:lnTo>
                      <a:pt x="90" y="71"/>
                    </a:lnTo>
                    <a:lnTo>
                      <a:pt x="86" y="73"/>
                    </a:lnTo>
                    <a:lnTo>
                      <a:pt x="83" y="76"/>
                    </a:lnTo>
                    <a:lnTo>
                      <a:pt x="79" y="78"/>
                    </a:lnTo>
                    <a:lnTo>
                      <a:pt x="75" y="80"/>
                    </a:lnTo>
                    <a:lnTo>
                      <a:pt x="69" y="80"/>
                    </a:lnTo>
                    <a:lnTo>
                      <a:pt x="63" y="82"/>
                    </a:lnTo>
                    <a:lnTo>
                      <a:pt x="60" y="82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48" y="82"/>
                    </a:lnTo>
                    <a:lnTo>
                      <a:pt x="42" y="82"/>
                    </a:lnTo>
                    <a:lnTo>
                      <a:pt x="36" y="80"/>
                    </a:lnTo>
                    <a:lnTo>
                      <a:pt x="33" y="80"/>
                    </a:lnTo>
                    <a:lnTo>
                      <a:pt x="27" y="78"/>
                    </a:lnTo>
                    <a:lnTo>
                      <a:pt x="23" y="76"/>
                    </a:lnTo>
                    <a:lnTo>
                      <a:pt x="19" y="73"/>
                    </a:lnTo>
                    <a:lnTo>
                      <a:pt x="15" y="71"/>
                    </a:lnTo>
                    <a:lnTo>
                      <a:pt x="12" y="67"/>
                    </a:lnTo>
                    <a:lnTo>
                      <a:pt x="10" y="65"/>
                    </a:lnTo>
                    <a:lnTo>
                      <a:pt x="6" y="61"/>
                    </a:lnTo>
                    <a:lnTo>
                      <a:pt x="4" y="57"/>
                    </a:lnTo>
                    <a:lnTo>
                      <a:pt x="2" y="53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8"/>
                    </a:lnTo>
                    <a:lnTo>
                      <a:pt x="4" y="25"/>
                    </a:lnTo>
                    <a:lnTo>
                      <a:pt x="6" y="21"/>
                    </a:lnTo>
                    <a:lnTo>
                      <a:pt x="10" y="19"/>
                    </a:lnTo>
                    <a:lnTo>
                      <a:pt x="12" y="15"/>
                    </a:lnTo>
                    <a:lnTo>
                      <a:pt x="15" y="11"/>
                    </a:lnTo>
                    <a:lnTo>
                      <a:pt x="19" y="9"/>
                    </a:lnTo>
                    <a:lnTo>
                      <a:pt x="23" y="7"/>
                    </a:lnTo>
                    <a:lnTo>
                      <a:pt x="27" y="5"/>
                    </a:lnTo>
                    <a:lnTo>
                      <a:pt x="33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9" y="2"/>
                    </a:lnTo>
                    <a:lnTo>
                      <a:pt x="75" y="3"/>
                    </a:lnTo>
                    <a:lnTo>
                      <a:pt x="79" y="5"/>
                    </a:lnTo>
                    <a:lnTo>
                      <a:pt x="83" y="7"/>
                    </a:lnTo>
                    <a:lnTo>
                      <a:pt x="86" y="9"/>
                    </a:lnTo>
                    <a:lnTo>
                      <a:pt x="90" y="11"/>
                    </a:lnTo>
                    <a:lnTo>
                      <a:pt x="94" y="15"/>
                    </a:lnTo>
                    <a:lnTo>
                      <a:pt x="98" y="19"/>
                    </a:lnTo>
                    <a:lnTo>
                      <a:pt x="100" y="21"/>
                    </a:lnTo>
                    <a:lnTo>
                      <a:pt x="102" y="25"/>
                    </a:lnTo>
                    <a:lnTo>
                      <a:pt x="104" y="28"/>
                    </a:lnTo>
                    <a:lnTo>
                      <a:pt x="106" y="32"/>
                    </a:lnTo>
                    <a:lnTo>
                      <a:pt x="106" y="38"/>
                    </a:lnTo>
                    <a:lnTo>
                      <a:pt x="108" y="42"/>
                    </a:lnTo>
                    <a:close/>
                  </a:path>
                </a:pathLst>
              </a:custGeom>
              <a:solidFill>
                <a:srgbClr val="ffe3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08" name=""/>
          <p:cNvSpPr/>
          <p:nvPr/>
        </p:nvSpPr>
        <p:spPr>
          <a:xfrm>
            <a:off x="4030200" y="3733920"/>
            <a:ext cx="3980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RNA/DNA Hybrid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3961440" y="4724280"/>
            <a:ext cx="5191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Hybridization with Whole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Fluorescent In Situ Hybridiz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Microarr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etc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4114800" y="1217520"/>
            <a:ext cx="41306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rp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detect the presence and abundance of a particular gene or gene produ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3890520" y="425520"/>
            <a:ext cx="52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Nucleic Acid Hybrid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13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9144000" cy="4411440"/>
          </a:xfrm>
          <a:prstGeom prst="rect">
            <a:avLst/>
          </a:prstGeom>
          <a:ln w="0">
            <a:noFill/>
          </a:ln>
        </p:spPr>
      </p:pic>
      <p:sp>
        <p:nvSpPr>
          <p:cNvPr id="4214" name=""/>
          <p:cNvSpPr/>
          <p:nvPr/>
        </p:nvSpPr>
        <p:spPr>
          <a:xfrm>
            <a:off x="3124080" y="1676520"/>
            <a:ext cx="281952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Nucleic Acid Paradigm for Microbial Ecolo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"/>
          <p:cNvSpPr/>
          <p:nvPr/>
        </p:nvSpPr>
        <p:spPr>
          <a:xfrm>
            <a:off x="380880" y="304920"/>
            <a:ext cx="8458200" cy="61722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 Example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rchaeal Diversity in Soi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20" name="" descr=""/>
          <p:cNvPicPr/>
          <p:nvPr/>
        </p:nvPicPr>
        <p:blipFill>
          <a:blip r:embed="rId2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2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9144000" cy="4411440"/>
          </a:xfrm>
          <a:prstGeom prst="rect">
            <a:avLst/>
          </a:prstGeom>
          <a:ln w="0">
            <a:noFill/>
          </a:ln>
        </p:spPr>
      </p:pic>
      <p:sp>
        <p:nvSpPr>
          <p:cNvPr id="4223" name=""/>
          <p:cNvSpPr/>
          <p:nvPr/>
        </p:nvSpPr>
        <p:spPr>
          <a:xfrm>
            <a:off x="3124080" y="1676520"/>
            <a:ext cx="281952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Nucleic Acid Paradigm for Microbial Ecolo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5" name=""/>
          <p:cNvSpPr/>
          <p:nvPr/>
        </p:nvSpPr>
        <p:spPr>
          <a:xfrm>
            <a:off x="380880" y="304920"/>
            <a:ext cx="8458200" cy="61722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6" name="" descr=""/>
          <p:cNvPicPr/>
          <p:nvPr/>
        </p:nvPicPr>
        <p:blipFill>
          <a:blip r:embed="rId2"/>
          <a:stretch/>
        </p:blipFill>
        <p:spPr>
          <a:xfrm>
            <a:off x="3949560" y="0"/>
            <a:ext cx="5270760" cy="6858000"/>
          </a:xfrm>
          <a:prstGeom prst="rect">
            <a:avLst/>
          </a:prstGeom>
          <a:ln w="0">
            <a:noFill/>
          </a:ln>
        </p:spPr>
      </p:pic>
      <p:sp>
        <p:nvSpPr>
          <p:cNvPr id="4227" name=""/>
          <p:cNvSpPr/>
          <p:nvPr/>
        </p:nvSpPr>
        <p:spPr>
          <a:xfrm>
            <a:off x="7086600" y="1795320"/>
            <a:ext cx="2116080" cy="887400"/>
          </a:xfrm>
          <a:custGeom>
            <a:avLst/>
            <a:gdLst/>
            <a:ahLst/>
            <a:rect l="l" t="t" r="r" b="b"/>
            <a:pathLst>
              <a:path w="1333" h="559">
                <a:moveTo>
                  <a:pt x="869" y="13"/>
                </a:moveTo>
                <a:cubicBezTo>
                  <a:pt x="695" y="16"/>
                  <a:pt x="546" y="0"/>
                  <a:pt x="385" y="36"/>
                </a:cubicBezTo>
                <a:cubicBezTo>
                  <a:pt x="353" y="58"/>
                  <a:pt x="321" y="56"/>
                  <a:pt x="285" y="67"/>
                </a:cubicBezTo>
                <a:cubicBezTo>
                  <a:pt x="232" y="83"/>
                  <a:pt x="186" y="114"/>
                  <a:pt x="132" y="129"/>
                </a:cubicBezTo>
                <a:cubicBezTo>
                  <a:pt x="117" y="139"/>
                  <a:pt x="100" y="142"/>
                  <a:pt x="85" y="152"/>
                </a:cubicBezTo>
                <a:cubicBezTo>
                  <a:pt x="62" y="167"/>
                  <a:pt x="36" y="193"/>
                  <a:pt x="16" y="213"/>
                </a:cubicBezTo>
                <a:cubicBezTo>
                  <a:pt x="0" y="266"/>
                  <a:pt x="31" y="289"/>
                  <a:pt x="78" y="305"/>
                </a:cubicBezTo>
                <a:cubicBezTo>
                  <a:pt x="121" y="351"/>
                  <a:pt x="61" y="292"/>
                  <a:pt x="116" y="328"/>
                </a:cubicBezTo>
                <a:cubicBezTo>
                  <a:pt x="177" y="367"/>
                  <a:pt x="133" y="364"/>
                  <a:pt x="224" y="374"/>
                </a:cubicBezTo>
                <a:cubicBezTo>
                  <a:pt x="259" y="411"/>
                  <a:pt x="230" y="387"/>
                  <a:pt x="324" y="397"/>
                </a:cubicBezTo>
                <a:cubicBezTo>
                  <a:pt x="395" y="404"/>
                  <a:pt x="461" y="426"/>
                  <a:pt x="531" y="436"/>
                </a:cubicBezTo>
                <a:cubicBezTo>
                  <a:pt x="594" y="455"/>
                  <a:pt x="649" y="473"/>
                  <a:pt x="715" y="482"/>
                </a:cubicBezTo>
                <a:cubicBezTo>
                  <a:pt x="750" y="514"/>
                  <a:pt x="784" y="547"/>
                  <a:pt x="830" y="559"/>
                </a:cubicBezTo>
                <a:cubicBezTo>
                  <a:pt x="897" y="556"/>
                  <a:pt x="963" y="556"/>
                  <a:pt x="1030" y="551"/>
                </a:cubicBezTo>
                <a:cubicBezTo>
                  <a:pt x="1070" y="548"/>
                  <a:pt x="1101" y="518"/>
                  <a:pt x="1138" y="505"/>
                </a:cubicBezTo>
                <a:cubicBezTo>
                  <a:pt x="1173" y="468"/>
                  <a:pt x="1127" y="510"/>
                  <a:pt x="1184" y="482"/>
                </a:cubicBezTo>
                <a:cubicBezTo>
                  <a:pt x="1191" y="479"/>
                  <a:pt x="1193" y="470"/>
                  <a:pt x="1199" y="466"/>
                </a:cubicBezTo>
                <a:cubicBezTo>
                  <a:pt x="1206" y="462"/>
                  <a:pt x="1214" y="461"/>
                  <a:pt x="1222" y="459"/>
                </a:cubicBezTo>
                <a:cubicBezTo>
                  <a:pt x="1225" y="451"/>
                  <a:pt x="1224" y="442"/>
                  <a:pt x="1230" y="436"/>
                </a:cubicBezTo>
                <a:cubicBezTo>
                  <a:pt x="1236" y="430"/>
                  <a:pt x="1248" y="434"/>
                  <a:pt x="1253" y="428"/>
                </a:cubicBezTo>
                <a:cubicBezTo>
                  <a:pt x="1269" y="408"/>
                  <a:pt x="1263" y="367"/>
                  <a:pt x="1276" y="344"/>
                </a:cubicBezTo>
                <a:cubicBezTo>
                  <a:pt x="1285" y="328"/>
                  <a:pt x="1307" y="297"/>
                  <a:pt x="1307" y="297"/>
                </a:cubicBezTo>
                <a:cubicBezTo>
                  <a:pt x="1314" y="274"/>
                  <a:pt x="1330" y="228"/>
                  <a:pt x="1330" y="228"/>
                </a:cubicBezTo>
                <a:cubicBezTo>
                  <a:pt x="1327" y="185"/>
                  <a:pt x="1333" y="140"/>
                  <a:pt x="1322" y="98"/>
                </a:cubicBezTo>
                <a:cubicBezTo>
                  <a:pt x="1310" y="55"/>
                  <a:pt x="1247" y="46"/>
                  <a:pt x="1214" y="36"/>
                </a:cubicBezTo>
                <a:cubicBezTo>
                  <a:pt x="1118" y="7"/>
                  <a:pt x="1199" y="29"/>
                  <a:pt x="961" y="21"/>
                </a:cubicBezTo>
                <a:cubicBezTo>
                  <a:pt x="874" y="13"/>
                  <a:pt x="905" y="13"/>
                  <a:pt x="869" y="13"/>
                </a:cubicBezTo>
                <a:close/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457200" y="868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oil Crenarcha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29" name=""/>
          <p:cNvGrpSpPr/>
          <p:nvPr/>
        </p:nvGrpSpPr>
        <p:grpSpPr>
          <a:xfrm>
            <a:off x="152280" y="2209680"/>
            <a:ext cx="3262320" cy="4496040"/>
            <a:chOff x="152280" y="2209680"/>
            <a:chExt cx="3262320" cy="4496040"/>
          </a:xfrm>
        </p:grpSpPr>
        <p:pic>
          <p:nvPicPr>
            <p:cNvPr id="4230" name="" descr=""/>
            <p:cNvPicPr/>
            <p:nvPr/>
          </p:nvPicPr>
          <p:blipFill>
            <a:blip r:embed="rId3"/>
            <a:stretch/>
          </p:blipFill>
          <p:spPr>
            <a:xfrm>
              <a:off x="204120" y="2209680"/>
              <a:ext cx="315216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1" name=""/>
            <p:cNvSpPr/>
            <p:nvPr/>
          </p:nvSpPr>
          <p:spPr>
            <a:xfrm>
              <a:off x="152280" y="2209680"/>
              <a:ext cx="3262320" cy="44960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3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9144000" cy="4411440"/>
          </a:xfrm>
          <a:prstGeom prst="rect">
            <a:avLst/>
          </a:prstGeom>
          <a:ln w="0">
            <a:noFill/>
          </a:ln>
        </p:spPr>
      </p:pic>
      <p:sp>
        <p:nvSpPr>
          <p:cNvPr id="4234" name=""/>
          <p:cNvSpPr/>
          <p:nvPr/>
        </p:nvSpPr>
        <p:spPr>
          <a:xfrm>
            <a:off x="3124080" y="1676520"/>
            <a:ext cx="281952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Nucleic Acid Paradigm for Microbial Ecolo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 Brief History of Microbial Biolog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icroscopic Obse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ultivation and Experi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560" y="2147760"/>
            <a:ext cx="64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Few reliable morphological character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662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66400" y="4114800"/>
            <a:ext cx="38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lecular Paradig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undance of Crenarchaeota in Soil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termined by Probing 16S rRN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38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4239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941400" y="2133720"/>
            <a:ext cx="2792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luorescent In Situ Hybridiz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42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7391520" cy="5573880"/>
          </a:xfrm>
          <a:prstGeom prst="rect">
            <a:avLst/>
          </a:prstGeom>
          <a:ln w="0">
            <a:noFill/>
          </a:ln>
        </p:spPr>
      </p:pic>
      <p:sp>
        <p:nvSpPr>
          <p:cNvPr id="4243" name=""/>
          <p:cNvSpPr/>
          <p:nvPr/>
        </p:nvSpPr>
        <p:spPr>
          <a:xfrm>
            <a:off x="1523880" y="1066680"/>
            <a:ext cx="7391520" cy="556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 rot="16200000">
            <a:off x="200160" y="1554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cha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 rot="16200000">
            <a:off x="200160" y="338220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t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 rot="16200000">
            <a:off x="-18000" y="5205960"/>
            <a:ext cx="189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speci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other Example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2362320" y="3733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ecret of Sar8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1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9144000" cy="4411440"/>
          </a:xfrm>
          <a:prstGeom prst="rect">
            <a:avLst/>
          </a:prstGeom>
          <a:ln w="0">
            <a:noFill/>
          </a:ln>
        </p:spPr>
      </p:pic>
      <p:sp>
        <p:nvSpPr>
          <p:cNvPr id="4252" name=""/>
          <p:cNvSpPr/>
          <p:nvPr/>
        </p:nvSpPr>
        <p:spPr>
          <a:xfrm>
            <a:off x="3124080" y="1676520"/>
            <a:ext cx="281952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Nucleic Acid Paradigm for Microbial Ecolo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4" name="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2133720" y="5257800"/>
            <a:ext cx="4952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2133720" y="5105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7086600" y="5105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4267080" y="5181480"/>
            <a:ext cx="457200" cy="1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4648320" y="5410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 flipH="1">
            <a:off x="4114440" y="5105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5029200" y="5181480"/>
            <a:ext cx="22860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5334120" y="5181480"/>
            <a:ext cx="6094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6324480" y="5181480"/>
            <a:ext cx="45720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3200400" y="5181480"/>
            <a:ext cx="3808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>
            <a:off x="2819520" y="5181480"/>
            <a:ext cx="22860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2438280" y="5181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2209320" y="5867280"/>
            <a:ext cx="204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RNA g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3351960" y="1195560"/>
            <a:ext cx="23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act D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2281680" y="1881360"/>
            <a:ext cx="446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ne Genome Fra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1594800" y="2567160"/>
            <a:ext cx="580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een Clones with SAR 86 Pro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2817000" y="3252960"/>
            <a:ext cx="32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quence Wal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5032080" y="5835600"/>
            <a:ext cx="38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acteriorhodopsin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 flipH="1" flipV="1">
            <a:off x="5562360" y="5486040"/>
            <a:ext cx="75960" cy="5000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1212120" y="3938760"/>
            <a:ext cx="65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re Genes to Genebank Data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4419720" y="17524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4419720" y="24382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4419720" y="31240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4419720" y="38098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2061000" y="482760"/>
            <a:ext cx="549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aking a Genomic Approa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 flipV="1">
            <a:off x="3276720" y="5486400"/>
            <a:ext cx="106668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82" name=""/>
          <p:cNvGrpSpPr/>
          <p:nvPr/>
        </p:nvGrpSpPr>
        <p:grpSpPr>
          <a:xfrm>
            <a:off x="3060360" y="4406760"/>
            <a:ext cx="5108760" cy="1379520"/>
            <a:chOff x="3060360" y="4406760"/>
            <a:chExt cx="5108760" cy="1379520"/>
          </a:xfrm>
        </p:grpSpPr>
        <p:sp>
          <p:nvSpPr>
            <p:cNvPr id="4283" name=""/>
            <p:cNvSpPr/>
            <p:nvPr/>
          </p:nvSpPr>
          <p:spPr>
            <a:xfrm flipH="1">
              <a:off x="8167680" y="4406760"/>
              <a:ext cx="1440" cy="349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8167680" y="444168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>
              <a:off x="8164080" y="4441680"/>
              <a:ext cx="3240" cy="367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8164440" y="447840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>
              <a:off x="8160840" y="4478400"/>
              <a:ext cx="3240" cy="349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8161200" y="451332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H="1">
              <a:off x="8154720" y="4513320"/>
              <a:ext cx="6120" cy="349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8155080" y="454824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H="1">
              <a:off x="8147160" y="4548240"/>
              <a:ext cx="7920" cy="3168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8147160" y="457992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 flipH="1">
              <a:off x="8134200" y="4579920"/>
              <a:ext cx="12960" cy="3636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8134200" y="461628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 flipH="1">
              <a:off x="8123400" y="4616280"/>
              <a:ext cx="10800" cy="3204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8123400" y="464832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 flipH="1">
              <a:off x="8109000" y="4648320"/>
              <a:ext cx="14400" cy="349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8109000" y="468324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 flipH="1">
              <a:off x="8093160" y="4683240"/>
              <a:ext cx="15840" cy="33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8093160" y="471636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H="1">
              <a:off x="8075160" y="4716360"/>
              <a:ext cx="17640" cy="316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8075520" y="474804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 flipH="1">
              <a:off x="8058240" y="4748040"/>
              <a:ext cx="17280" cy="33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8058240" y="478152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 flipH="1">
              <a:off x="8037360" y="4781520"/>
              <a:ext cx="20880" cy="349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8037360" y="481644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 flipH="1">
              <a:off x="8013600" y="4816440"/>
              <a:ext cx="23760" cy="2844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8013600" y="484488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 flipH="1">
              <a:off x="7989840" y="4844880"/>
              <a:ext cx="23760" cy="3348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7989840" y="487836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 flipH="1">
              <a:off x="7967520" y="4878360"/>
              <a:ext cx="22320" cy="3168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7967520" y="491004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 flipH="1">
              <a:off x="7937280" y="4910040"/>
              <a:ext cx="29880" cy="3024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7937640" y="494028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 flipH="1">
              <a:off x="7910280" y="4940280"/>
              <a:ext cx="27000" cy="3168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7910640" y="497196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 flipH="1">
              <a:off x="7881840" y="4971960"/>
              <a:ext cx="28800" cy="3024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7881840" y="500220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H="1">
              <a:off x="7848720" y="5002200"/>
              <a:ext cx="33120" cy="2844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7848720" y="503064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H="1">
              <a:off x="7816320" y="5030640"/>
              <a:ext cx="32040" cy="3024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7816680" y="506088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 flipH="1">
              <a:off x="7781400" y="5060880"/>
              <a:ext cx="34920" cy="2880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7781760" y="508968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 flipH="1">
              <a:off x="7745040" y="5089680"/>
              <a:ext cx="36360" cy="2988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7745400" y="511956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 flipH="1">
              <a:off x="7707240" y="5119560"/>
              <a:ext cx="38160" cy="2556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7707240" y="514512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 flipH="1">
              <a:off x="7669080" y="5145120"/>
              <a:ext cx="38160" cy="3024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7669080" y="517536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 flipH="1">
              <a:off x="7628040" y="5175360"/>
              <a:ext cx="41040" cy="27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7628040" y="520236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H="1">
              <a:off x="7586280" y="5202360"/>
              <a:ext cx="41400" cy="25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7586640" y="522756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H="1">
              <a:off x="7544880" y="5227560"/>
              <a:ext cx="41400" cy="27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7545240" y="525456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 flipH="1">
              <a:off x="7502040" y="5254560"/>
              <a:ext cx="42840" cy="27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7502400" y="528156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 flipH="1">
              <a:off x="7454880" y="5281560"/>
              <a:ext cx="47520" cy="25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7454880" y="530712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 flipH="1">
              <a:off x="7407360" y="5307120"/>
              <a:ext cx="47520" cy="23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7407360" y="533088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 flipH="1">
              <a:off x="7361280" y="5330880"/>
              <a:ext cx="46080" cy="23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7361280" y="535464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 flipH="1">
              <a:off x="7313760" y="5354640"/>
              <a:ext cx="47520" cy="23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7313760" y="537840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 flipH="1">
              <a:off x="7262640" y="5378400"/>
              <a:ext cx="51120" cy="23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7262640" y="540216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 flipH="1">
              <a:off x="7210080" y="5402160"/>
              <a:ext cx="52200" cy="22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7210440" y="542448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 flipH="1">
              <a:off x="7157880" y="5424480"/>
              <a:ext cx="52560" cy="205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7157880" y="544500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 flipH="1">
              <a:off x="7103880" y="5445000"/>
              <a:ext cx="53640" cy="23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7104240" y="546876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 flipH="1">
              <a:off x="7051680" y="5468760"/>
              <a:ext cx="52560" cy="2088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7051680" y="548964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 flipH="1">
              <a:off x="6996240" y="5489640"/>
              <a:ext cx="55440" cy="1728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6996240" y="550692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 flipH="1">
              <a:off x="6940080" y="5506920"/>
              <a:ext cx="55800" cy="2088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6940440" y="552780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 flipH="1">
              <a:off x="6879960" y="5527800"/>
              <a:ext cx="60120" cy="205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6880320" y="554832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 flipH="1">
              <a:off x="6821280" y="5548320"/>
              <a:ext cx="58680" cy="1728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6821640" y="556560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H="1">
              <a:off x="6762600" y="5565600"/>
              <a:ext cx="59040" cy="1908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6762600" y="558468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 flipH="1">
              <a:off x="6700680" y="5584680"/>
              <a:ext cx="61920" cy="1764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6700680" y="560232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 flipH="1">
              <a:off x="6638760" y="5602320"/>
              <a:ext cx="61920" cy="144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6638760" y="561672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 flipH="1">
              <a:off x="6576840" y="5616720"/>
              <a:ext cx="61920" cy="140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576840" y="563076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 flipH="1">
              <a:off x="6516360" y="5630760"/>
              <a:ext cx="60120" cy="1764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6516720" y="564840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 flipH="1">
              <a:off x="6451200" y="5648400"/>
              <a:ext cx="65160" cy="126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6451560" y="566100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 flipH="1">
              <a:off x="6386040" y="5661000"/>
              <a:ext cx="65160" cy="144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6386400" y="567540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 flipH="1">
              <a:off x="6321600" y="5675400"/>
              <a:ext cx="64800" cy="111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321600" y="568656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 flipH="1">
              <a:off x="6254640" y="5686560"/>
              <a:ext cx="66960" cy="126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6254640" y="569916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 flipH="1">
              <a:off x="6186240" y="5699160"/>
              <a:ext cx="68040" cy="111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6186600" y="571032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 flipH="1">
              <a:off x="6118200" y="5710320"/>
              <a:ext cx="68400" cy="126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6118200" y="572292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 flipH="1">
              <a:off x="6051240" y="5722920"/>
              <a:ext cx="66600" cy="79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6051600" y="573084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 flipH="1">
              <a:off x="5979600" y="5730840"/>
              <a:ext cx="71640" cy="97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5979960" y="574056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 flipH="1">
              <a:off x="5911560" y="5740560"/>
              <a:ext cx="68040" cy="79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5911920" y="574848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 flipH="1">
              <a:off x="5842080" y="5748480"/>
              <a:ext cx="69840" cy="61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5842080" y="575460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 flipH="1">
              <a:off x="5770080" y="5754600"/>
              <a:ext cx="71640" cy="97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5770440" y="576432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 flipH="1">
              <a:off x="5697000" y="5764320"/>
              <a:ext cx="7308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5697360" y="576900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 flipH="1">
              <a:off x="5627520" y="5769000"/>
              <a:ext cx="6984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5627520" y="577224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 flipH="1">
              <a:off x="5552640" y="5772240"/>
              <a:ext cx="74520" cy="6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5553000" y="577836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 flipH="1">
              <a:off x="5479560" y="5778360"/>
              <a:ext cx="7308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5479920" y="578160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 flipH="1">
              <a:off x="5407200" y="5781600"/>
              <a:ext cx="727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5407200" y="578160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 flipH="1">
              <a:off x="5332320" y="5781600"/>
              <a:ext cx="7488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5332320" y="578484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 flipH="1">
              <a:off x="5256000" y="5784840"/>
              <a:ext cx="7596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5256360" y="578484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5256360" y="578484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5256360" y="578484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 flipH="1">
              <a:off x="5182920" y="5784840"/>
              <a:ext cx="730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5183280" y="578484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 flipH="1" flipV="1">
              <a:off x="5108400" y="5781240"/>
              <a:ext cx="7488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5108400" y="578160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 flipH="1">
              <a:off x="5035680" y="5781600"/>
              <a:ext cx="727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5035680" y="578160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 flipH="1" flipV="1">
              <a:off x="4962240" y="5778000"/>
              <a:ext cx="7308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4962600" y="577836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 flipH="1" flipV="1">
              <a:off x="4887720" y="5771880"/>
              <a:ext cx="74520" cy="6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4888080" y="577224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 flipH="1" flipV="1">
              <a:off x="4818240" y="5768640"/>
              <a:ext cx="6984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4818240" y="576900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 flipH="1" flipV="1">
              <a:off x="4743360" y="5763960"/>
              <a:ext cx="7488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4743360" y="576432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 flipH="1" flipV="1">
              <a:off x="4673520" y="5754240"/>
              <a:ext cx="69840" cy="97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4673520" y="575460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 flipH="1" flipV="1">
              <a:off x="4602240" y="5748120"/>
              <a:ext cx="71280" cy="61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4602240" y="574848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 flipH="1" flipV="1">
              <a:off x="4532400" y="5740560"/>
              <a:ext cx="69840" cy="79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4532400" y="574056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 flipH="1" flipV="1">
              <a:off x="4464000" y="5730480"/>
              <a:ext cx="68400" cy="97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4464000" y="573084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 flipH="1" flipV="1">
              <a:off x="4397040" y="5722920"/>
              <a:ext cx="66600" cy="79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4397400" y="572292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 flipH="1" flipV="1">
              <a:off x="4329000" y="5709960"/>
              <a:ext cx="68400" cy="126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4329000" y="571032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 flipH="1" flipV="1">
              <a:off x="4260600" y="5698800"/>
              <a:ext cx="68040" cy="111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4260960" y="569916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 flipH="1" flipV="1">
              <a:off x="4194000" y="5686200"/>
              <a:ext cx="66960" cy="126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4194000" y="568656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 flipH="1" flipV="1">
              <a:off x="4129200" y="5675040"/>
              <a:ext cx="64800" cy="111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4129200" y="567540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 flipH="1" flipV="1">
              <a:off x="4063680" y="5661000"/>
              <a:ext cx="65160" cy="144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4064040" y="566100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 flipH="1" flipV="1">
              <a:off x="3998520" y="5648040"/>
              <a:ext cx="65160" cy="126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3998880" y="564840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 flipH="1" flipV="1">
              <a:off x="3936960" y="5630400"/>
              <a:ext cx="61920" cy="1764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3936960" y="563076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 flipH="1" flipV="1">
              <a:off x="3873600" y="5616360"/>
              <a:ext cx="63360" cy="140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3873600" y="561672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 flipH="1" flipV="1">
              <a:off x="3814560" y="5602320"/>
              <a:ext cx="58680" cy="144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3814920" y="560232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 flipH="1" flipV="1">
              <a:off x="3753000" y="5584320"/>
              <a:ext cx="61920" cy="1764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3753000" y="558468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 flipH="1" flipV="1">
              <a:off x="3693960" y="5565240"/>
              <a:ext cx="59040" cy="1908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3693960" y="556560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 flipH="1" flipV="1">
              <a:off x="3633480" y="5548320"/>
              <a:ext cx="60120" cy="1728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3633840" y="554832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 flipH="1" flipV="1">
              <a:off x="3574800" y="5527440"/>
              <a:ext cx="58680" cy="205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3575160" y="552780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 flipH="1" flipV="1">
              <a:off x="3519000" y="5506920"/>
              <a:ext cx="55800" cy="2088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3519360" y="550692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 flipH="1" flipV="1">
              <a:off x="3463920" y="5489640"/>
              <a:ext cx="55440" cy="1728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3463920" y="548964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 flipH="1" flipV="1">
              <a:off x="3411360" y="5468760"/>
              <a:ext cx="52560" cy="2088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3411360" y="546876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 flipH="1" flipV="1">
              <a:off x="3354480" y="5445000"/>
              <a:ext cx="56880" cy="23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3354480" y="544500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 flipH="1" flipV="1">
              <a:off x="3304800" y="5424120"/>
              <a:ext cx="49320" cy="205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3305160" y="542448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 flipH="1" flipV="1">
              <a:off x="3251160" y="5402160"/>
              <a:ext cx="54000" cy="22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3251160" y="540216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 flipH="1" flipV="1">
              <a:off x="3201480" y="5378400"/>
              <a:ext cx="49320" cy="23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201840" y="537840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 flipH="1" flipV="1">
              <a:off x="3154320" y="5354640"/>
              <a:ext cx="47520" cy="23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154320" y="535464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 flipH="1" flipV="1">
              <a:off x="3104640" y="5330880"/>
              <a:ext cx="49320" cy="23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3105000" y="533088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 flipH="1" flipV="1">
              <a:off x="3060360" y="5307120"/>
              <a:ext cx="44280" cy="23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060720" y="530712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83" name=""/>
          <p:cNvGrpSpPr/>
          <p:nvPr/>
        </p:nvGrpSpPr>
        <p:grpSpPr>
          <a:xfrm>
            <a:off x="2344320" y="3030120"/>
            <a:ext cx="3285000" cy="2276640"/>
            <a:chOff x="2344320" y="3030120"/>
            <a:chExt cx="3285000" cy="2276640"/>
          </a:xfrm>
        </p:grpSpPr>
        <p:sp>
          <p:nvSpPr>
            <p:cNvPr id="4484" name=""/>
            <p:cNvSpPr/>
            <p:nvPr/>
          </p:nvSpPr>
          <p:spPr>
            <a:xfrm flipH="1" flipV="1">
              <a:off x="3013200" y="5281200"/>
              <a:ext cx="47520" cy="25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013200" y="528156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 flipH="1" flipV="1">
              <a:off x="2968560" y="5254200"/>
              <a:ext cx="44640" cy="27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2968560" y="525456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 flipH="1" flipV="1">
              <a:off x="2928960" y="5227200"/>
              <a:ext cx="39600" cy="27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2928960" y="522756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 flipH="1" flipV="1">
              <a:off x="2887200" y="5202360"/>
              <a:ext cx="41400" cy="25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2887560" y="520236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 flipH="1" flipV="1">
              <a:off x="2846520" y="5175000"/>
              <a:ext cx="41040" cy="27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2846520" y="517536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 flipH="1" flipV="1">
              <a:off x="2808360" y="5145120"/>
              <a:ext cx="38160" cy="3024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2808360" y="514512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 flipH="1" flipV="1">
              <a:off x="2768760" y="5119200"/>
              <a:ext cx="39600" cy="2556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2768760" y="511956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 flipH="1" flipV="1">
              <a:off x="2733480" y="5089320"/>
              <a:ext cx="34920" cy="2988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2733840" y="508968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 flipH="1" flipV="1">
              <a:off x="2698560" y="5060880"/>
              <a:ext cx="34920" cy="2880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2698920" y="506088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 flipH="1" flipV="1">
              <a:off x="2666520" y="5030640"/>
              <a:ext cx="32040" cy="3024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2666880" y="503064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 flipH="1" flipV="1">
              <a:off x="2633760" y="5001840"/>
              <a:ext cx="33120" cy="2844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2633760" y="500220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 flipH="1" flipV="1">
              <a:off x="2604960" y="4971960"/>
              <a:ext cx="28800" cy="3024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2604960" y="497196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 flipH="1" flipV="1">
              <a:off x="2574720" y="4940280"/>
              <a:ext cx="29880" cy="3168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2575080" y="494028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 flipH="1" flipV="1">
              <a:off x="2547720" y="4910040"/>
              <a:ext cx="27000" cy="3024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2548080" y="491004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 flipH="1" flipV="1">
              <a:off x="2525760" y="4878360"/>
              <a:ext cx="22320" cy="3168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2525760" y="487836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 flipH="1" flipV="1">
              <a:off x="2498400" y="4844520"/>
              <a:ext cx="27000" cy="3348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2498760" y="484488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 flipH="1" flipV="1">
              <a:off x="2477880" y="4816080"/>
              <a:ext cx="20520" cy="2844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2478240" y="481644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 flipH="1" flipV="1">
              <a:off x="2457360" y="4781160"/>
              <a:ext cx="20880" cy="349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2457360" y="478152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 flipH="1" flipV="1">
              <a:off x="2436480" y="4747680"/>
              <a:ext cx="20520" cy="33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2436840" y="474804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 flipH="1" flipV="1">
              <a:off x="2422440" y="4716360"/>
              <a:ext cx="14400" cy="316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2422440" y="471636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 flipH="1" flipV="1">
              <a:off x="2405160" y="4683240"/>
              <a:ext cx="17280" cy="33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2405160" y="468324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 flipH="1" flipV="1">
              <a:off x="2392200" y="4647960"/>
              <a:ext cx="12960" cy="349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2392200" y="464832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 flipH="1" flipV="1">
              <a:off x="2381400" y="4615920"/>
              <a:ext cx="10800" cy="3204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2381400" y="461628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 flipH="1" flipV="1">
              <a:off x="2368440" y="4579560"/>
              <a:ext cx="12960" cy="3636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2368440" y="457992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 flipH="1" flipV="1">
              <a:off x="2360520" y="4548240"/>
              <a:ext cx="7920" cy="3168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2360520" y="454824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 flipH="1" flipV="1">
              <a:off x="2354040" y="4512960"/>
              <a:ext cx="6120" cy="349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2354400" y="451332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 flipH="1" flipV="1">
              <a:off x="2347920" y="4478040"/>
              <a:ext cx="6480" cy="349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2347920" y="447840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 flipH="1" flipV="1">
              <a:off x="2344320" y="4441680"/>
              <a:ext cx="3240" cy="367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2344680" y="444168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 flipV="1">
              <a:off x="2344680" y="4406400"/>
              <a:ext cx="1800" cy="3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2344680" y="440676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2344680" y="440676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2344680" y="440676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 flipV="1">
              <a:off x="2344680" y="4371480"/>
              <a:ext cx="1800" cy="3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2344680" y="437184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 flipV="1">
              <a:off x="2344680" y="4336560"/>
              <a:ext cx="3240" cy="349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2347920" y="433692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 flipV="1">
              <a:off x="2347920" y="4300200"/>
              <a:ext cx="6480" cy="3636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2354400" y="430056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 flipV="1">
              <a:off x="2354400" y="4265280"/>
              <a:ext cx="6120" cy="349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2360520" y="426564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 flipV="1">
              <a:off x="2360520" y="4233960"/>
              <a:ext cx="7920" cy="3168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2368440" y="423396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 flipV="1">
              <a:off x="2368440" y="4198680"/>
              <a:ext cx="12960" cy="349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2381400" y="419904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 flipV="1">
              <a:off x="2381400" y="4165200"/>
              <a:ext cx="10800" cy="3348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2392200" y="416556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 flipV="1">
              <a:off x="2392200" y="4130280"/>
              <a:ext cx="12960" cy="349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2405160" y="413064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 flipV="1">
              <a:off x="2405160" y="4098960"/>
              <a:ext cx="17280" cy="316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2422440" y="409896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 flipV="1">
              <a:off x="2422440" y="4065120"/>
              <a:ext cx="14400" cy="33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2436840" y="406548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 flipV="1">
              <a:off x="2436840" y="4033800"/>
              <a:ext cx="20520" cy="316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2457360" y="403380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 flipV="1">
              <a:off x="2457360" y="3997080"/>
              <a:ext cx="20880" cy="36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2478240" y="399744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 flipV="1">
              <a:off x="2478240" y="3968640"/>
              <a:ext cx="20520" cy="2880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2498760" y="396864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 flipV="1">
              <a:off x="2498760" y="3936960"/>
              <a:ext cx="27000" cy="3168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2525760" y="393696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 flipV="1">
              <a:off x="2525760" y="3903840"/>
              <a:ext cx="22320" cy="3312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2548080" y="390384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 flipV="1">
              <a:off x="2548080" y="3875040"/>
              <a:ext cx="27000" cy="2880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2575080" y="387504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 flipV="1">
              <a:off x="2575080" y="3841920"/>
              <a:ext cx="29880" cy="3312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2604960" y="384192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 flipV="1">
              <a:off x="2604960" y="3813120"/>
              <a:ext cx="28800" cy="2880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2633760" y="381312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 flipV="1">
              <a:off x="2633760" y="3782880"/>
              <a:ext cx="33120" cy="3024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2666880" y="378288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 flipV="1">
              <a:off x="2666880" y="3754080"/>
              <a:ext cx="32040" cy="2844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2698920" y="375444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 flipV="1">
              <a:off x="2698920" y="3724200"/>
              <a:ext cx="34920" cy="3024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2733840" y="372420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 flipV="1">
              <a:off x="2733840" y="3695400"/>
              <a:ext cx="34920" cy="2844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2768760" y="369576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 flipV="1">
              <a:off x="2768760" y="3668400"/>
              <a:ext cx="39600" cy="2700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2808360" y="366876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 flipV="1">
              <a:off x="2808360" y="3638520"/>
              <a:ext cx="38160" cy="30240"/>
            </a:xfrm>
            <a:prstGeom prst="line">
              <a:avLst/>
            </a:prstGeom>
            <a:ln w="52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2846520" y="363852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 flipV="1">
              <a:off x="2846520" y="3613320"/>
              <a:ext cx="41040" cy="25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2887560" y="361332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 flipV="1">
              <a:off x="2887560" y="3585960"/>
              <a:ext cx="41400" cy="27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2928960" y="358632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 flipV="1">
              <a:off x="2928960" y="3558960"/>
              <a:ext cx="39600" cy="27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2968560" y="355932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 flipV="1">
              <a:off x="2968560" y="3533400"/>
              <a:ext cx="44640" cy="25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3013200" y="353376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 flipV="1">
              <a:off x="3013200" y="3506400"/>
              <a:ext cx="47520" cy="27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3060720" y="350676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 flipV="1">
              <a:off x="3060720" y="3483000"/>
              <a:ext cx="44280" cy="23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3105000" y="348300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 flipV="1">
              <a:off x="3105000" y="3459240"/>
              <a:ext cx="49320" cy="23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3154320" y="345924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 flipV="1">
              <a:off x="3154320" y="3435480"/>
              <a:ext cx="47520" cy="23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3201840" y="343548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 flipV="1">
              <a:off x="3201840" y="3413160"/>
              <a:ext cx="49320" cy="22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3251160" y="341316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 flipV="1">
              <a:off x="3251160" y="3389400"/>
              <a:ext cx="54000" cy="23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3305160" y="338940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 flipV="1">
              <a:off x="3305160" y="3368520"/>
              <a:ext cx="49320" cy="2088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3354480" y="336852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 flipV="1">
              <a:off x="3354480" y="3344760"/>
              <a:ext cx="56880" cy="23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3411360" y="334476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 flipV="1">
              <a:off x="3411360" y="3323880"/>
              <a:ext cx="52560" cy="205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3463920" y="332424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 flipV="1">
              <a:off x="3463920" y="3306240"/>
              <a:ext cx="55440" cy="1764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3519360" y="330660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 flipV="1">
              <a:off x="3519360" y="3285720"/>
              <a:ext cx="55800" cy="205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3575160" y="328608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 flipV="1">
              <a:off x="3575160" y="3265200"/>
              <a:ext cx="58680" cy="205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3633840" y="326556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 flipV="1">
              <a:off x="3633840" y="3247560"/>
              <a:ext cx="60120" cy="1764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3693960" y="324792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 flipV="1">
              <a:off x="3693960" y="3230640"/>
              <a:ext cx="59040" cy="1728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3753000" y="323064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 flipV="1">
              <a:off x="3753000" y="3212640"/>
              <a:ext cx="61920" cy="1764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3814920" y="321300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 flipV="1">
              <a:off x="3814920" y="3197160"/>
              <a:ext cx="58680" cy="158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3873600" y="319716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 flipV="1">
              <a:off x="3873600" y="3182760"/>
              <a:ext cx="63360" cy="144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3936960" y="318276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 flipV="1">
              <a:off x="3936960" y="3165480"/>
              <a:ext cx="61920" cy="1728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3998880" y="316548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 flipV="1">
              <a:off x="3998880" y="3153960"/>
              <a:ext cx="65160" cy="111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4064040" y="315432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 flipV="1">
              <a:off x="4064040" y="3138480"/>
              <a:ext cx="65160" cy="158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4129200" y="313848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 flipV="1">
              <a:off x="4129200" y="3126960"/>
              <a:ext cx="64800" cy="111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4194000" y="312732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 flipV="1">
              <a:off x="4194000" y="3114360"/>
              <a:ext cx="66960" cy="126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4260960" y="311472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 flipV="1">
              <a:off x="4260960" y="3103200"/>
              <a:ext cx="68040" cy="111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4329000" y="310356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 flipV="1">
              <a:off x="4329000" y="3092040"/>
              <a:ext cx="68400" cy="111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4397400" y="309240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 flipV="1">
              <a:off x="4397400" y="3083040"/>
              <a:ext cx="66600" cy="936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4464000" y="308304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 flipV="1">
              <a:off x="4464000" y="3072960"/>
              <a:ext cx="68400" cy="97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4532400" y="307332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 flipV="1">
              <a:off x="4532400" y="3065400"/>
              <a:ext cx="69840" cy="79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4602240" y="306540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 flipV="1">
              <a:off x="4602240" y="3058920"/>
              <a:ext cx="71280" cy="612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4673520" y="305928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 flipV="1">
              <a:off x="4673520" y="3050640"/>
              <a:ext cx="69840" cy="82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4743360" y="305100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 flipV="1">
              <a:off x="4743360" y="3044520"/>
              <a:ext cx="74880" cy="6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4818240" y="304488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 flipV="1">
              <a:off x="4818240" y="3041280"/>
              <a:ext cx="6984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4888080" y="304164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 flipV="1">
              <a:off x="4888080" y="3035160"/>
              <a:ext cx="74520" cy="6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4962600" y="303516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 flipV="1">
              <a:off x="4962600" y="3033720"/>
              <a:ext cx="730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5035680" y="303372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5035680" y="3033720"/>
              <a:ext cx="727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5108400" y="303372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 flipV="1">
              <a:off x="5108400" y="3030120"/>
              <a:ext cx="7488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5183280" y="303048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5183280" y="3030480"/>
              <a:ext cx="730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5256360" y="303048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5256360" y="303048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5256360" y="3030480"/>
              <a:ext cx="1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5256360" y="3030480"/>
              <a:ext cx="7596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5332320" y="303048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5332320" y="3030480"/>
              <a:ext cx="7488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5407200" y="3033720"/>
              <a:ext cx="1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5407200" y="3033720"/>
              <a:ext cx="727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5479920" y="303372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5479920" y="3033720"/>
              <a:ext cx="730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5553000" y="3035160"/>
              <a:ext cx="18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5553000" y="3035160"/>
              <a:ext cx="74520" cy="6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5627520" y="3041640"/>
              <a:ext cx="18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84" name=""/>
          <p:cNvSpPr/>
          <p:nvPr/>
        </p:nvSpPr>
        <p:spPr>
          <a:xfrm>
            <a:off x="5627520" y="3041640"/>
            <a:ext cx="69840" cy="3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5" name=""/>
          <p:cNvSpPr/>
          <p:nvPr/>
        </p:nvSpPr>
        <p:spPr>
          <a:xfrm>
            <a:off x="5697360" y="3044880"/>
            <a:ext cx="18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6" name=""/>
          <p:cNvSpPr/>
          <p:nvPr/>
        </p:nvSpPr>
        <p:spPr>
          <a:xfrm>
            <a:off x="5697360" y="3044880"/>
            <a:ext cx="73080" cy="6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5842080" y="3059280"/>
            <a:ext cx="69840" cy="612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8" name=""/>
          <p:cNvSpPr/>
          <p:nvPr/>
        </p:nvSpPr>
        <p:spPr>
          <a:xfrm>
            <a:off x="5911920" y="3065400"/>
            <a:ext cx="1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9" name=""/>
          <p:cNvSpPr/>
          <p:nvPr/>
        </p:nvSpPr>
        <p:spPr>
          <a:xfrm>
            <a:off x="5911920" y="3065400"/>
            <a:ext cx="68040" cy="792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0" name=""/>
          <p:cNvSpPr/>
          <p:nvPr/>
        </p:nvSpPr>
        <p:spPr>
          <a:xfrm>
            <a:off x="5979960" y="3073320"/>
            <a:ext cx="18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1" name=""/>
          <p:cNvSpPr/>
          <p:nvPr/>
        </p:nvSpPr>
        <p:spPr>
          <a:xfrm>
            <a:off x="5979960" y="3073320"/>
            <a:ext cx="71640" cy="972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2" name=""/>
          <p:cNvSpPr/>
          <p:nvPr/>
        </p:nvSpPr>
        <p:spPr>
          <a:xfrm>
            <a:off x="6051600" y="3083040"/>
            <a:ext cx="66600" cy="936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3" name=""/>
          <p:cNvSpPr/>
          <p:nvPr/>
        </p:nvSpPr>
        <p:spPr>
          <a:xfrm>
            <a:off x="6118200" y="3092400"/>
            <a:ext cx="1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4" name=""/>
          <p:cNvSpPr/>
          <p:nvPr/>
        </p:nvSpPr>
        <p:spPr>
          <a:xfrm>
            <a:off x="6118200" y="3092400"/>
            <a:ext cx="68400" cy="111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5" name=""/>
          <p:cNvSpPr/>
          <p:nvPr/>
        </p:nvSpPr>
        <p:spPr>
          <a:xfrm>
            <a:off x="6186600" y="3103560"/>
            <a:ext cx="1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6" name=""/>
          <p:cNvSpPr/>
          <p:nvPr/>
        </p:nvSpPr>
        <p:spPr>
          <a:xfrm>
            <a:off x="6186600" y="3103560"/>
            <a:ext cx="68040" cy="111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7" name=""/>
          <p:cNvSpPr/>
          <p:nvPr/>
        </p:nvSpPr>
        <p:spPr>
          <a:xfrm>
            <a:off x="6254640" y="3114720"/>
            <a:ext cx="18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6254640" y="3114720"/>
            <a:ext cx="66960" cy="126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6321600" y="3127320"/>
            <a:ext cx="1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>
            <a:off x="6321600" y="3127320"/>
            <a:ext cx="64800" cy="111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>
            <a:off x="6386400" y="3138480"/>
            <a:ext cx="18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>
            <a:off x="6386400" y="3138480"/>
            <a:ext cx="65160" cy="158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6451560" y="3154320"/>
            <a:ext cx="18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>
            <a:off x="6451560" y="3154320"/>
            <a:ext cx="65160" cy="111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>
            <a:off x="6516720" y="3165480"/>
            <a:ext cx="1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>
            <a:off x="6516720" y="3165480"/>
            <a:ext cx="60120" cy="1728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7" name=""/>
          <p:cNvSpPr/>
          <p:nvPr/>
        </p:nvSpPr>
        <p:spPr>
          <a:xfrm>
            <a:off x="6576840" y="3182760"/>
            <a:ext cx="18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6576840" y="3182760"/>
            <a:ext cx="61920" cy="144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6638760" y="3197160"/>
            <a:ext cx="18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6638760" y="3197160"/>
            <a:ext cx="61920" cy="158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>
            <a:off x="6700680" y="3213000"/>
            <a:ext cx="18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>
            <a:off x="6700680" y="3213000"/>
            <a:ext cx="61920" cy="1764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6762600" y="3230640"/>
            <a:ext cx="18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6762600" y="3230640"/>
            <a:ext cx="59040" cy="1728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6821640" y="3247920"/>
            <a:ext cx="1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>
            <a:off x="6821640" y="3247920"/>
            <a:ext cx="58680" cy="1764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6880320" y="3265560"/>
            <a:ext cx="1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6880320" y="3265560"/>
            <a:ext cx="60120" cy="2052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9" name=""/>
          <p:cNvSpPr/>
          <p:nvPr/>
        </p:nvSpPr>
        <p:spPr>
          <a:xfrm>
            <a:off x="6940440" y="3286080"/>
            <a:ext cx="18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0" name=""/>
          <p:cNvSpPr/>
          <p:nvPr/>
        </p:nvSpPr>
        <p:spPr>
          <a:xfrm>
            <a:off x="6940440" y="3286080"/>
            <a:ext cx="55800" cy="2052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1" name=""/>
          <p:cNvSpPr/>
          <p:nvPr/>
        </p:nvSpPr>
        <p:spPr>
          <a:xfrm>
            <a:off x="6996240" y="3306600"/>
            <a:ext cx="1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6996240" y="3306600"/>
            <a:ext cx="55440" cy="1764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3" name=""/>
          <p:cNvSpPr/>
          <p:nvPr/>
        </p:nvSpPr>
        <p:spPr>
          <a:xfrm>
            <a:off x="7051680" y="3324240"/>
            <a:ext cx="1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>
            <a:off x="7051680" y="3324240"/>
            <a:ext cx="52560" cy="2052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7104240" y="3344760"/>
            <a:ext cx="1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>
            <a:off x="7104240" y="3344760"/>
            <a:ext cx="53640" cy="237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7" name=""/>
          <p:cNvSpPr/>
          <p:nvPr/>
        </p:nvSpPr>
        <p:spPr>
          <a:xfrm>
            <a:off x="7157880" y="3368520"/>
            <a:ext cx="18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7157880" y="3368520"/>
            <a:ext cx="52560" cy="2088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>
            <a:off x="7210440" y="3389400"/>
            <a:ext cx="1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0" name=""/>
          <p:cNvSpPr/>
          <p:nvPr/>
        </p:nvSpPr>
        <p:spPr>
          <a:xfrm>
            <a:off x="7210440" y="3389400"/>
            <a:ext cx="52200" cy="237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1" name=""/>
          <p:cNvSpPr/>
          <p:nvPr/>
        </p:nvSpPr>
        <p:spPr>
          <a:xfrm>
            <a:off x="7262640" y="3413160"/>
            <a:ext cx="18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2" name=""/>
          <p:cNvSpPr/>
          <p:nvPr/>
        </p:nvSpPr>
        <p:spPr>
          <a:xfrm>
            <a:off x="7262640" y="3413160"/>
            <a:ext cx="51120" cy="22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3" name=""/>
          <p:cNvSpPr/>
          <p:nvPr/>
        </p:nvSpPr>
        <p:spPr>
          <a:xfrm>
            <a:off x="7313760" y="3435480"/>
            <a:ext cx="1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4" name=""/>
          <p:cNvSpPr/>
          <p:nvPr/>
        </p:nvSpPr>
        <p:spPr>
          <a:xfrm>
            <a:off x="7313760" y="3435480"/>
            <a:ext cx="47520" cy="237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>
            <a:off x="7361280" y="3459240"/>
            <a:ext cx="1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7361280" y="3459240"/>
            <a:ext cx="46080" cy="237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>
            <a:off x="7407360" y="3483000"/>
            <a:ext cx="1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7407360" y="3483000"/>
            <a:ext cx="47520" cy="237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>
            <a:off x="7454880" y="3506760"/>
            <a:ext cx="1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0" name=""/>
          <p:cNvSpPr/>
          <p:nvPr/>
        </p:nvSpPr>
        <p:spPr>
          <a:xfrm>
            <a:off x="7454880" y="3506760"/>
            <a:ext cx="47520" cy="27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1" name=""/>
          <p:cNvSpPr/>
          <p:nvPr/>
        </p:nvSpPr>
        <p:spPr>
          <a:xfrm>
            <a:off x="7502400" y="3533760"/>
            <a:ext cx="18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7502400" y="3533760"/>
            <a:ext cx="42840" cy="255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3" name=""/>
          <p:cNvSpPr/>
          <p:nvPr/>
        </p:nvSpPr>
        <p:spPr>
          <a:xfrm>
            <a:off x="7545240" y="3559320"/>
            <a:ext cx="18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4" name=""/>
          <p:cNvSpPr/>
          <p:nvPr/>
        </p:nvSpPr>
        <p:spPr>
          <a:xfrm>
            <a:off x="7545240" y="3559320"/>
            <a:ext cx="41400" cy="27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5" name=""/>
          <p:cNvSpPr/>
          <p:nvPr/>
        </p:nvSpPr>
        <p:spPr>
          <a:xfrm>
            <a:off x="7586640" y="3586320"/>
            <a:ext cx="1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6" name=""/>
          <p:cNvSpPr/>
          <p:nvPr/>
        </p:nvSpPr>
        <p:spPr>
          <a:xfrm>
            <a:off x="7586640" y="3586320"/>
            <a:ext cx="41400" cy="27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7" name=""/>
          <p:cNvSpPr/>
          <p:nvPr/>
        </p:nvSpPr>
        <p:spPr>
          <a:xfrm>
            <a:off x="7628040" y="3613320"/>
            <a:ext cx="1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8" name=""/>
          <p:cNvSpPr/>
          <p:nvPr/>
        </p:nvSpPr>
        <p:spPr>
          <a:xfrm>
            <a:off x="7628040" y="3613320"/>
            <a:ext cx="41040" cy="252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9" name=""/>
          <p:cNvSpPr/>
          <p:nvPr/>
        </p:nvSpPr>
        <p:spPr>
          <a:xfrm>
            <a:off x="7669080" y="3638520"/>
            <a:ext cx="18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0" name=""/>
          <p:cNvSpPr/>
          <p:nvPr/>
        </p:nvSpPr>
        <p:spPr>
          <a:xfrm>
            <a:off x="7669080" y="3638520"/>
            <a:ext cx="38160" cy="30240"/>
          </a:xfrm>
          <a:prstGeom prst="line">
            <a:avLst/>
          </a:prstGeom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1" name=""/>
          <p:cNvSpPr/>
          <p:nvPr/>
        </p:nvSpPr>
        <p:spPr>
          <a:xfrm>
            <a:off x="7707240" y="3668760"/>
            <a:ext cx="18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2" name=""/>
          <p:cNvSpPr/>
          <p:nvPr/>
        </p:nvSpPr>
        <p:spPr>
          <a:xfrm>
            <a:off x="7707240" y="3668760"/>
            <a:ext cx="38160" cy="27000"/>
          </a:xfrm>
          <a:prstGeom prst="line">
            <a:avLst/>
          </a:prstGeom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>
            <a:off x="7745400" y="3695760"/>
            <a:ext cx="1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>
            <a:off x="7745400" y="3695760"/>
            <a:ext cx="36360" cy="28440"/>
          </a:xfrm>
          <a:prstGeom prst="line">
            <a:avLst/>
          </a:prstGeom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>
            <a:off x="7781760" y="3724200"/>
            <a:ext cx="18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>
            <a:off x="7781760" y="3724200"/>
            <a:ext cx="34920" cy="30240"/>
          </a:xfrm>
          <a:prstGeom prst="line">
            <a:avLst/>
          </a:prstGeom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>
            <a:off x="7816680" y="3754440"/>
            <a:ext cx="18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>
            <a:off x="7816680" y="3754440"/>
            <a:ext cx="32040" cy="28440"/>
          </a:xfrm>
          <a:prstGeom prst="line">
            <a:avLst/>
          </a:prstGeom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>
            <a:off x="7848720" y="3782880"/>
            <a:ext cx="1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>
            <a:off x="7848720" y="3782880"/>
            <a:ext cx="33120" cy="30240"/>
          </a:xfrm>
          <a:prstGeom prst="line">
            <a:avLst/>
          </a:prstGeom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>
            <a:off x="7881840" y="3813120"/>
            <a:ext cx="18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>
            <a:off x="7881840" y="3813120"/>
            <a:ext cx="28800" cy="28800"/>
          </a:xfrm>
          <a:prstGeom prst="line">
            <a:avLst/>
          </a:prstGeom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3" name=""/>
          <p:cNvSpPr/>
          <p:nvPr/>
        </p:nvSpPr>
        <p:spPr>
          <a:xfrm>
            <a:off x="7910640" y="3841920"/>
            <a:ext cx="1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4" name=""/>
          <p:cNvSpPr/>
          <p:nvPr/>
        </p:nvSpPr>
        <p:spPr>
          <a:xfrm>
            <a:off x="7910640" y="3841920"/>
            <a:ext cx="27000" cy="33120"/>
          </a:xfrm>
          <a:prstGeom prst="line">
            <a:avLst/>
          </a:prstGeom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5" name=""/>
          <p:cNvSpPr/>
          <p:nvPr/>
        </p:nvSpPr>
        <p:spPr>
          <a:xfrm>
            <a:off x="7937640" y="3875040"/>
            <a:ext cx="1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6" name=""/>
          <p:cNvSpPr/>
          <p:nvPr/>
        </p:nvSpPr>
        <p:spPr>
          <a:xfrm>
            <a:off x="7937640" y="3875040"/>
            <a:ext cx="29880" cy="28800"/>
          </a:xfrm>
          <a:prstGeom prst="line">
            <a:avLst/>
          </a:prstGeom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7" name=""/>
          <p:cNvSpPr/>
          <p:nvPr/>
        </p:nvSpPr>
        <p:spPr>
          <a:xfrm>
            <a:off x="7967520" y="3903840"/>
            <a:ext cx="18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8" name=""/>
          <p:cNvSpPr/>
          <p:nvPr/>
        </p:nvSpPr>
        <p:spPr>
          <a:xfrm>
            <a:off x="7967520" y="3903840"/>
            <a:ext cx="22320" cy="33120"/>
          </a:xfrm>
          <a:prstGeom prst="line">
            <a:avLst/>
          </a:prstGeom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9" name=""/>
          <p:cNvSpPr/>
          <p:nvPr/>
        </p:nvSpPr>
        <p:spPr>
          <a:xfrm>
            <a:off x="7989840" y="3936960"/>
            <a:ext cx="18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>
            <a:off x="7989840" y="3936960"/>
            <a:ext cx="23760" cy="31680"/>
          </a:xfrm>
          <a:prstGeom prst="line">
            <a:avLst/>
          </a:prstGeom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1" name=""/>
          <p:cNvSpPr/>
          <p:nvPr/>
        </p:nvSpPr>
        <p:spPr>
          <a:xfrm>
            <a:off x="8013600" y="3968640"/>
            <a:ext cx="18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2" name=""/>
          <p:cNvSpPr/>
          <p:nvPr/>
        </p:nvSpPr>
        <p:spPr>
          <a:xfrm>
            <a:off x="8013600" y="3968640"/>
            <a:ext cx="23760" cy="28800"/>
          </a:xfrm>
          <a:prstGeom prst="line">
            <a:avLst/>
          </a:prstGeom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3" name=""/>
          <p:cNvSpPr/>
          <p:nvPr/>
        </p:nvSpPr>
        <p:spPr>
          <a:xfrm>
            <a:off x="8037360" y="3997440"/>
            <a:ext cx="18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4" name=""/>
          <p:cNvSpPr/>
          <p:nvPr/>
        </p:nvSpPr>
        <p:spPr>
          <a:xfrm>
            <a:off x="8037360" y="3997440"/>
            <a:ext cx="20880" cy="363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5" name=""/>
          <p:cNvSpPr/>
          <p:nvPr/>
        </p:nvSpPr>
        <p:spPr>
          <a:xfrm>
            <a:off x="8058240" y="4033800"/>
            <a:ext cx="1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8058240" y="4033800"/>
            <a:ext cx="17280" cy="31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>
            <a:off x="8075520" y="4065480"/>
            <a:ext cx="18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8" name=""/>
          <p:cNvSpPr/>
          <p:nvPr/>
        </p:nvSpPr>
        <p:spPr>
          <a:xfrm>
            <a:off x="8075520" y="4065480"/>
            <a:ext cx="17640" cy="33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>
            <a:off x="8093160" y="4098960"/>
            <a:ext cx="1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0" name=""/>
          <p:cNvSpPr/>
          <p:nvPr/>
        </p:nvSpPr>
        <p:spPr>
          <a:xfrm>
            <a:off x="8093160" y="4098960"/>
            <a:ext cx="15840" cy="31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1" name=""/>
          <p:cNvSpPr/>
          <p:nvPr/>
        </p:nvSpPr>
        <p:spPr>
          <a:xfrm>
            <a:off x="8109000" y="4130640"/>
            <a:ext cx="1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2" name=""/>
          <p:cNvSpPr/>
          <p:nvPr/>
        </p:nvSpPr>
        <p:spPr>
          <a:xfrm>
            <a:off x="8109000" y="4130640"/>
            <a:ext cx="14400" cy="34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3" name=""/>
          <p:cNvSpPr/>
          <p:nvPr/>
        </p:nvSpPr>
        <p:spPr>
          <a:xfrm>
            <a:off x="8123400" y="4165560"/>
            <a:ext cx="1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4" name=""/>
          <p:cNvSpPr/>
          <p:nvPr/>
        </p:nvSpPr>
        <p:spPr>
          <a:xfrm>
            <a:off x="8123400" y="4165560"/>
            <a:ext cx="10800" cy="3348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5" name=""/>
          <p:cNvSpPr/>
          <p:nvPr/>
        </p:nvSpPr>
        <p:spPr>
          <a:xfrm>
            <a:off x="8134200" y="4199040"/>
            <a:ext cx="18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6" name=""/>
          <p:cNvSpPr/>
          <p:nvPr/>
        </p:nvSpPr>
        <p:spPr>
          <a:xfrm>
            <a:off x="8134200" y="4199040"/>
            <a:ext cx="12960" cy="3492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7" name=""/>
          <p:cNvSpPr/>
          <p:nvPr/>
        </p:nvSpPr>
        <p:spPr>
          <a:xfrm>
            <a:off x="8147160" y="4233960"/>
            <a:ext cx="1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8147160" y="4233960"/>
            <a:ext cx="7920" cy="316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9" name=""/>
          <p:cNvSpPr/>
          <p:nvPr/>
        </p:nvSpPr>
        <p:spPr>
          <a:xfrm>
            <a:off x="8155080" y="4265640"/>
            <a:ext cx="1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0" name=""/>
          <p:cNvSpPr/>
          <p:nvPr/>
        </p:nvSpPr>
        <p:spPr>
          <a:xfrm>
            <a:off x="8155080" y="4265640"/>
            <a:ext cx="6120" cy="3492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1" name=""/>
          <p:cNvSpPr/>
          <p:nvPr/>
        </p:nvSpPr>
        <p:spPr>
          <a:xfrm>
            <a:off x="8161200" y="4300560"/>
            <a:ext cx="18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>
            <a:off x="8161200" y="4300560"/>
            <a:ext cx="3240" cy="3636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3" name=""/>
          <p:cNvSpPr/>
          <p:nvPr/>
        </p:nvSpPr>
        <p:spPr>
          <a:xfrm>
            <a:off x="8164440" y="4336920"/>
            <a:ext cx="18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4" name=""/>
          <p:cNvSpPr/>
          <p:nvPr/>
        </p:nvSpPr>
        <p:spPr>
          <a:xfrm>
            <a:off x="8164440" y="4336920"/>
            <a:ext cx="3240" cy="3492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5" name=""/>
          <p:cNvSpPr/>
          <p:nvPr/>
        </p:nvSpPr>
        <p:spPr>
          <a:xfrm>
            <a:off x="8167680" y="4371840"/>
            <a:ext cx="1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6" name=""/>
          <p:cNvSpPr/>
          <p:nvPr/>
        </p:nvSpPr>
        <p:spPr>
          <a:xfrm>
            <a:off x="8167680" y="4371840"/>
            <a:ext cx="1440" cy="3492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7" name=""/>
          <p:cNvSpPr/>
          <p:nvPr/>
        </p:nvSpPr>
        <p:spPr>
          <a:xfrm>
            <a:off x="8169120" y="4406760"/>
            <a:ext cx="18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8" name=""/>
          <p:cNvSpPr/>
          <p:nvPr/>
        </p:nvSpPr>
        <p:spPr>
          <a:xfrm>
            <a:off x="5938920" y="3006720"/>
            <a:ext cx="30240" cy="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9" name=""/>
          <p:cNvSpPr/>
          <p:nvPr/>
        </p:nvSpPr>
        <p:spPr>
          <a:xfrm>
            <a:off x="5969160" y="300996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0" name=""/>
          <p:cNvSpPr/>
          <p:nvPr/>
        </p:nvSpPr>
        <p:spPr>
          <a:xfrm>
            <a:off x="5969160" y="300996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1" name=""/>
          <p:cNvSpPr/>
          <p:nvPr/>
        </p:nvSpPr>
        <p:spPr>
          <a:xfrm>
            <a:off x="5969160" y="300996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2" name=""/>
          <p:cNvSpPr/>
          <p:nvPr/>
        </p:nvSpPr>
        <p:spPr>
          <a:xfrm>
            <a:off x="5969160" y="3009960"/>
            <a:ext cx="25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3" name=""/>
          <p:cNvSpPr/>
          <p:nvPr/>
        </p:nvSpPr>
        <p:spPr>
          <a:xfrm>
            <a:off x="6124680" y="3100320"/>
            <a:ext cx="14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4" name=""/>
          <p:cNvSpPr/>
          <p:nvPr/>
        </p:nvSpPr>
        <p:spPr>
          <a:xfrm>
            <a:off x="5859360" y="2568600"/>
            <a:ext cx="293760" cy="473040"/>
          </a:xfrm>
          <a:custGeom>
            <a:avLst/>
            <a:gdLst/>
            <a:ahLst/>
            <a:rect l="l" t="t" r="r" b="b"/>
            <a:pathLst>
              <a:path w="185" h="298">
                <a:moveTo>
                  <a:pt x="137" y="298"/>
                </a:moveTo>
                <a:lnTo>
                  <a:pt x="0" y="274"/>
                </a:lnTo>
                <a:lnTo>
                  <a:pt x="48" y="0"/>
                </a:lnTo>
                <a:lnTo>
                  <a:pt x="185" y="24"/>
                </a:lnTo>
                <a:lnTo>
                  <a:pt x="137" y="298"/>
                </a:lnTo>
                <a:close/>
              </a:path>
            </a:pathLst>
          </a:custGeom>
          <a:solidFill>
            <a:srgbClr val="c1c2c1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5" name=""/>
          <p:cNvSpPr/>
          <p:nvPr/>
        </p:nvSpPr>
        <p:spPr>
          <a:xfrm>
            <a:off x="3693960" y="3218040"/>
            <a:ext cx="1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6" name=""/>
          <p:cNvSpPr/>
          <p:nvPr/>
        </p:nvSpPr>
        <p:spPr>
          <a:xfrm>
            <a:off x="3657600" y="323532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7" name=""/>
          <p:cNvSpPr/>
          <p:nvPr/>
        </p:nvSpPr>
        <p:spPr>
          <a:xfrm>
            <a:off x="3619440" y="3251160"/>
            <a:ext cx="18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8" name=""/>
          <p:cNvSpPr/>
          <p:nvPr/>
        </p:nvSpPr>
        <p:spPr>
          <a:xfrm flipH="1">
            <a:off x="3578400" y="3251160"/>
            <a:ext cx="41040" cy="14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9" name=""/>
          <p:cNvSpPr/>
          <p:nvPr/>
        </p:nvSpPr>
        <p:spPr>
          <a:xfrm>
            <a:off x="3578400" y="326556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 flipH="1">
            <a:off x="3536640" y="3265560"/>
            <a:ext cx="41400" cy="11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3537000" y="327672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3537000" y="327672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>
            <a:off x="3537000" y="327672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 flipH="1">
            <a:off x="3495240" y="3276720"/>
            <a:ext cx="41400" cy="9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5" name=""/>
          <p:cNvSpPr/>
          <p:nvPr/>
        </p:nvSpPr>
        <p:spPr>
          <a:xfrm>
            <a:off x="3495600" y="3286080"/>
            <a:ext cx="18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6" name=""/>
          <p:cNvSpPr/>
          <p:nvPr/>
        </p:nvSpPr>
        <p:spPr>
          <a:xfrm flipH="1">
            <a:off x="3454560" y="3286080"/>
            <a:ext cx="41040" cy="9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7" name=""/>
          <p:cNvSpPr/>
          <p:nvPr/>
        </p:nvSpPr>
        <p:spPr>
          <a:xfrm>
            <a:off x="3429000" y="3200400"/>
            <a:ext cx="352440" cy="461880"/>
          </a:xfrm>
          <a:custGeom>
            <a:avLst/>
            <a:gdLst/>
            <a:ahLst/>
            <a:rect l="l" t="t" r="r" b="b"/>
            <a:pathLst>
              <a:path w="222" h="291">
                <a:moveTo>
                  <a:pt x="0" y="43"/>
                </a:moveTo>
                <a:lnTo>
                  <a:pt x="157" y="0"/>
                </a:lnTo>
                <a:lnTo>
                  <a:pt x="222" y="249"/>
                </a:lnTo>
                <a:lnTo>
                  <a:pt x="66" y="291"/>
                </a:lnTo>
                <a:lnTo>
                  <a:pt x="0" y="43"/>
                </a:lnTo>
                <a:close/>
              </a:path>
            </a:pathLst>
          </a:custGeom>
          <a:solidFill>
            <a:srgbClr val="8a478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8" name=""/>
          <p:cNvSpPr/>
          <p:nvPr/>
        </p:nvSpPr>
        <p:spPr>
          <a:xfrm>
            <a:off x="3767040" y="3637080"/>
            <a:ext cx="1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>
            <a:off x="3519360" y="3703680"/>
            <a:ext cx="1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>
            <a:off x="4546440" y="3044880"/>
            <a:ext cx="1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1" name=""/>
          <p:cNvSpPr/>
          <p:nvPr/>
        </p:nvSpPr>
        <p:spPr>
          <a:xfrm>
            <a:off x="4511520" y="3059280"/>
            <a:ext cx="1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2" name=""/>
          <p:cNvSpPr/>
          <p:nvPr/>
        </p:nvSpPr>
        <p:spPr>
          <a:xfrm>
            <a:off x="4473720" y="306864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3" name=""/>
          <p:cNvSpPr/>
          <p:nvPr/>
        </p:nvSpPr>
        <p:spPr>
          <a:xfrm>
            <a:off x="4435560" y="307980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4" name=""/>
          <p:cNvSpPr/>
          <p:nvPr/>
        </p:nvSpPr>
        <p:spPr>
          <a:xfrm>
            <a:off x="4394160" y="3086280"/>
            <a:ext cx="1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5" name=""/>
          <p:cNvSpPr/>
          <p:nvPr/>
        </p:nvSpPr>
        <p:spPr>
          <a:xfrm flipH="1">
            <a:off x="4349520" y="3086280"/>
            <a:ext cx="4428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6" name=""/>
          <p:cNvSpPr/>
          <p:nvPr/>
        </p:nvSpPr>
        <p:spPr>
          <a:xfrm>
            <a:off x="4349880" y="3092400"/>
            <a:ext cx="14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7" name=""/>
          <p:cNvSpPr/>
          <p:nvPr/>
        </p:nvSpPr>
        <p:spPr>
          <a:xfrm>
            <a:off x="4349880" y="3092400"/>
            <a:ext cx="14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8" name=""/>
          <p:cNvSpPr/>
          <p:nvPr/>
        </p:nvSpPr>
        <p:spPr>
          <a:xfrm>
            <a:off x="4349880" y="3092400"/>
            <a:ext cx="14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9" name=""/>
          <p:cNvSpPr/>
          <p:nvPr/>
        </p:nvSpPr>
        <p:spPr>
          <a:xfrm flipH="1">
            <a:off x="4305240" y="3092400"/>
            <a:ext cx="44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0" name=""/>
          <p:cNvSpPr/>
          <p:nvPr/>
        </p:nvSpPr>
        <p:spPr>
          <a:xfrm>
            <a:off x="4305240" y="3094200"/>
            <a:ext cx="1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1" name=""/>
          <p:cNvSpPr/>
          <p:nvPr/>
        </p:nvSpPr>
        <p:spPr>
          <a:xfrm flipH="1">
            <a:off x="4264200" y="3094200"/>
            <a:ext cx="41040" cy="2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2" name=""/>
          <p:cNvSpPr/>
          <p:nvPr/>
        </p:nvSpPr>
        <p:spPr>
          <a:xfrm>
            <a:off x="4264200" y="3097080"/>
            <a:ext cx="14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3" name=""/>
          <p:cNvSpPr/>
          <p:nvPr/>
        </p:nvSpPr>
        <p:spPr>
          <a:xfrm flipH="1" flipV="1">
            <a:off x="4222440" y="3094200"/>
            <a:ext cx="41400" cy="2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4" name=""/>
          <p:cNvSpPr/>
          <p:nvPr/>
        </p:nvSpPr>
        <p:spPr>
          <a:xfrm>
            <a:off x="4191120" y="3048120"/>
            <a:ext cx="299880" cy="430200"/>
          </a:xfrm>
          <a:custGeom>
            <a:avLst/>
            <a:gdLst/>
            <a:ahLst/>
            <a:rect l="l" t="t" r="r" b="b"/>
            <a:pathLst>
              <a:path w="189" h="271">
                <a:moveTo>
                  <a:pt x="0" y="17"/>
                </a:moveTo>
                <a:lnTo>
                  <a:pt x="163" y="0"/>
                </a:lnTo>
                <a:lnTo>
                  <a:pt x="189" y="254"/>
                </a:lnTo>
                <a:lnTo>
                  <a:pt x="28" y="271"/>
                </a:lnTo>
                <a:lnTo>
                  <a:pt x="0" y="17"/>
                </a:lnTo>
                <a:close/>
              </a:path>
            </a:pathLst>
          </a:custGeom>
          <a:solidFill>
            <a:srgbClr val="8a478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5" name=""/>
          <p:cNvSpPr/>
          <p:nvPr/>
        </p:nvSpPr>
        <p:spPr>
          <a:xfrm>
            <a:off x="4479840" y="3079800"/>
            <a:ext cx="1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6" name=""/>
          <p:cNvSpPr/>
          <p:nvPr/>
        </p:nvSpPr>
        <p:spPr>
          <a:xfrm>
            <a:off x="4521240" y="348300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7" name=""/>
          <p:cNvSpPr/>
          <p:nvPr/>
        </p:nvSpPr>
        <p:spPr>
          <a:xfrm>
            <a:off x="4264200" y="351000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 flipH="1">
            <a:off x="5265360" y="3009960"/>
            <a:ext cx="414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>
            <a:off x="5265720" y="301464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 flipH="1">
            <a:off x="5223960" y="3014640"/>
            <a:ext cx="41400" cy="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1" name=""/>
          <p:cNvSpPr/>
          <p:nvPr/>
        </p:nvSpPr>
        <p:spPr>
          <a:xfrm>
            <a:off x="5224320" y="3017880"/>
            <a:ext cx="1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 flipH="1">
            <a:off x="5179680" y="3017880"/>
            <a:ext cx="442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5180040" y="301788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>
            <a:off x="5180040" y="301788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>
            <a:off x="5180040" y="301788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 flipH="1">
            <a:off x="5138280" y="3017880"/>
            <a:ext cx="41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7" name=""/>
          <p:cNvSpPr/>
          <p:nvPr/>
        </p:nvSpPr>
        <p:spPr>
          <a:xfrm>
            <a:off x="5138640" y="3017880"/>
            <a:ext cx="1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8" name=""/>
          <p:cNvSpPr/>
          <p:nvPr/>
        </p:nvSpPr>
        <p:spPr>
          <a:xfrm flipH="1" flipV="1">
            <a:off x="5094000" y="3014280"/>
            <a:ext cx="44280" cy="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9" name=""/>
          <p:cNvSpPr/>
          <p:nvPr/>
        </p:nvSpPr>
        <p:spPr>
          <a:xfrm>
            <a:off x="5094360" y="301464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 flipH="1" flipV="1">
            <a:off x="5056200" y="3009600"/>
            <a:ext cx="381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>
            <a:off x="5056200" y="3009960"/>
            <a:ext cx="1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 flipH="1" flipV="1">
            <a:off x="5014440" y="2999880"/>
            <a:ext cx="41400" cy="9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3" name=""/>
          <p:cNvSpPr/>
          <p:nvPr/>
        </p:nvSpPr>
        <p:spPr>
          <a:xfrm>
            <a:off x="5045040" y="3013200"/>
            <a:ext cx="258840" cy="404640"/>
          </a:xfrm>
          <a:prstGeom prst="rect">
            <a:avLst/>
          </a:prstGeom>
          <a:solidFill>
            <a:srgbClr val="8a478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4" name=""/>
          <p:cNvSpPr/>
          <p:nvPr/>
        </p:nvSpPr>
        <p:spPr>
          <a:xfrm>
            <a:off x="5308560" y="3017880"/>
            <a:ext cx="1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5308560" y="3424320"/>
            <a:ext cx="1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6" name=""/>
          <p:cNvSpPr/>
          <p:nvPr/>
        </p:nvSpPr>
        <p:spPr>
          <a:xfrm>
            <a:off x="5049720" y="3424320"/>
            <a:ext cx="1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7" name=""/>
          <p:cNvSpPr/>
          <p:nvPr/>
        </p:nvSpPr>
        <p:spPr>
          <a:xfrm>
            <a:off x="5049720" y="3017880"/>
            <a:ext cx="1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8" name=""/>
          <p:cNvSpPr/>
          <p:nvPr/>
        </p:nvSpPr>
        <p:spPr>
          <a:xfrm>
            <a:off x="6377040" y="2685960"/>
            <a:ext cx="309600" cy="479520"/>
          </a:xfrm>
          <a:custGeom>
            <a:avLst/>
            <a:gdLst/>
            <a:ahLst/>
            <a:rect l="l" t="t" r="r" b="b"/>
            <a:pathLst>
              <a:path w="195" h="302">
                <a:moveTo>
                  <a:pt x="138" y="302"/>
                </a:moveTo>
                <a:lnTo>
                  <a:pt x="0" y="272"/>
                </a:lnTo>
                <a:lnTo>
                  <a:pt x="58" y="0"/>
                </a:lnTo>
                <a:lnTo>
                  <a:pt x="195" y="29"/>
                </a:lnTo>
                <a:lnTo>
                  <a:pt x="138" y="302"/>
                </a:lnTo>
                <a:close/>
              </a:path>
            </a:pathLst>
          </a:custGeom>
          <a:solidFill>
            <a:srgbClr val="c1c2c1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9" name=""/>
          <p:cNvSpPr/>
          <p:nvPr/>
        </p:nvSpPr>
        <p:spPr>
          <a:xfrm>
            <a:off x="6880320" y="2852640"/>
            <a:ext cx="336600" cy="488880"/>
          </a:xfrm>
          <a:custGeom>
            <a:avLst/>
            <a:gdLst/>
            <a:ahLst/>
            <a:rect l="l" t="t" r="r" b="b"/>
            <a:pathLst>
              <a:path w="212" h="308">
                <a:moveTo>
                  <a:pt x="134" y="308"/>
                </a:moveTo>
                <a:lnTo>
                  <a:pt x="0" y="269"/>
                </a:lnTo>
                <a:lnTo>
                  <a:pt x="76" y="0"/>
                </a:lnTo>
                <a:lnTo>
                  <a:pt x="212" y="39"/>
                </a:lnTo>
                <a:lnTo>
                  <a:pt x="134" y="308"/>
                </a:lnTo>
                <a:close/>
              </a:path>
            </a:pathLst>
          </a:custGeom>
          <a:solidFill>
            <a:srgbClr val="c1c2c1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0" name=""/>
          <p:cNvSpPr/>
          <p:nvPr/>
        </p:nvSpPr>
        <p:spPr>
          <a:xfrm>
            <a:off x="6656040" y="2200320"/>
            <a:ext cx="224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H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>
            <a:off x="6858720" y="205092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+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2" name=""/>
          <p:cNvSpPr/>
          <p:nvPr/>
        </p:nvSpPr>
        <p:spPr>
          <a:xfrm>
            <a:off x="3957120" y="3909960"/>
            <a:ext cx="224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H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3" name=""/>
          <p:cNvSpPr/>
          <p:nvPr/>
        </p:nvSpPr>
        <p:spPr>
          <a:xfrm>
            <a:off x="4160160" y="376092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+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4" name=""/>
          <p:cNvSpPr/>
          <p:nvPr/>
        </p:nvSpPr>
        <p:spPr>
          <a:xfrm>
            <a:off x="7191000" y="2359080"/>
            <a:ext cx="224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H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5" name=""/>
          <p:cNvSpPr/>
          <p:nvPr/>
        </p:nvSpPr>
        <p:spPr>
          <a:xfrm>
            <a:off x="7395480" y="220968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+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>
            <a:off x="1523880" y="2514600"/>
            <a:ext cx="657360" cy="457200"/>
          </a:xfrm>
          <a:prstGeom prst="line">
            <a:avLst/>
          </a:prstGeom>
          <a:ln w="100080">
            <a:solidFill>
              <a:srgbClr val="ffe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7" name=""/>
          <p:cNvSpPr/>
          <p:nvPr/>
        </p:nvSpPr>
        <p:spPr>
          <a:xfrm>
            <a:off x="2062080" y="2852640"/>
            <a:ext cx="309600" cy="265320"/>
          </a:xfrm>
          <a:custGeom>
            <a:avLst/>
            <a:gdLst/>
            <a:ahLst/>
            <a:rect l="l" t="t" r="r" b="b"/>
            <a:pathLst>
              <a:path w="195" h="167">
                <a:moveTo>
                  <a:pt x="195" y="167"/>
                </a:moveTo>
                <a:lnTo>
                  <a:pt x="0" y="115"/>
                </a:lnTo>
                <a:lnTo>
                  <a:pt x="78" y="0"/>
                </a:lnTo>
                <a:lnTo>
                  <a:pt x="195" y="167"/>
                </a:lnTo>
                <a:close/>
              </a:path>
            </a:pathLst>
          </a:custGeom>
          <a:solidFill>
            <a:srgbClr val="ff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8" name=""/>
          <p:cNvSpPr/>
          <p:nvPr/>
        </p:nvSpPr>
        <p:spPr>
          <a:xfrm>
            <a:off x="1981080" y="2514600"/>
            <a:ext cx="655920" cy="455760"/>
          </a:xfrm>
          <a:prstGeom prst="line">
            <a:avLst/>
          </a:prstGeom>
          <a:ln w="100080">
            <a:solidFill>
              <a:srgbClr val="ffe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9" name=""/>
          <p:cNvSpPr/>
          <p:nvPr/>
        </p:nvSpPr>
        <p:spPr>
          <a:xfrm>
            <a:off x="2546280" y="2868480"/>
            <a:ext cx="311400" cy="265320"/>
          </a:xfrm>
          <a:custGeom>
            <a:avLst/>
            <a:gdLst/>
            <a:ahLst/>
            <a:rect l="l" t="t" r="r" b="b"/>
            <a:pathLst>
              <a:path w="196" h="167">
                <a:moveTo>
                  <a:pt x="196" y="167"/>
                </a:moveTo>
                <a:lnTo>
                  <a:pt x="0" y="115"/>
                </a:lnTo>
                <a:lnTo>
                  <a:pt x="79" y="0"/>
                </a:lnTo>
                <a:lnTo>
                  <a:pt x="196" y="167"/>
                </a:lnTo>
                <a:close/>
              </a:path>
            </a:pathLst>
          </a:custGeom>
          <a:solidFill>
            <a:srgbClr val="ff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>
            <a:off x="1981080" y="2133720"/>
            <a:ext cx="652680" cy="455400"/>
          </a:xfrm>
          <a:prstGeom prst="line">
            <a:avLst/>
          </a:prstGeom>
          <a:ln w="100080">
            <a:solidFill>
              <a:srgbClr val="ffe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>
            <a:off x="2489040" y="2441520"/>
            <a:ext cx="309600" cy="265320"/>
          </a:xfrm>
          <a:custGeom>
            <a:avLst/>
            <a:gdLst/>
            <a:ahLst/>
            <a:rect l="l" t="t" r="r" b="b"/>
            <a:pathLst>
              <a:path w="195" h="167">
                <a:moveTo>
                  <a:pt x="195" y="167"/>
                </a:moveTo>
                <a:lnTo>
                  <a:pt x="0" y="115"/>
                </a:lnTo>
                <a:lnTo>
                  <a:pt x="78" y="0"/>
                </a:lnTo>
                <a:lnTo>
                  <a:pt x="195" y="167"/>
                </a:lnTo>
                <a:close/>
              </a:path>
            </a:pathLst>
          </a:custGeom>
          <a:solidFill>
            <a:srgbClr val="ff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2" name=""/>
          <p:cNvSpPr/>
          <p:nvPr/>
        </p:nvSpPr>
        <p:spPr>
          <a:xfrm>
            <a:off x="2362320" y="2133720"/>
            <a:ext cx="655560" cy="455400"/>
          </a:xfrm>
          <a:prstGeom prst="line">
            <a:avLst/>
          </a:prstGeom>
          <a:ln w="100080">
            <a:solidFill>
              <a:srgbClr val="ffe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3" name=""/>
          <p:cNvSpPr/>
          <p:nvPr/>
        </p:nvSpPr>
        <p:spPr>
          <a:xfrm>
            <a:off x="2895480" y="2468520"/>
            <a:ext cx="312840" cy="263520"/>
          </a:xfrm>
          <a:custGeom>
            <a:avLst/>
            <a:gdLst/>
            <a:ahLst/>
            <a:rect l="l" t="t" r="r" b="b"/>
            <a:pathLst>
              <a:path w="197" h="166">
                <a:moveTo>
                  <a:pt x="197" y="166"/>
                </a:moveTo>
                <a:lnTo>
                  <a:pt x="0" y="113"/>
                </a:lnTo>
                <a:lnTo>
                  <a:pt x="80" y="0"/>
                </a:lnTo>
                <a:lnTo>
                  <a:pt x="197" y="166"/>
                </a:lnTo>
                <a:close/>
              </a:path>
            </a:pathLst>
          </a:custGeom>
          <a:solidFill>
            <a:srgbClr val="ff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>
            <a:off x="3138120" y="2085840"/>
            <a:ext cx="224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H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>
            <a:off x="3342600" y="193680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+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6" name=""/>
          <p:cNvSpPr/>
          <p:nvPr/>
        </p:nvSpPr>
        <p:spPr>
          <a:xfrm>
            <a:off x="3915720" y="1882800"/>
            <a:ext cx="224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H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7" name=""/>
          <p:cNvSpPr/>
          <p:nvPr/>
        </p:nvSpPr>
        <p:spPr>
          <a:xfrm>
            <a:off x="4118760" y="173340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+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4982040" y="1792440"/>
            <a:ext cx="224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H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5197320" y="164160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+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3290760" y="2417760"/>
            <a:ext cx="166680" cy="250920"/>
          </a:xfrm>
          <a:custGeom>
            <a:avLst/>
            <a:gdLst/>
            <a:ahLst/>
            <a:rect l="l" t="t" r="r" b="b"/>
            <a:pathLst>
              <a:path w="105" h="158">
                <a:moveTo>
                  <a:pt x="16" y="0"/>
                </a:moveTo>
                <a:lnTo>
                  <a:pt x="105" y="130"/>
                </a:lnTo>
                <a:lnTo>
                  <a:pt x="0" y="158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>
            <a:off x="4178160" y="2190600"/>
            <a:ext cx="171720" cy="244800"/>
          </a:xfrm>
          <a:custGeom>
            <a:avLst/>
            <a:gdLst/>
            <a:ahLst/>
            <a:rect l="l" t="t" r="r" b="b"/>
            <a:pathLst>
              <a:path w="108" h="154">
                <a:moveTo>
                  <a:pt x="39" y="0"/>
                </a:moveTo>
                <a:lnTo>
                  <a:pt x="108" y="143"/>
                </a:lnTo>
                <a:lnTo>
                  <a:pt x="0" y="154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>
            <a:off x="5087880" y="2135160"/>
            <a:ext cx="174600" cy="238320"/>
          </a:xfrm>
          <a:custGeom>
            <a:avLst/>
            <a:gdLst/>
            <a:ahLst/>
            <a:rect l="l" t="t" r="r" b="b"/>
            <a:pathLst>
              <a:path w="110" h="150">
                <a:moveTo>
                  <a:pt x="56" y="0"/>
                </a:moveTo>
                <a:lnTo>
                  <a:pt x="110" y="150"/>
                </a:lnTo>
                <a:lnTo>
                  <a:pt x="0" y="150"/>
                </a:lnTo>
                <a:lnTo>
                  <a:pt x="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3" name=""/>
          <p:cNvSpPr/>
          <p:nvPr/>
        </p:nvSpPr>
        <p:spPr>
          <a:xfrm>
            <a:off x="5773680" y="3621240"/>
            <a:ext cx="171360" cy="247320"/>
          </a:xfrm>
          <a:custGeom>
            <a:avLst/>
            <a:gdLst/>
            <a:ahLst/>
            <a:rect l="l" t="t" r="r" b="b"/>
            <a:pathLst>
              <a:path w="108" h="156">
                <a:moveTo>
                  <a:pt x="28" y="156"/>
                </a:moveTo>
                <a:lnTo>
                  <a:pt x="0" y="0"/>
                </a:lnTo>
                <a:lnTo>
                  <a:pt x="108" y="19"/>
                </a:lnTo>
                <a:lnTo>
                  <a:pt x="28" y="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>
            <a:off x="6262560" y="3727440"/>
            <a:ext cx="168480" cy="250920"/>
          </a:xfrm>
          <a:custGeom>
            <a:avLst/>
            <a:gdLst/>
            <a:ahLst/>
            <a:rect l="l" t="t" r="r" b="b"/>
            <a:pathLst>
              <a:path w="106" h="158">
                <a:moveTo>
                  <a:pt x="20" y="158"/>
                </a:moveTo>
                <a:lnTo>
                  <a:pt x="0" y="0"/>
                </a:lnTo>
                <a:lnTo>
                  <a:pt x="106" y="24"/>
                </a:lnTo>
                <a:lnTo>
                  <a:pt x="20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>
            <a:off x="6705720" y="3809880"/>
            <a:ext cx="164880" cy="250920"/>
          </a:xfrm>
          <a:custGeom>
            <a:avLst/>
            <a:gdLst/>
            <a:ahLst/>
            <a:rect l="l" t="t" r="r" b="b"/>
            <a:pathLst>
              <a:path w="104" h="158">
                <a:moveTo>
                  <a:pt x="11" y="158"/>
                </a:moveTo>
                <a:lnTo>
                  <a:pt x="0" y="0"/>
                </a:lnTo>
                <a:lnTo>
                  <a:pt x="104" y="30"/>
                </a:lnTo>
                <a:lnTo>
                  <a:pt x="11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6" name=""/>
          <p:cNvSpPr/>
          <p:nvPr/>
        </p:nvSpPr>
        <p:spPr>
          <a:xfrm>
            <a:off x="7025760" y="3863880"/>
            <a:ext cx="67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4913"/>
                </a:solidFill>
                <a:latin typeface="Geneva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7" name=""/>
          <p:cNvSpPr/>
          <p:nvPr/>
        </p:nvSpPr>
        <p:spPr>
          <a:xfrm>
            <a:off x="5751000" y="3989520"/>
            <a:ext cx="67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4913"/>
                </a:solidFill>
                <a:latin typeface="Geneva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8" name=""/>
          <p:cNvSpPr/>
          <p:nvPr/>
        </p:nvSpPr>
        <p:spPr>
          <a:xfrm>
            <a:off x="6473160" y="4268880"/>
            <a:ext cx="67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4913"/>
                </a:solidFill>
                <a:latin typeface="Geneva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9" name=""/>
          <p:cNvSpPr/>
          <p:nvPr/>
        </p:nvSpPr>
        <p:spPr>
          <a:xfrm>
            <a:off x="4754880" y="3898800"/>
            <a:ext cx="224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H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0" name=""/>
          <p:cNvSpPr/>
          <p:nvPr/>
        </p:nvSpPr>
        <p:spPr>
          <a:xfrm>
            <a:off x="4970160" y="374796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+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1" name=""/>
          <p:cNvSpPr/>
          <p:nvPr/>
        </p:nvSpPr>
        <p:spPr>
          <a:xfrm>
            <a:off x="6221880" y="2068560"/>
            <a:ext cx="224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H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2" name=""/>
          <p:cNvSpPr/>
          <p:nvPr/>
        </p:nvSpPr>
        <p:spPr>
          <a:xfrm>
            <a:off x="6435720" y="191772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+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3" name=""/>
          <p:cNvSpPr/>
          <p:nvPr/>
        </p:nvSpPr>
        <p:spPr>
          <a:xfrm>
            <a:off x="2997360" y="380880"/>
            <a:ext cx="363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e300"/>
                </a:solidFill>
                <a:uFillTx/>
                <a:latin typeface="Times New Roman"/>
              </a:rPr>
              <a:t>Bacteriorhodops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4" name=""/>
          <p:cNvSpPr/>
          <p:nvPr/>
        </p:nvSpPr>
        <p:spPr>
          <a:xfrm>
            <a:off x="6268680" y="1378080"/>
            <a:ext cx="1524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300"/>
                </a:solidFill>
                <a:latin typeface="Times New Roman"/>
              </a:rPr>
              <a:t>ATPa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5" name=""/>
          <p:cNvSpPr/>
          <p:nvPr/>
        </p:nvSpPr>
        <p:spPr>
          <a:xfrm>
            <a:off x="3578400" y="1717560"/>
            <a:ext cx="224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H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6" name=""/>
          <p:cNvSpPr/>
          <p:nvPr/>
        </p:nvSpPr>
        <p:spPr>
          <a:xfrm>
            <a:off x="3794040" y="156852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+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7" name=""/>
          <p:cNvSpPr/>
          <p:nvPr/>
        </p:nvSpPr>
        <p:spPr>
          <a:xfrm>
            <a:off x="4484880" y="1623960"/>
            <a:ext cx="224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H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8" name=""/>
          <p:cNvSpPr/>
          <p:nvPr/>
        </p:nvSpPr>
        <p:spPr>
          <a:xfrm>
            <a:off x="4700520" y="147492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eneva"/>
              </a:rPr>
              <a:t>+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9" name=""/>
          <p:cNvSpPr/>
          <p:nvPr/>
        </p:nvSpPr>
        <p:spPr>
          <a:xfrm>
            <a:off x="762480" y="1600200"/>
            <a:ext cx="989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300"/>
                </a:solidFill>
                <a:latin typeface="Times New Roman"/>
              </a:rPr>
              <a:t>L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0" name=""/>
          <p:cNvSpPr/>
          <p:nvPr/>
        </p:nvSpPr>
        <p:spPr>
          <a:xfrm>
            <a:off x="5648400" y="3000240"/>
            <a:ext cx="534960" cy="534960"/>
          </a:xfrm>
          <a:custGeom>
            <a:avLst/>
            <a:gdLst/>
            <a:ahLst/>
            <a:rect l="l" t="t" r="r" b="b"/>
            <a:pathLst>
              <a:path w="337" h="337">
                <a:moveTo>
                  <a:pt x="1" y="139"/>
                </a:moveTo>
                <a:lnTo>
                  <a:pt x="5" y="122"/>
                </a:lnTo>
                <a:lnTo>
                  <a:pt x="11" y="106"/>
                </a:lnTo>
                <a:lnTo>
                  <a:pt x="18" y="91"/>
                </a:lnTo>
                <a:lnTo>
                  <a:pt x="26" y="76"/>
                </a:lnTo>
                <a:lnTo>
                  <a:pt x="37" y="63"/>
                </a:lnTo>
                <a:lnTo>
                  <a:pt x="46" y="52"/>
                </a:lnTo>
                <a:lnTo>
                  <a:pt x="59" y="41"/>
                </a:lnTo>
                <a:lnTo>
                  <a:pt x="72" y="30"/>
                </a:lnTo>
                <a:lnTo>
                  <a:pt x="85" y="22"/>
                </a:lnTo>
                <a:lnTo>
                  <a:pt x="100" y="15"/>
                </a:lnTo>
                <a:lnTo>
                  <a:pt x="115" y="8"/>
                </a:lnTo>
                <a:lnTo>
                  <a:pt x="131" y="4"/>
                </a:lnTo>
                <a:lnTo>
                  <a:pt x="146" y="0"/>
                </a:lnTo>
                <a:lnTo>
                  <a:pt x="163" y="0"/>
                </a:lnTo>
                <a:lnTo>
                  <a:pt x="179" y="0"/>
                </a:lnTo>
                <a:lnTo>
                  <a:pt x="198" y="2"/>
                </a:lnTo>
                <a:lnTo>
                  <a:pt x="198" y="2"/>
                </a:lnTo>
                <a:lnTo>
                  <a:pt x="215" y="6"/>
                </a:lnTo>
                <a:lnTo>
                  <a:pt x="230" y="11"/>
                </a:lnTo>
                <a:lnTo>
                  <a:pt x="244" y="19"/>
                </a:lnTo>
                <a:lnTo>
                  <a:pt x="259" y="26"/>
                </a:lnTo>
                <a:lnTo>
                  <a:pt x="272" y="35"/>
                </a:lnTo>
                <a:lnTo>
                  <a:pt x="285" y="46"/>
                </a:lnTo>
                <a:lnTo>
                  <a:pt x="296" y="59"/>
                </a:lnTo>
                <a:lnTo>
                  <a:pt x="306" y="72"/>
                </a:lnTo>
                <a:lnTo>
                  <a:pt x="315" y="85"/>
                </a:lnTo>
                <a:lnTo>
                  <a:pt x="322" y="100"/>
                </a:lnTo>
                <a:lnTo>
                  <a:pt x="328" y="115"/>
                </a:lnTo>
                <a:lnTo>
                  <a:pt x="333" y="132"/>
                </a:lnTo>
                <a:lnTo>
                  <a:pt x="335" y="147"/>
                </a:lnTo>
                <a:lnTo>
                  <a:pt x="337" y="163"/>
                </a:lnTo>
                <a:lnTo>
                  <a:pt x="337" y="180"/>
                </a:lnTo>
                <a:lnTo>
                  <a:pt x="335" y="198"/>
                </a:lnTo>
                <a:lnTo>
                  <a:pt x="335" y="198"/>
                </a:lnTo>
                <a:lnTo>
                  <a:pt x="330" y="215"/>
                </a:lnTo>
                <a:lnTo>
                  <a:pt x="324" y="230"/>
                </a:lnTo>
                <a:lnTo>
                  <a:pt x="318" y="245"/>
                </a:lnTo>
                <a:lnTo>
                  <a:pt x="309" y="260"/>
                </a:lnTo>
                <a:lnTo>
                  <a:pt x="300" y="273"/>
                </a:lnTo>
                <a:lnTo>
                  <a:pt x="289" y="286"/>
                </a:lnTo>
                <a:lnTo>
                  <a:pt x="278" y="297"/>
                </a:lnTo>
                <a:lnTo>
                  <a:pt x="265" y="306"/>
                </a:lnTo>
                <a:lnTo>
                  <a:pt x="252" y="315"/>
                </a:lnTo>
                <a:lnTo>
                  <a:pt x="237" y="323"/>
                </a:lnTo>
                <a:lnTo>
                  <a:pt x="222" y="328"/>
                </a:lnTo>
                <a:lnTo>
                  <a:pt x="205" y="334"/>
                </a:lnTo>
                <a:lnTo>
                  <a:pt x="189" y="336"/>
                </a:lnTo>
                <a:lnTo>
                  <a:pt x="172" y="337"/>
                </a:lnTo>
                <a:lnTo>
                  <a:pt x="155" y="337"/>
                </a:lnTo>
                <a:lnTo>
                  <a:pt x="139" y="334"/>
                </a:lnTo>
                <a:lnTo>
                  <a:pt x="139" y="334"/>
                </a:lnTo>
                <a:lnTo>
                  <a:pt x="122" y="330"/>
                </a:lnTo>
                <a:lnTo>
                  <a:pt x="105" y="325"/>
                </a:lnTo>
                <a:lnTo>
                  <a:pt x="90" y="319"/>
                </a:lnTo>
                <a:lnTo>
                  <a:pt x="76" y="310"/>
                </a:lnTo>
                <a:lnTo>
                  <a:pt x="63" y="300"/>
                </a:lnTo>
                <a:lnTo>
                  <a:pt x="52" y="289"/>
                </a:lnTo>
                <a:lnTo>
                  <a:pt x="40" y="278"/>
                </a:lnTo>
                <a:lnTo>
                  <a:pt x="29" y="265"/>
                </a:lnTo>
                <a:lnTo>
                  <a:pt x="22" y="252"/>
                </a:lnTo>
                <a:lnTo>
                  <a:pt x="14" y="237"/>
                </a:lnTo>
                <a:lnTo>
                  <a:pt x="7" y="221"/>
                </a:lnTo>
                <a:lnTo>
                  <a:pt x="3" y="206"/>
                </a:lnTo>
                <a:lnTo>
                  <a:pt x="0" y="189"/>
                </a:lnTo>
                <a:lnTo>
                  <a:pt x="0" y="173"/>
                </a:lnTo>
                <a:lnTo>
                  <a:pt x="0" y="156"/>
                </a:lnTo>
                <a:lnTo>
                  <a:pt x="1" y="139"/>
                </a:lnTo>
                <a:close/>
              </a:path>
            </a:pathLst>
          </a:custGeom>
          <a:solidFill>
            <a:srgbClr val="c1c2c1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1" name=""/>
          <p:cNvSpPr/>
          <p:nvPr/>
        </p:nvSpPr>
        <p:spPr>
          <a:xfrm>
            <a:off x="3063960" y="2832120"/>
            <a:ext cx="826920" cy="465120"/>
          </a:xfrm>
          <a:custGeom>
            <a:avLst/>
            <a:gdLst/>
            <a:ahLst/>
            <a:rect l="l" t="t" r="r" b="b"/>
            <a:pathLst>
              <a:path w="521" h="293">
                <a:moveTo>
                  <a:pt x="519" y="78"/>
                </a:moveTo>
                <a:lnTo>
                  <a:pt x="521" y="91"/>
                </a:lnTo>
                <a:lnTo>
                  <a:pt x="521" y="104"/>
                </a:lnTo>
                <a:lnTo>
                  <a:pt x="517" y="119"/>
                </a:lnTo>
                <a:lnTo>
                  <a:pt x="512" y="134"/>
                </a:lnTo>
                <a:lnTo>
                  <a:pt x="504" y="147"/>
                </a:lnTo>
                <a:lnTo>
                  <a:pt x="495" y="162"/>
                </a:lnTo>
                <a:lnTo>
                  <a:pt x="482" y="177"/>
                </a:lnTo>
                <a:lnTo>
                  <a:pt x="467" y="190"/>
                </a:lnTo>
                <a:lnTo>
                  <a:pt x="450" y="203"/>
                </a:lnTo>
                <a:lnTo>
                  <a:pt x="434" y="216"/>
                </a:lnTo>
                <a:lnTo>
                  <a:pt x="413" y="228"/>
                </a:lnTo>
                <a:lnTo>
                  <a:pt x="393" y="240"/>
                </a:lnTo>
                <a:lnTo>
                  <a:pt x="371" y="251"/>
                </a:lnTo>
                <a:lnTo>
                  <a:pt x="347" y="260"/>
                </a:lnTo>
                <a:lnTo>
                  <a:pt x="321" y="269"/>
                </a:lnTo>
                <a:lnTo>
                  <a:pt x="295" y="277"/>
                </a:lnTo>
                <a:lnTo>
                  <a:pt x="295" y="277"/>
                </a:lnTo>
                <a:lnTo>
                  <a:pt x="269" y="282"/>
                </a:lnTo>
                <a:lnTo>
                  <a:pt x="243" y="288"/>
                </a:lnTo>
                <a:lnTo>
                  <a:pt x="217" y="292"/>
                </a:lnTo>
                <a:lnTo>
                  <a:pt x="193" y="293"/>
                </a:lnTo>
                <a:lnTo>
                  <a:pt x="169" y="293"/>
                </a:lnTo>
                <a:lnTo>
                  <a:pt x="144" y="293"/>
                </a:lnTo>
                <a:lnTo>
                  <a:pt x="122" y="292"/>
                </a:lnTo>
                <a:lnTo>
                  <a:pt x="102" y="288"/>
                </a:lnTo>
                <a:lnTo>
                  <a:pt x="83" y="282"/>
                </a:lnTo>
                <a:lnTo>
                  <a:pt x="65" y="277"/>
                </a:lnTo>
                <a:lnTo>
                  <a:pt x="50" y="269"/>
                </a:lnTo>
                <a:lnTo>
                  <a:pt x="35" y="262"/>
                </a:lnTo>
                <a:lnTo>
                  <a:pt x="24" y="251"/>
                </a:lnTo>
                <a:lnTo>
                  <a:pt x="15" y="241"/>
                </a:lnTo>
                <a:lnTo>
                  <a:pt x="7" y="228"/>
                </a:lnTo>
                <a:lnTo>
                  <a:pt x="2" y="216"/>
                </a:lnTo>
                <a:lnTo>
                  <a:pt x="2" y="216"/>
                </a:lnTo>
                <a:lnTo>
                  <a:pt x="0" y="203"/>
                </a:lnTo>
                <a:lnTo>
                  <a:pt x="0" y="190"/>
                </a:lnTo>
                <a:lnTo>
                  <a:pt x="4" y="175"/>
                </a:lnTo>
                <a:lnTo>
                  <a:pt x="9" y="160"/>
                </a:lnTo>
                <a:lnTo>
                  <a:pt x="16" y="147"/>
                </a:lnTo>
                <a:lnTo>
                  <a:pt x="28" y="132"/>
                </a:lnTo>
                <a:lnTo>
                  <a:pt x="39" y="119"/>
                </a:lnTo>
                <a:lnTo>
                  <a:pt x="54" y="104"/>
                </a:lnTo>
                <a:lnTo>
                  <a:pt x="70" y="91"/>
                </a:lnTo>
                <a:lnTo>
                  <a:pt x="87" y="78"/>
                </a:lnTo>
                <a:lnTo>
                  <a:pt x="107" y="67"/>
                </a:lnTo>
                <a:lnTo>
                  <a:pt x="128" y="54"/>
                </a:lnTo>
                <a:lnTo>
                  <a:pt x="150" y="45"/>
                </a:lnTo>
                <a:lnTo>
                  <a:pt x="174" y="34"/>
                </a:lnTo>
                <a:lnTo>
                  <a:pt x="200" y="25"/>
                </a:lnTo>
                <a:lnTo>
                  <a:pt x="226" y="17"/>
                </a:lnTo>
                <a:lnTo>
                  <a:pt x="226" y="17"/>
                </a:lnTo>
                <a:lnTo>
                  <a:pt x="252" y="12"/>
                </a:lnTo>
                <a:lnTo>
                  <a:pt x="278" y="6"/>
                </a:lnTo>
                <a:lnTo>
                  <a:pt x="304" y="2"/>
                </a:lnTo>
                <a:lnTo>
                  <a:pt x="328" y="0"/>
                </a:lnTo>
                <a:lnTo>
                  <a:pt x="352" y="0"/>
                </a:lnTo>
                <a:lnTo>
                  <a:pt x="376" y="0"/>
                </a:lnTo>
                <a:lnTo>
                  <a:pt x="398" y="4"/>
                </a:lnTo>
                <a:lnTo>
                  <a:pt x="419" y="6"/>
                </a:lnTo>
                <a:lnTo>
                  <a:pt x="437" y="12"/>
                </a:lnTo>
                <a:lnTo>
                  <a:pt x="456" y="17"/>
                </a:lnTo>
                <a:lnTo>
                  <a:pt x="471" y="25"/>
                </a:lnTo>
                <a:lnTo>
                  <a:pt x="486" y="34"/>
                </a:lnTo>
                <a:lnTo>
                  <a:pt x="497" y="43"/>
                </a:lnTo>
                <a:lnTo>
                  <a:pt x="506" y="52"/>
                </a:lnTo>
                <a:lnTo>
                  <a:pt x="513" y="65"/>
                </a:lnTo>
                <a:lnTo>
                  <a:pt x="519" y="78"/>
                </a:lnTo>
                <a:close/>
              </a:path>
            </a:pathLst>
          </a:custGeom>
          <a:solidFill>
            <a:srgbClr val="8a478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2" name=""/>
          <p:cNvSpPr/>
          <p:nvPr/>
        </p:nvSpPr>
        <p:spPr>
          <a:xfrm>
            <a:off x="3898800" y="2658960"/>
            <a:ext cx="844560" cy="433440"/>
          </a:xfrm>
          <a:custGeom>
            <a:avLst/>
            <a:gdLst/>
            <a:ahLst/>
            <a:rect l="l" t="t" r="r" b="b"/>
            <a:pathLst>
              <a:path w="532" h="273">
                <a:moveTo>
                  <a:pt x="532" y="108"/>
                </a:moveTo>
                <a:lnTo>
                  <a:pt x="532" y="122"/>
                </a:lnTo>
                <a:lnTo>
                  <a:pt x="531" y="135"/>
                </a:lnTo>
                <a:lnTo>
                  <a:pt x="525" y="148"/>
                </a:lnTo>
                <a:lnTo>
                  <a:pt x="518" y="161"/>
                </a:lnTo>
                <a:lnTo>
                  <a:pt x="506" y="174"/>
                </a:lnTo>
                <a:lnTo>
                  <a:pt x="495" y="187"/>
                </a:lnTo>
                <a:lnTo>
                  <a:pt x="481" y="198"/>
                </a:lnTo>
                <a:lnTo>
                  <a:pt x="464" y="210"/>
                </a:lnTo>
                <a:lnTo>
                  <a:pt x="447" y="221"/>
                </a:lnTo>
                <a:lnTo>
                  <a:pt x="427" y="230"/>
                </a:lnTo>
                <a:lnTo>
                  <a:pt x="405" y="239"/>
                </a:lnTo>
                <a:lnTo>
                  <a:pt x="382" y="249"/>
                </a:lnTo>
                <a:lnTo>
                  <a:pt x="358" y="254"/>
                </a:lnTo>
                <a:lnTo>
                  <a:pt x="334" y="261"/>
                </a:lnTo>
                <a:lnTo>
                  <a:pt x="308" y="265"/>
                </a:lnTo>
                <a:lnTo>
                  <a:pt x="280" y="269"/>
                </a:lnTo>
                <a:lnTo>
                  <a:pt x="280" y="269"/>
                </a:lnTo>
                <a:lnTo>
                  <a:pt x="252" y="271"/>
                </a:lnTo>
                <a:lnTo>
                  <a:pt x="227" y="273"/>
                </a:lnTo>
                <a:lnTo>
                  <a:pt x="201" y="271"/>
                </a:lnTo>
                <a:lnTo>
                  <a:pt x="176" y="269"/>
                </a:lnTo>
                <a:lnTo>
                  <a:pt x="152" y="267"/>
                </a:lnTo>
                <a:lnTo>
                  <a:pt x="130" y="261"/>
                </a:lnTo>
                <a:lnTo>
                  <a:pt x="108" y="256"/>
                </a:lnTo>
                <a:lnTo>
                  <a:pt x="87" y="250"/>
                </a:lnTo>
                <a:lnTo>
                  <a:pt x="71" y="243"/>
                </a:lnTo>
                <a:lnTo>
                  <a:pt x="54" y="234"/>
                </a:lnTo>
                <a:lnTo>
                  <a:pt x="39" y="224"/>
                </a:lnTo>
                <a:lnTo>
                  <a:pt x="26" y="213"/>
                </a:lnTo>
                <a:lnTo>
                  <a:pt x="17" y="202"/>
                </a:lnTo>
                <a:lnTo>
                  <a:pt x="8" y="189"/>
                </a:lnTo>
                <a:lnTo>
                  <a:pt x="2" y="178"/>
                </a:lnTo>
                <a:lnTo>
                  <a:pt x="0" y="163"/>
                </a:lnTo>
                <a:lnTo>
                  <a:pt x="0" y="163"/>
                </a:lnTo>
                <a:lnTo>
                  <a:pt x="0" y="150"/>
                </a:lnTo>
                <a:lnTo>
                  <a:pt x="2" y="137"/>
                </a:lnTo>
                <a:lnTo>
                  <a:pt x="8" y="122"/>
                </a:lnTo>
                <a:lnTo>
                  <a:pt x="15" y="109"/>
                </a:lnTo>
                <a:lnTo>
                  <a:pt x="26" y="97"/>
                </a:lnTo>
                <a:lnTo>
                  <a:pt x="37" y="85"/>
                </a:lnTo>
                <a:lnTo>
                  <a:pt x="52" y="72"/>
                </a:lnTo>
                <a:lnTo>
                  <a:pt x="69" y="61"/>
                </a:lnTo>
                <a:lnTo>
                  <a:pt x="87" y="52"/>
                </a:lnTo>
                <a:lnTo>
                  <a:pt x="106" y="41"/>
                </a:lnTo>
                <a:lnTo>
                  <a:pt x="128" y="32"/>
                </a:lnTo>
                <a:lnTo>
                  <a:pt x="151" y="24"/>
                </a:lnTo>
                <a:lnTo>
                  <a:pt x="175" y="17"/>
                </a:lnTo>
                <a:lnTo>
                  <a:pt x="199" y="11"/>
                </a:lnTo>
                <a:lnTo>
                  <a:pt x="225" y="6"/>
                </a:lnTo>
                <a:lnTo>
                  <a:pt x="252" y="2"/>
                </a:lnTo>
                <a:lnTo>
                  <a:pt x="252" y="2"/>
                </a:lnTo>
                <a:lnTo>
                  <a:pt x="280" y="0"/>
                </a:lnTo>
                <a:lnTo>
                  <a:pt x="306" y="0"/>
                </a:lnTo>
                <a:lnTo>
                  <a:pt x="332" y="0"/>
                </a:lnTo>
                <a:lnTo>
                  <a:pt x="356" y="2"/>
                </a:lnTo>
                <a:lnTo>
                  <a:pt x="380" y="6"/>
                </a:lnTo>
                <a:lnTo>
                  <a:pt x="403" y="9"/>
                </a:lnTo>
                <a:lnTo>
                  <a:pt x="425" y="15"/>
                </a:lnTo>
                <a:lnTo>
                  <a:pt x="445" y="22"/>
                </a:lnTo>
                <a:lnTo>
                  <a:pt x="462" y="30"/>
                </a:lnTo>
                <a:lnTo>
                  <a:pt x="479" y="39"/>
                </a:lnTo>
                <a:lnTo>
                  <a:pt x="494" y="48"/>
                </a:lnTo>
                <a:lnTo>
                  <a:pt x="506" y="59"/>
                </a:lnTo>
                <a:lnTo>
                  <a:pt x="518" y="71"/>
                </a:lnTo>
                <a:lnTo>
                  <a:pt x="525" y="82"/>
                </a:lnTo>
                <a:lnTo>
                  <a:pt x="531" y="95"/>
                </a:lnTo>
                <a:lnTo>
                  <a:pt x="532" y="108"/>
                </a:lnTo>
                <a:close/>
              </a:path>
            </a:pathLst>
          </a:custGeom>
          <a:solidFill>
            <a:srgbClr val="8a478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3" name=""/>
          <p:cNvSpPr/>
          <p:nvPr/>
        </p:nvSpPr>
        <p:spPr>
          <a:xfrm>
            <a:off x="4749840" y="2589120"/>
            <a:ext cx="851040" cy="424080"/>
          </a:xfrm>
          <a:custGeom>
            <a:avLst/>
            <a:gdLst/>
            <a:ahLst/>
            <a:rect l="l" t="t" r="r" b="b"/>
            <a:pathLst>
              <a:path w="536" h="267">
                <a:moveTo>
                  <a:pt x="536" y="133"/>
                </a:moveTo>
                <a:lnTo>
                  <a:pt x="534" y="146"/>
                </a:lnTo>
                <a:lnTo>
                  <a:pt x="530" y="159"/>
                </a:lnTo>
                <a:lnTo>
                  <a:pt x="523" y="172"/>
                </a:lnTo>
                <a:lnTo>
                  <a:pt x="514" y="185"/>
                </a:lnTo>
                <a:lnTo>
                  <a:pt x="503" y="196"/>
                </a:lnTo>
                <a:lnTo>
                  <a:pt x="490" y="207"/>
                </a:lnTo>
                <a:lnTo>
                  <a:pt x="475" y="218"/>
                </a:lnTo>
                <a:lnTo>
                  <a:pt x="456" y="228"/>
                </a:lnTo>
                <a:lnTo>
                  <a:pt x="438" y="235"/>
                </a:lnTo>
                <a:lnTo>
                  <a:pt x="417" y="244"/>
                </a:lnTo>
                <a:lnTo>
                  <a:pt x="395" y="250"/>
                </a:lnTo>
                <a:lnTo>
                  <a:pt x="371" y="255"/>
                </a:lnTo>
                <a:lnTo>
                  <a:pt x="347" y="261"/>
                </a:lnTo>
                <a:lnTo>
                  <a:pt x="321" y="265"/>
                </a:lnTo>
                <a:lnTo>
                  <a:pt x="295" y="267"/>
                </a:lnTo>
                <a:lnTo>
                  <a:pt x="267" y="267"/>
                </a:lnTo>
                <a:lnTo>
                  <a:pt x="267" y="267"/>
                </a:lnTo>
                <a:lnTo>
                  <a:pt x="241" y="267"/>
                </a:lnTo>
                <a:lnTo>
                  <a:pt x="213" y="265"/>
                </a:lnTo>
                <a:lnTo>
                  <a:pt x="189" y="261"/>
                </a:lnTo>
                <a:lnTo>
                  <a:pt x="163" y="255"/>
                </a:lnTo>
                <a:lnTo>
                  <a:pt x="141" y="250"/>
                </a:lnTo>
                <a:lnTo>
                  <a:pt x="119" y="244"/>
                </a:lnTo>
                <a:lnTo>
                  <a:pt x="98" y="235"/>
                </a:lnTo>
                <a:lnTo>
                  <a:pt x="78" y="228"/>
                </a:lnTo>
                <a:lnTo>
                  <a:pt x="61" y="218"/>
                </a:lnTo>
                <a:lnTo>
                  <a:pt x="46" y="207"/>
                </a:lnTo>
                <a:lnTo>
                  <a:pt x="34" y="196"/>
                </a:lnTo>
                <a:lnTo>
                  <a:pt x="21" y="185"/>
                </a:lnTo>
                <a:lnTo>
                  <a:pt x="13" y="172"/>
                </a:lnTo>
                <a:lnTo>
                  <a:pt x="6" y="159"/>
                </a:lnTo>
                <a:lnTo>
                  <a:pt x="2" y="146"/>
                </a:lnTo>
                <a:lnTo>
                  <a:pt x="0" y="133"/>
                </a:lnTo>
                <a:lnTo>
                  <a:pt x="0" y="133"/>
                </a:lnTo>
                <a:lnTo>
                  <a:pt x="2" y="118"/>
                </a:lnTo>
                <a:lnTo>
                  <a:pt x="6" y="105"/>
                </a:lnTo>
                <a:lnTo>
                  <a:pt x="13" y="92"/>
                </a:lnTo>
                <a:lnTo>
                  <a:pt x="21" y="81"/>
                </a:lnTo>
                <a:lnTo>
                  <a:pt x="34" y="68"/>
                </a:lnTo>
                <a:lnTo>
                  <a:pt x="46" y="59"/>
                </a:lnTo>
                <a:lnTo>
                  <a:pt x="61" y="48"/>
                </a:lnTo>
                <a:lnTo>
                  <a:pt x="78" y="39"/>
                </a:lnTo>
                <a:lnTo>
                  <a:pt x="98" y="29"/>
                </a:lnTo>
                <a:lnTo>
                  <a:pt x="119" y="22"/>
                </a:lnTo>
                <a:lnTo>
                  <a:pt x="141" y="14"/>
                </a:lnTo>
                <a:lnTo>
                  <a:pt x="163" y="9"/>
                </a:lnTo>
                <a:lnTo>
                  <a:pt x="189" y="5"/>
                </a:lnTo>
                <a:lnTo>
                  <a:pt x="213" y="2"/>
                </a:lnTo>
                <a:lnTo>
                  <a:pt x="241" y="0"/>
                </a:lnTo>
                <a:lnTo>
                  <a:pt x="267" y="0"/>
                </a:lnTo>
                <a:lnTo>
                  <a:pt x="267" y="0"/>
                </a:lnTo>
                <a:lnTo>
                  <a:pt x="295" y="0"/>
                </a:lnTo>
                <a:lnTo>
                  <a:pt x="321" y="2"/>
                </a:lnTo>
                <a:lnTo>
                  <a:pt x="347" y="5"/>
                </a:lnTo>
                <a:lnTo>
                  <a:pt x="371" y="9"/>
                </a:lnTo>
                <a:lnTo>
                  <a:pt x="395" y="14"/>
                </a:lnTo>
                <a:lnTo>
                  <a:pt x="417" y="22"/>
                </a:lnTo>
                <a:lnTo>
                  <a:pt x="438" y="29"/>
                </a:lnTo>
                <a:lnTo>
                  <a:pt x="456" y="39"/>
                </a:lnTo>
                <a:lnTo>
                  <a:pt x="475" y="48"/>
                </a:lnTo>
                <a:lnTo>
                  <a:pt x="490" y="59"/>
                </a:lnTo>
                <a:lnTo>
                  <a:pt x="503" y="68"/>
                </a:lnTo>
                <a:lnTo>
                  <a:pt x="514" y="81"/>
                </a:lnTo>
                <a:lnTo>
                  <a:pt x="523" y="92"/>
                </a:lnTo>
                <a:lnTo>
                  <a:pt x="530" y="105"/>
                </a:lnTo>
                <a:lnTo>
                  <a:pt x="534" y="118"/>
                </a:lnTo>
                <a:lnTo>
                  <a:pt x="536" y="133"/>
                </a:lnTo>
                <a:close/>
              </a:path>
            </a:pathLst>
          </a:custGeom>
          <a:solidFill>
            <a:srgbClr val="8a4787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4" name=""/>
          <p:cNvSpPr/>
          <p:nvPr/>
        </p:nvSpPr>
        <p:spPr>
          <a:xfrm>
            <a:off x="6156360" y="3117960"/>
            <a:ext cx="536400" cy="536400"/>
          </a:xfrm>
          <a:custGeom>
            <a:avLst/>
            <a:gdLst/>
            <a:ahLst/>
            <a:rect l="l" t="t" r="r" b="b"/>
            <a:pathLst>
              <a:path w="338" h="338">
                <a:moveTo>
                  <a:pt x="4" y="134"/>
                </a:moveTo>
                <a:lnTo>
                  <a:pt x="8" y="117"/>
                </a:lnTo>
                <a:lnTo>
                  <a:pt x="15" y="100"/>
                </a:lnTo>
                <a:lnTo>
                  <a:pt x="23" y="86"/>
                </a:lnTo>
                <a:lnTo>
                  <a:pt x="30" y="73"/>
                </a:lnTo>
                <a:lnTo>
                  <a:pt x="41" y="60"/>
                </a:lnTo>
                <a:lnTo>
                  <a:pt x="52" y="47"/>
                </a:lnTo>
                <a:lnTo>
                  <a:pt x="63" y="36"/>
                </a:lnTo>
                <a:lnTo>
                  <a:pt x="78" y="26"/>
                </a:lnTo>
                <a:lnTo>
                  <a:pt x="91" y="19"/>
                </a:lnTo>
                <a:lnTo>
                  <a:pt x="106" y="11"/>
                </a:lnTo>
                <a:lnTo>
                  <a:pt x="121" y="6"/>
                </a:lnTo>
                <a:lnTo>
                  <a:pt x="138" y="2"/>
                </a:lnTo>
                <a:lnTo>
                  <a:pt x="154" y="0"/>
                </a:lnTo>
                <a:lnTo>
                  <a:pt x="171" y="0"/>
                </a:lnTo>
                <a:lnTo>
                  <a:pt x="188" y="0"/>
                </a:lnTo>
                <a:lnTo>
                  <a:pt x="204" y="4"/>
                </a:lnTo>
                <a:lnTo>
                  <a:pt x="204" y="4"/>
                </a:lnTo>
                <a:lnTo>
                  <a:pt x="221" y="8"/>
                </a:lnTo>
                <a:lnTo>
                  <a:pt x="236" y="13"/>
                </a:lnTo>
                <a:lnTo>
                  <a:pt x="252" y="21"/>
                </a:lnTo>
                <a:lnTo>
                  <a:pt x="265" y="30"/>
                </a:lnTo>
                <a:lnTo>
                  <a:pt x="278" y="39"/>
                </a:lnTo>
                <a:lnTo>
                  <a:pt x="290" y="50"/>
                </a:lnTo>
                <a:lnTo>
                  <a:pt x="301" y="63"/>
                </a:lnTo>
                <a:lnTo>
                  <a:pt x="310" y="76"/>
                </a:lnTo>
                <a:lnTo>
                  <a:pt x="319" y="91"/>
                </a:lnTo>
                <a:lnTo>
                  <a:pt x="325" y="106"/>
                </a:lnTo>
                <a:lnTo>
                  <a:pt x="330" y="121"/>
                </a:lnTo>
                <a:lnTo>
                  <a:pt x="334" y="136"/>
                </a:lnTo>
                <a:lnTo>
                  <a:pt x="338" y="152"/>
                </a:lnTo>
                <a:lnTo>
                  <a:pt x="338" y="169"/>
                </a:lnTo>
                <a:lnTo>
                  <a:pt x="338" y="186"/>
                </a:lnTo>
                <a:lnTo>
                  <a:pt x="334" y="204"/>
                </a:lnTo>
                <a:lnTo>
                  <a:pt x="334" y="204"/>
                </a:lnTo>
                <a:lnTo>
                  <a:pt x="330" y="219"/>
                </a:lnTo>
                <a:lnTo>
                  <a:pt x="325" y="236"/>
                </a:lnTo>
                <a:lnTo>
                  <a:pt x="317" y="251"/>
                </a:lnTo>
                <a:lnTo>
                  <a:pt x="308" y="265"/>
                </a:lnTo>
                <a:lnTo>
                  <a:pt x="297" y="278"/>
                </a:lnTo>
                <a:lnTo>
                  <a:pt x="286" y="289"/>
                </a:lnTo>
                <a:lnTo>
                  <a:pt x="275" y="301"/>
                </a:lnTo>
                <a:lnTo>
                  <a:pt x="262" y="310"/>
                </a:lnTo>
                <a:lnTo>
                  <a:pt x="247" y="317"/>
                </a:lnTo>
                <a:lnTo>
                  <a:pt x="232" y="325"/>
                </a:lnTo>
                <a:lnTo>
                  <a:pt x="217" y="330"/>
                </a:lnTo>
                <a:lnTo>
                  <a:pt x="201" y="334"/>
                </a:lnTo>
                <a:lnTo>
                  <a:pt x="184" y="336"/>
                </a:lnTo>
                <a:lnTo>
                  <a:pt x="167" y="338"/>
                </a:lnTo>
                <a:lnTo>
                  <a:pt x="151" y="336"/>
                </a:lnTo>
                <a:lnTo>
                  <a:pt x="134" y="334"/>
                </a:lnTo>
                <a:lnTo>
                  <a:pt x="134" y="334"/>
                </a:lnTo>
                <a:lnTo>
                  <a:pt x="117" y="328"/>
                </a:lnTo>
                <a:lnTo>
                  <a:pt x="102" y="323"/>
                </a:lnTo>
                <a:lnTo>
                  <a:pt x="87" y="315"/>
                </a:lnTo>
                <a:lnTo>
                  <a:pt x="73" y="306"/>
                </a:lnTo>
                <a:lnTo>
                  <a:pt x="60" y="297"/>
                </a:lnTo>
                <a:lnTo>
                  <a:pt x="49" y="286"/>
                </a:lnTo>
                <a:lnTo>
                  <a:pt x="37" y="273"/>
                </a:lnTo>
                <a:lnTo>
                  <a:pt x="28" y="260"/>
                </a:lnTo>
                <a:lnTo>
                  <a:pt x="19" y="247"/>
                </a:lnTo>
                <a:lnTo>
                  <a:pt x="13" y="232"/>
                </a:lnTo>
                <a:lnTo>
                  <a:pt x="8" y="215"/>
                </a:lnTo>
                <a:lnTo>
                  <a:pt x="4" y="200"/>
                </a:lnTo>
                <a:lnTo>
                  <a:pt x="0" y="184"/>
                </a:lnTo>
                <a:lnTo>
                  <a:pt x="0" y="167"/>
                </a:lnTo>
                <a:lnTo>
                  <a:pt x="2" y="150"/>
                </a:lnTo>
                <a:lnTo>
                  <a:pt x="4" y="134"/>
                </a:lnTo>
                <a:close/>
              </a:path>
            </a:pathLst>
          </a:custGeom>
          <a:solidFill>
            <a:srgbClr val="c1c2c1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5" name=""/>
          <p:cNvSpPr/>
          <p:nvPr/>
        </p:nvSpPr>
        <p:spPr>
          <a:xfrm>
            <a:off x="6642000" y="3279600"/>
            <a:ext cx="536760" cy="536760"/>
          </a:xfrm>
          <a:custGeom>
            <a:avLst/>
            <a:gdLst/>
            <a:ahLst/>
            <a:rect l="l" t="t" r="r" b="b"/>
            <a:pathLst>
              <a:path w="338" h="338">
                <a:moveTo>
                  <a:pt x="6" y="123"/>
                </a:moveTo>
                <a:lnTo>
                  <a:pt x="11" y="106"/>
                </a:lnTo>
                <a:lnTo>
                  <a:pt x="19" y="91"/>
                </a:lnTo>
                <a:lnTo>
                  <a:pt x="28" y="76"/>
                </a:lnTo>
                <a:lnTo>
                  <a:pt x="37" y="63"/>
                </a:lnTo>
                <a:lnTo>
                  <a:pt x="48" y="50"/>
                </a:lnTo>
                <a:lnTo>
                  <a:pt x="60" y="39"/>
                </a:lnTo>
                <a:lnTo>
                  <a:pt x="73" y="30"/>
                </a:lnTo>
                <a:lnTo>
                  <a:pt x="87" y="21"/>
                </a:lnTo>
                <a:lnTo>
                  <a:pt x="102" y="15"/>
                </a:lnTo>
                <a:lnTo>
                  <a:pt x="117" y="8"/>
                </a:lnTo>
                <a:lnTo>
                  <a:pt x="132" y="4"/>
                </a:lnTo>
                <a:lnTo>
                  <a:pt x="149" y="2"/>
                </a:lnTo>
                <a:lnTo>
                  <a:pt x="165" y="0"/>
                </a:lnTo>
                <a:lnTo>
                  <a:pt x="182" y="0"/>
                </a:lnTo>
                <a:lnTo>
                  <a:pt x="199" y="2"/>
                </a:lnTo>
                <a:lnTo>
                  <a:pt x="215" y="6"/>
                </a:lnTo>
                <a:lnTo>
                  <a:pt x="215" y="6"/>
                </a:lnTo>
                <a:lnTo>
                  <a:pt x="232" y="11"/>
                </a:lnTo>
                <a:lnTo>
                  <a:pt x="247" y="19"/>
                </a:lnTo>
                <a:lnTo>
                  <a:pt x="262" y="28"/>
                </a:lnTo>
                <a:lnTo>
                  <a:pt x="275" y="37"/>
                </a:lnTo>
                <a:lnTo>
                  <a:pt x="286" y="48"/>
                </a:lnTo>
                <a:lnTo>
                  <a:pt x="297" y="60"/>
                </a:lnTo>
                <a:lnTo>
                  <a:pt x="308" y="73"/>
                </a:lnTo>
                <a:lnTo>
                  <a:pt x="315" y="87"/>
                </a:lnTo>
                <a:lnTo>
                  <a:pt x="323" y="102"/>
                </a:lnTo>
                <a:lnTo>
                  <a:pt x="328" y="117"/>
                </a:lnTo>
                <a:lnTo>
                  <a:pt x="334" y="132"/>
                </a:lnTo>
                <a:lnTo>
                  <a:pt x="336" y="149"/>
                </a:lnTo>
                <a:lnTo>
                  <a:pt x="338" y="165"/>
                </a:lnTo>
                <a:lnTo>
                  <a:pt x="338" y="182"/>
                </a:lnTo>
                <a:lnTo>
                  <a:pt x="334" y="199"/>
                </a:lnTo>
                <a:lnTo>
                  <a:pt x="330" y="215"/>
                </a:lnTo>
                <a:lnTo>
                  <a:pt x="330" y="215"/>
                </a:lnTo>
                <a:lnTo>
                  <a:pt x="325" y="232"/>
                </a:lnTo>
                <a:lnTo>
                  <a:pt x="317" y="247"/>
                </a:lnTo>
                <a:lnTo>
                  <a:pt x="310" y="262"/>
                </a:lnTo>
                <a:lnTo>
                  <a:pt x="301" y="275"/>
                </a:lnTo>
                <a:lnTo>
                  <a:pt x="289" y="288"/>
                </a:lnTo>
                <a:lnTo>
                  <a:pt x="276" y="299"/>
                </a:lnTo>
                <a:lnTo>
                  <a:pt x="264" y="308"/>
                </a:lnTo>
                <a:lnTo>
                  <a:pt x="251" y="315"/>
                </a:lnTo>
                <a:lnTo>
                  <a:pt x="236" y="323"/>
                </a:lnTo>
                <a:lnTo>
                  <a:pt x="221" y="328"/>
                </a:lnTo>
                <a:lnTo>
                  <a:pt x="204" y="334"/>
                </a:lnTo>
                <a:lnTo>
                  <a:pt x="189" y="336"/>
                </a:lnTo>
                <a:lnTo>
                  <a:pt x="173" y="338"/>
                </a:lnTo>
                <a:lnTo>
                  <a:pt x="156" y="338"/>
                </a:lnTo>
                <a:lnTo>
                  <a:pt x="139" y="336"/>
                </a:lnTo>
                <a:lnTo>
                  <a:pt x="123" y="330"/>
                </a:lnTo>
                <a:lnTo>
                  <a:pt x="123" y="330"/>
                </a:lnTo>
                <a:lnTo>
                  <a:pt x="106" y="325"/>
                </a:lnTo>
                <a:lnTo>
                  <a:pt x="91" y="319"/>
                </a:lnTo>
                <a:lnTo>
                  <a:pt x="76" y="310"/>
                </a:lnTo>
                <a:lnTo>
                  <a:pt x="63" y="301"/>
                </a:lnTo>
                <a:lnTo>
                  <a:pt x="50" y="289"/>
                </a:lnTo>
                <a:lnTo>
                  <a:pt x="39" y="276"/>
                </a:lnTo>
                <a:lnTo>
                  <a:pt x="30" y="263"/>
                </a:lnTo>
                <a:lnTo>
                  <a:pt x="21" y="250"/>
                </a:lnTo>
                <a:lnTo>
                  <a:pt x="13" y="236"/>
                </a:lnTo>
                <a:lnTo>
                  <a:pt x="8" y="221"/>
                </a:lnTo>
                <a:lnTo>
                  <a:pt x="4" y="204"/>
                </a:lnTo>
                <a:lnTo>
                  <a:pt x="0" y="189"/>
                </a:lnTo>
                <a:lnTo>
                  <a:pt x="0" y="173"/>
                </a:lnTo>
                <a:lnTo>
                  <a:pt x="0" y="156"/>
                </a:lnTo>
                <a:lnTo>
                  <a:pt x="2" y="139"/>
                </a:lnTo>
                <a:lnTo>
                  <a:pt x="6" y="123"/>
                </a:lnTo>
                <a:close/>
              </a:path>
            </a:pathLst>
          </a:custGeom>
          <a:solidFill>
            <a:srgbClr val="c1c2c1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3352680" y="2590920"/>
            <a:ext cx="381240" cy="1295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4267080" y="2362320"/>
            <a:ext cx="152640" cy="137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>
            <a:off x="5181480" y="2362320"/>
            <a:ext cx="0" cy="1295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 flipV="1">
            <a:off x="5867280" y="2437920"/>
            <a:ext cx="228600" cy="12193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 flipV="1">
            <a:off x="6324480" y="2590920"/>
            <a:ext cx="304920" cy="1295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 flipV="1">
            <a:off x="6781680" y="2666520"/>
            <a:ext cx="381240" cy="12193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2" name="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13" name="" descr=""/>
          <p:cNvPicPr/>
          <p:nvPr/>
        </p:nvPicPr>
        <p:blipFill>
          <a:blip r:embed="rId2"/>
          <a:stretch/>
        </p:blipFill>
        <p:spPr>
          <a:xfrm>
            <a:off x="3352680" y="2844720"/>
            <a:ext cx="5181840" cy="3454560"/>
          </a:xfrm>
          <a:prstGeom prst="rect">
            <a:avLst/>
          </a:prstGeom>
          <a:ln w="0">
            <a:noFill/>
          </a:ln>
        </p:spPr>
      </p:pic>
      <p:sp>
        <p:nvSpPr>
          <p:cNvPr id="4914" name=""/>
          <p:cNvSpPr/>
          <p:nvPr/>
        </p:nvSpPr>
        <p:spPr>
          <a:xfrm>
            <a:off x="3352680" y="2819520"/>
            <a:ext cx="5181840" cy="350496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15" name="" descr=""/>
          <p:cNvPicPr/>
          <p:nvPr/>
        </p:nvPicPr>
        <p:blipFill>
          <a:blip r:embed="rId3"/>
          <a:stretch/>
        </p:blipFill>
        <p:spPr>
          <a:xfrm>
            <a:off x="457200" y="533520"/>
            <a:ext cx="533412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17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19" name="" descr=""/>
          <p:cNvPicPr/>
          <p:nvPr/>
        </p:nvPicPr>
        <p:blipFill>
          <a:blip r:embed="rId2"/>
          <a:stretch/>
        </p:blipFill>
        <p:spPr>
          <a:xfrm>
            <a:off x="1714680" y="176040"/>
            <a:ext cx="571500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21" name="" descr=""/>
          <p:cNvPicPr/>
          <p:nvPr/>
        </p:nvPicPr>
        <p:blipFill>
          <a:blip r:embed="rId2"/>
          <a:stretch/>
        </p:blipFill>
        <p:spPr>
          <a:xfrm>
            <a:off x="1143000" y="217440"/>
            <a:ext cx="68580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Mic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ghtf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rkf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Contr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oresc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. .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0" t="14534" r="46406" b="36396"/>
          <a:stretch/>
        </p:blipFill>
        <p:spPr>
          <a:xfrm>
            <a:off x="4930920" y="1523880"/>
            <a:ext cx="3603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 Brief History of Microbial Biolog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icroscopic Obse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ultivation and Experi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560" y="2147760"/>
            <a:ext cx="64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Few reliable morphological character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4662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66400" y="4114800"/>
            <a:ext cx="38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lecular Paradig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ultivation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rich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ol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quid me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id me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Enrich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y to encourage growth of one type of bacteria over all oth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ho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nk like a bacterium. .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Enrich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 bacteria ne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n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cce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, P, minerals, trace e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tamins and co-facto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304920"/>
            <a:ext cx="8610480" cy="6248160"/>
          </a:xfrm>
          <a:prstGeom prst="rect">
            <a:avLst/>
          </a:prstGeom>
          <a:solidFill>
            <a:srgbClr val="003300">
              <a:alpha val="60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Enrich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0880" y="1803240"/>
          <a:ext cx="8458200" cy="4067280"/>
        </p:xfrm>
        <a:graphic>
          <a:graphicData uri="http://schemas.openxmlformats.org/drawingml/2006/table">
            <a:tbl>
              <a:tblPr/>
              <a:tblGrid>
                <a:gridCol w="1595520"/>
                <a:gridCol w="2075040"/>
                <a:gridCol w="1755720"/>
                <a:gridCol w="3031920"/>
              </a:tblGrid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dono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32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accepto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-sour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ganis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36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36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nallgas bacter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36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36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lfate Reducer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36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thanogen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15:47:21Z</dcterms:created>
  <dc:creator>Marvin</dc:creator>
  <dc:description/>
  <dc:language>en-US</dc:language>
  <cp:lastModifiedBy>Dan Buckley</cp:lastModifiedBy>
  <dcterms:modified xsi:type="dcterms:W3CDTF">2006-08-01T04:40:09Z</dcterms:modified>
  <cp:revision>75</cp:revision>
  <dc:subject/>
  <dc:title>No Slide Title</dc:title>
</cp:coreProperties>
</file>