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E80-0C56-4100-A959-01BEDA82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81E-3B86-468D-9BBC-91F0A1C9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043-44C1-4158-A5CB-903F4B8B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9C7-FBC3-440A-A2A5-68586B24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1A2-6C36-4A44-AF42-60147665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269-2B33-4BD5-8ABF-F71F7155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9DD-6859-4490-B175-5ED9C5DD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9FF-3E1F-49E0-A5B4-01D0488C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3BA-35F4-4A16-A903-020C9C4D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031-FBEA-4353-A720-DAA9686E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088-4CA1-4DDD-A9D8-F76CED52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09D-B5F4-400F-993F-B15CA5F6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1D5E-FFA0-409C-8D79-F2C6F3BE5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volution.genetics.washington.edu/phylip.html" TargetMode="External"/><Relationship Id="rId2" Type="http://schemas.openxmlformats.org/officeDocument/2006/relationships/hyperlink" Target="http://paup.csit.fsu.edu/index.html" TargetMode="External"/><Relationship Id="rId3" Type="http://schemas.openxmlformats.org/officeDocument/2006/relationships/hyperlink" Target="http://www.mpi-bremen.de/molecol/arb" TargetMode="External"/><Relationship Id="rId4" Type="http://schemas.openxmlformats.org/officeDocument/2006/relationships/hyperlink" Target="http://evolution.genetics.washington.edu/phylip/software.html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lecular Phylog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hing in biology makes sense except in the light of evolutio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dosius Dobzhanshy, 19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ing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7240" y="129528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organisms based on evolutionary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mple ca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9080" y="3124080"/>
            <a:ext cx="32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es 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9080" y="3672000"/>
            <a:ext cx="32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es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9080" y="4205160"/>
            <a:ext cx="32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es 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36360" y="260496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es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634000" y="2590920"/>
            <a:ext cx="2751120" cy="2516400"/>
            <a:chOff x="5634000" y="2590920"/>
            <a:chExt cx="2751120" cy="2516400"/>
          </a:xfrm>
        </p:grpSpPr>
        <p:sp>
          <p:nvSpPr>
            <p:cNvPr id="215" name=""/>
            <p:cNvSpPr/>
            <p:nvPr/>
          </p:nvSpPr>
          <p:spPr>
            <a:xfrm>
              <a:off x="6047280" y="2590920"/>
              <a:ext cx="201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  X  Y  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34000" y="3048120"/>
              <a:ext cx="5648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3440" y="3581640"/>
              <a:ext cx="22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43440" y="4114800"/>
              <a:ext cx="22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81520" y="266724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38720" y="266724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24320" y="266724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43440" y="3124440"/>
              <a:ext cx="22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97400" y="3048120"/>
              <a:ext cx="215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   1   2   3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72240" y="266724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43440" y="4572000"/>
              <a:ext cx="22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97400" y="3535560"/>
              <a:ext cx="218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   -    2   3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97400" y="4068720"/>
              <a:ext cx="21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   -    -   1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97400" y="4525920"/>
              <a:ext cx="205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   -    -   -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409360" y="2057400"/>
            <a:ext cx="301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819160" y="5181480"/>
            <a:ext cx="1981440" cy="990360"/>
            <a:chOff x="2819160" y="5181480"/>
            <a:chExt cx="1981440" cy="990360"/>
          </a:xfrm>
        </p:grpSpPr>
        <p:grpSp>
          <p:nvGrpSpPr>
            <p:cNvPr id="231" name=""/>
            <p:cNvGrpSpPr/>
            <p:nvPr/>
          </p:nvGrpSpPr>
          <p:grpSpPr>
            <a:xfrm>
              <a:off x="2819160" y="5181480"/>
              <a:ext cx="609840" cy="990360"/>
              <a:chOff x="2819160" y="5181480"/>
              <a:chExt cx="609840" cy="990360"/>
            </a:xfrm>
          </p:grpSpPr>
          <p:sp>
            <p:nvSpPr>
              <p:cNvPr id="232" name=""/>
              <p:cNvSpPr/>
              <p:nvPr/>
            </p:nvSpPr>
            <p:spPr>
              <a:xfrm>
                <a:off x="2819520" y="5181480"/>
                <a:ext cx="6094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2819160" y="5714640"/>
                <a:ext cx="609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190760" y="5181480"/>
              <a:ext cx="609840" cy="990360"/>
              <a:chOff x="4190760" y="5181480"/>
              <a:chExt cx="609840" cy="990360"/>
            </a:xfrm>
          </p:grpSpPr>
          <p:sp>
            <p:nvSpPr>
              <p:cNvPr id="235" name=""/>
              <p:cNvSpPr/>
              <p:nvPr/>
            </p:nvSpPr>
            <p:spPr>
              <a:xfrm flipH="1">
                <a:off x="4190760" y="5181480"/>
                <a:ext cx="6094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91120" y="5714640"/>
                <a:ext cx="609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429000" y="5714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28840" y="48006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2880" y="5943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25720" y="5943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1680" y="48006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 Methods for Tree Bui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anc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ghbor Jo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Parsim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Likelihood (FastDNA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curacy of Different Tree Prediction Metho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produced from Hillis et al. 1994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90720" y="1425600"/>
          <a:ext cx="7772400" cy="489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25600"/>
                    <a:ext cx="7772400" cy="48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3277800" y="594360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-1188000" y="34700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nt of Trees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29880" y="20574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92360" y="297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20113200">
            <a:off x="3966480" y="236196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8200" y="3276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ing a 16S rRNA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close is c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S rRNA evolves very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 can evolve very rapi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utation &amp; lateral transf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ms with &gt;95% 16S rRNA simila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genomes as much as 50%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for phylogenetic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lip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evolution.genetics.washington.edu/phylip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free program that makes Maximum Liklihood trees (fastDNAml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paup.csit.fsu.edu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program for making trees by maximum parsimo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Cla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phylogeny.arizona.edu/macclade/macclad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program for working with parsimony tre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mpi-bremen.de/molecol/a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program for working with 16S rRNA gene seq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evolution.genetics.washington.edu/phylip/softwar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website that contains links to numerous sites that provide software for phylogenetic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82440" y="320760"/>
            <a:ext cx="720612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dosymbiosis and the origin of Eukar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tochondria were once Prote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loroplasts were once Cyan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76320" y="2143080"/>
            <a:ext cx="9220320" cy="471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28600" y="2536920"/>
            <a:ext cx="844704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914400"/>
            <a:ext cx="212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er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logene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52704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rot="21235800">
            <a:off x="4038120" y="0"/>
            <a:ext cx="228600" cy="137160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9765800">
            <a:off x="3504960" y="456840"/>
            <a:ext cx="233280" cy="1162080"/>
          </a:xfrm>
          <a:prstGeom prst="ellipse">
            <a:avLst/>
          </a:prstGeom>
          <a:solidFill>
            <a:srgbClr val="33993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143160"/>
            <a:ext cx="6476760" cy="3638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956040" cy="3076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Phyloge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olutiona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05520" y="762120"/>
            <a:ext cx="3454200" cy="4495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Phylogenetic Tr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should we care about Phyloge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ows us to make Hypothe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72464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ing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anch Length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nly for Distance &amp; Likelihood tr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al distance is proportional to evolutionary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izontal distance is always meaning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184480" y="2192400"/>
            <a:ext cx="1294920" cy="777600"/>
            <a:chOff x="2184480" y="2192400"/>
            <a:chExt cx="1294920" cy="777600"/>
          </a:xfrm>
        </p:grpSpPr>
        <p:sp>
          <p:nvSpPr>
            <p:cNvPr id="52" name=""/>
            <p:cNvSpPr/>
            <p:nvPr/>
          </p:nvSpPr>
          <p:spPr>
            <a:xfrm>
              <a:off x="2572920" y="219240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84480" y="2451240"/>
              <a:ext cx="90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90960" y="245124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02520" y="271044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02520" y="2710440"/>
              <a:ext cx="0" cy="2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79400" y="2710440"/>
              <a:ext cx="0" cy="2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84480" y="2451240"/>
              <a:ext cx="0" cy="51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610160" y="2192400"/>
            <a:ext cx="1294920" cy="777600"/>
            <a:chOff x="4610160" y="2192400"/>
            <a:chExt cx="1294920" cy="777600"/>
          </a:xfrm>
        </p:grpSpPr>
        <p:sp>
          <p:nvSpPr>
            <p:cNvPr id="60" name=""/>
            <p:cNvSpPr/>
            <p:nvPr/>
          </p:nvSpPr>
          <p:spPr>
            <a:xfrm>
              <a:off x="4998600" y="219240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10160" y="2451240"/>
              <a:ext cx="90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16640" y="245124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28200" y="271044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28200" y="2710440"/>
              <a:ext cx="0" cy="2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05080" y="2710440"/>
              <a:ext cx="0" cy="2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10160" y="2451240"/>
              <a:ext cx="0" cy="51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986120" y="290844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4400" y="289404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6496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8018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781680" y="2208240"/>
            <a:ext cx="1295280" cy="777600"/>
            <a:chOff x="6781680" y="2208240"/>
            <a:chExt cx="1295280" cy="777600"/>
          </a:xfrm>
        </p:grpSpPr>
        <p:sp>
          <p:nvSpPr>
            <p:cNvPr id="72" name=""/>
            <p:cNvSpPr/>
            <p:nvPr/>
          </p:nvSpPr>
          <p:spPr>
            <a:xfrm>
              <a:off x="7688520" y="220824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170480" y="2467080"/>
              <a:ext cx="90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170480" y="246708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6782040" y="2726280"/>
              <a:ext cx="7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58920" y="2726280"/>
              <a:ext cx="0" cy="2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81680" y="2726280"/>
              <a:ext cx="0" cy="2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76960" y="2467080"/>
              <a:ext cx="0" cy="51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6596280" y="290988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266544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8177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ing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o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ree building methods do not specify a ro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otstrapp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atistical method for checking tr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4640" y="2362320"/>
            <a:ext cx="2135160" cy="1684800"/>
            <a:chOff x="764640" y="2362320"/>
            <a:chExt cx="2135160" cy="1684800"/>
          </a:xfrm>
        </p:grpSpPr>
        <p:sp>
          <p:nvSpPr>
            <p:cNvPr id="85" name=""/>
            <p:cNvSpPr/>
            <p:nvPr/>
          </p:nvSpPr>
          <p:spPr>
            <a:xfrm>
              <a:off x="1220040" y="2744280"/>
              <a:ext cx="47736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1220040" y="3317760"/>
              <a:ext cx="477360" cy="47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97400" y="3317760"/>
              <a:ext cx="47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175120" y="2839320"/>
              <a:ext cx="28656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5120" y="3317760"/>
              <a:ext cx="381960" cy="47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4640" y="2362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63120" y="35265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67360" y="2380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9120" y="35085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10840" y="3004920"/>
              <a:ext cx="190800" cy="191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93160" y="3222000"/>
              <a:ext cx="190800" cy="190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278880" y="2514240"/>
            <a:ext cx="2255400" cy="1611000"/>
            <a:chOff x="3278880" y="2514240"/>
            <a:chExt cx="2255400" cy="1611000"/>
          </a:xfrm>
        </p:grpSpPr>
        <p:sp>
          <p:nvSpPr>
            <p:cNvPr id="97" name=""/>
            <p:cNvSpPr/>
            <p:nvPr/>
          </p:nvSpPr>
          <p:spPr>
            <a:xfrm flipV="1">
              <a:off x="3575160" y="2817360"/>
              <a:ext cx="0" cy="45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75160" y="2817360"/>
              <a:ext cx="90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84520" y="28173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30200" y="3120840"/>
              <a:ext cx="90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30200" y="3120840"/>
              <a:ext cx="0" cy="45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39560" y="3120840"/>
              <a:ext cx="0" cy="45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36080" y="3575880"/>
              <a:ext cx="7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6080" y="3575880"/>
              <a:ext cx="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94240" y="3575880"/>
              <a:ext cx="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30200" y="2514240"/>
              <a:ext cx="0" cy="30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8880" y="3156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97600" y="35841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26120" y="3604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33560" y="3390840"/>
              <a:ext cx="59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6280" y="2728440"/>
              <a:ext cx="214200" cy="21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717160" y="2518920"/>
            <a:ext cx="2931840" cy="1367280"/>
            <a:chOff x="5717160" y="2518920"/>
            <a:chExt cx="2931840" cy="1367280"/>
          </a:xfrm>
        </p:grpSpPr>
        <p:sp>
          <p:nvSpPr>
            <p:cNvPr id="113" name=""/>
            <p:cNvSpPr/>
            <p:nvPr/>
          </p:nvSpPr>
          <p:spPr>
            <a:xfrm>
              <a:off x="6538680" y="2872440"/>
              <a:ext cx="152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244640" y="2518920"/>
              <a:ext cx="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26920" y="2755080"/>
              <a:ext cx="235080" cy="23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38680" y="2872440"/>
              <a:ext cx="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67800" y="3225600"/>
              <a:ext cx="94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67800" y="3225600"/>
              <a:ext cx="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8840" y="3225600"/>
              <a:ext cx="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67960" y="2872440"/>
              <a:ext cx="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97440" y="3225600"/>
              <a:ext cx="94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97440" y="3225600"/>
              <a:ext cx="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38840" y="3225600"/>
              <a:ext cx="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7160" y="3365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12320" y="3365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45720" y="3365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13640" y="3365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895120" y="4870440"/>
            <a:ext cx="2860560" cy="1682640"/>
            <a:chOff x="2895120" y="4870440"/>
            <a:chExt cx="2860560" cy="1682640"/>
          </a:xfrm>
        </p:grpSpPr>
        <p:sp>
          <p:nvSpPr>
            <p:cNvPr id="129" name=""/>
            <p:cNvSpPr/>
            <p:nvPr/>
          </p:nvSpPr>
          <p:spPr>
            <a:xfrm flipH="1">
              <a:off x="3569400" y="6553080"/>
              <a:ext cx="100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569400" y="564372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69400" y="5632920"/>
              <a:ext cx="100332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3080" y="518832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573080" y="6090120"/>
              <a:ext cx="51228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573080" y="5175720"/>
              <a:ext cx="84888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422320" y="4870800"/>
              <a:ext cx="10080" cy="6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22320" y="54914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22320" y="48704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2895120" y="6090120"/>
              <a:ext cx="66996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864520" y="56466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09400" y="5189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47840" y="47386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we determine Phyloge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orphological, molecu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u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lecular sequen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lot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phology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misl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56080" y="762120"/>
            <a:ext cx="32972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15000" y="1143000"/>
            <a:ext cx="3429000" cy="3962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use 16S rRNA to infer organismal phyloge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057400"/>
            <a:ext cx="7016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 in all cellula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low rate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ly homolo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probability of lateral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3581280"/>
            <a:ext cx="1371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6S r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cond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molecular sequences record 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f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random accumulation of mutations over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Sequences evolve at differen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Trees -vs- Organismal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85960" y="2438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AA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5960" y="298620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5960" y="359568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66688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ing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gnment of homologous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1360" y="2971800"/>
            <a:ext cx="38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A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TTTTT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2280" y="3581280"/>
            <a:ext cx="488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TTTTT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15760" y="4172040"/>
            <a:ext cx="48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A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TTT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C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9560" y="4876920"/>
            <a:ext cx="49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A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TT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C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3160" y="4876920"/>
            <a:ext cx="4861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3160" y="3048120"/>
            <a:ext cx="48610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868360" y="2895480"/>
            <a:ext cx="1216800" cy="2486520"/>
            <a:chOff x="5868360" y="2895480"/>
            <a:chExt cx="1216800" cy="2486520"/>
          </a:xfrm>
        </p:grpSpPr>
        <p:sp>
          <p:nvSpPr>
            <p:cNvPr id="165" name=""/>
            <p:cNvSpPr/>
            <p:nvPr/>
          </p:nvSpPr>
          <p:spPr>
            <a:xfrm>
              <a:off x="6478200" y="48006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6960" y="28954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8200" y="44956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8360" y="32004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30480" y="35049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24160" y="3535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6040" y="31543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78200" y="41907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97320" y="45259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78560" y="3886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1880" y="28954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7320" y="480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7680" y="422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76800" y="38862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76760" y="41907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7676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7676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76760" y="51051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316280" y="3078000"/>
            <a:ext cx="1114920" cy="2257920"/>
            <a:chOff x="7316280" y="3078000"/>
            <a:chExt cx="1114920" cy="2257920"/>
          </a:xfrm>
        </p:grpSpPr>
        <p:sp>
          <p:nvSpPr>
            <p:cNvPr id="184" name=""/>
            <p:cNvSpPr/>
            <p:nvPr/>
          </p:nvSpPr>
          <p:spPr>
            <a:xfrm>
              <a:off x="7849800" y="47545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68560" y="30780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49800" y="44496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16280" y="34588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02080" y="34588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49800" y="41446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68920" y="4479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50160" y="3840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99040" y="30780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68920" y="47545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69280" y="4174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48400" y="3840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48360" y="4144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360" y="4449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48360" y="4754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48360" y="5059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168560" y="3657600"/>
            <a:ext cx="533160" cy="457200"/>
          </a:xfrm>
          <a:prstGeom prst="rect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59120" y="3657600"/>
            <a:ext cx="533520" cy="457200"/>
          </a:xfrm>
          <a:prstGeom prst="rect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4240080"/>
            <a:ext cx="1625400" cy="457200"/>
          </a:xfrm>
          <a:prstGeom prst="rect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23920" y="4954680"/>
            <a:ext cx="228600" cy="457200"/>
          </a:xfrm>
          <a:prstGeom prst="rect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67000" y="4962600"/>
            <a:ext cx="228600" cy="457200"/>
          </a:xfrm>
          <a:prstGeom prst="rect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419720"/>
            <a:ext cx="609480" cy="990360"/>
          </a:xfrm>
          <a:custGeom>
            <a:avLst/>
            <a:gdLst>
              <a:gd name="textAreaLeft" fmla="*/ 81360 w 609480"/>
              <a:gd name="textAreaRight" fmla="*/ 528120 w 60948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550310"/>
                <a:lnTo>
                  <a:pt x="13894" y="21103"/>
                </a:lnTo>
                <a:lnTo>
                  <a:pt x="21600" y="17280"/>
                </a:lnTo>
                <a:lnTo>
                  <a:pt x="13894" y="12463"/>
                </a:lnTo>
                <a:lnTo>
                  <a:pt x="13894" y="14623"/>
                </a:lnTo>
                <a:arcTo wR="21600" hR="7560" stAng="8249690" swAng="219287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32767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 rot="5484000">
            <a:off x="5953680" y="3825000"/>
            <a:ext cx="1063080" cy="286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92" y="452"/>
                </a:moveTo>
                <a:arcTo wR="10800" hR="10800" stAng="-4401819" swAng="10430766"/>
                <a:lnTo>
                  <a:pt x="10800" y="10800"/>
                </a:lnTo>
                <a:close/>
              </a:path>
              <a:path fill="none" w="21600" h="21600">
                <a:moveTo>
                  <a:pt x="13892" y="452"/>
                </a:moveTo>
                <a:arcTo wR="10800" hR="10800" stAng="-4401819" swAng="10430766"/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14:12:00Z</dcterms:created>
  <dc:creator>Dan Buckley</dc:creator>
  <dc:description/>
  <dc:language>en-US</dc:language>
  <cp:lastModifiedBy>Dan Buckley</cp:lastModifiedBy>
  <dcterms:modified xsi:type="dcterms:W3CDTF">2006-08-04T06:25:42Z</dcterms:modified>
  <cp:revision>30</cp:revision>
  <dc:subject/>
  <dc:title>Accuracy of Different Tree Prediction Methods (from  </dc:title>
</cp:coreProperties>
</file>