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3840" indent="-21600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5480" indent="-21420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57480" indent="-216000">
              <a:lnSpc>
                <a:spcPct val="94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57480" indent="-216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57480" indent="-2160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-1832040" y="-947880"/>
            <a:ext cx="16370280" cy="11987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1240" y="-2317680"/>
            <a:ext cx="8609040" cy="71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981680" y="306360"/>
            <a:ext cx="4854600" cy="3432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1130040"/>
            <a:ext cx="8609040" cy="54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LiHei Pro"/>
              </a:rPr>
              <a:t>The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LiHei Pro"/>
              </a:rPr>
              <a:t>situation:</a:t>
            </a:r>
            <a:br>
              <a:rPr sz="7200"/>
            </a:b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LiHei Pro"/>
              </a:rPr>
              <a:t>Pathogenic (Bad) bacteria have infected our room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203800" y="307800"/>
            <a:ext cx="4487760" cy="2982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1240" y="1588680"/>
            <a:ext cx="8609040" cy="45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LiHei Pro"/>
              </a:rPr>
              <a:t>The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LiHei Pro"/>
              </a:rPr>
              <a:t>solution:</a:t>
            </a:r>
            <a:br>
              <a:rPr sz="7200"/>
            </a:b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LiHei Pro"/>
              </a:rPr>
              <a:t>Activate an immune respons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324000"/>
            <a:ext cx="9132840" cy="705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LiHei Pro"/>
              </a:rPr>
              <a:t>The players</a:t>
            </a:r>
            <a:br>
              <a:rPr sz="6600"/>
            </a:br>
            <a:br>
              <a:rPr sz="6600"/>
            </a:br>
            <a:r>
              <a:rPr b="1" lang="en-GB" sz="6600" spc="-1" strike="noStrike">
                <a:solidFill>
                  <a:srgbClr val="ffff00"/>
                </a:solidFill>
                <a:latin typeface="LiHei Pro"/>
              </a:rPr>
              <a:t>infected cells</a:t>
            </a:r>
            <a:br>
              <a:rPr sz="6600"/>
            </a:br>
            <a:br>
              <a:rPr sz="6600"/>
            </a:br>
            <a:r>
              <a:rPr b="1" lang="en-GB" sz="6600" spc="-1" strike="noStrike">
                <a:solidFill>
                  <a:srgbClr val="ffff00"/>
                </a:solidFill>
                <a:latin typeface="LiHei Pro"/>
              </a:rPr>
              <a:t>antibodies</a:t>
            </a:r>
            <a:br>
              <a:rPr sz="7200"/>
            </a:b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LiHei Pro"/>
              </a:rPr>
              <a:t>killer T cell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392880" y="2125800"/>
            <a:ext cx="1311120" cy="1646280"/>
            <a:chOff x="6392880" y="2125800"/>
            <a:chExt cx="1311120" cy="16462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6392880" y="2125800"/>
              <a:ext cx="13111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904080" y="2706840"/>
              <a:ext cx="241200" cy="230040"/>
            </a:xfrm>
            <a:prstGeom prst="ellipse">
              <a:avLst/>
            </a:prstGeom>
            <a:solidFill>
              <a:srgbClr val="28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257800" y="4067280"/>
            <a:ext cx="2254320" cy="1136520"/>
          </a:xfrm>
          <a:prstGeom prst="roundRect">
            <a:avLst>
              <a:gd name="adj" fmla="val 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51929" dir="2700000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03960" y="4268880"/>
            <a:ext cx="1887480" cy="677880"/>
          </a:xfrm>
          <a:prstGeom prst="roundRect">
            <a:avLst>
              <a:gd name="adj" fmla="val 26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05560" y="4616280"/>
            <a:ext cx="823680" cy="19080"/>
          </a:xfrm>
          <a:prstGeom prst="line">
            <a:avLst/>
          </a:prstGeom>
          <a:ln w="164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11960" y="4414680"/>
            <a:ext cx="366840" cy="403560"/>
          </a:xfrm>
          <a:custGeom>
            <a:avLst/>
            <a:gdLst/>
            <a:ahLst/>
            <a:rect l="l" t="t" r="r" b="b"/>
            <a:pathLst>
              <a:path w="1019" h="1121">
                <a:moveTo>
                  <a:pt x="1018" y="237"/>
                </a:moveTo>
                <a:lnTo>
                  <a:pt x="1002" y="215"/>
                </a:lnTo>
                <a:lnTo>
                  <a:pt x="984" y="193"/>
                </a:lnTo>
                <a:lnTo>
                  <a:pt x="965" y="173"/>
                </a:lnTo>
                <a:lnTo>
                  <a:pt x="945" y="153"/>
                </a:lnTo>
                <a:lnTo>
                  <a:pt x="925" y="134"/>
                </a:lnTo>
                <a:lnTo>
                  <a:pt x="903" y="117"/>
                </a:lnTo>
                <a:lnTo>
                  <a:pt x="880" y="100"/>
                </a:lnTo>
                <a:lnTo>
                  <a:pt x="857" y="85"/>
                </a:lnTo>
                <a:lnTo>
                  <a:pt x="833" y="71"/>
                </a:lnTo>
                <a:lnTo>
                  <a:pt x="808" y="58"/>
                </a:lnTo>
                <a:lnTo>
                  <a:pt x="783" y="46"/>
                </a:lnTo>
                <a:lnTo>
                  <a:pt x="757" y="36"/>
                </a:lnTo>
                <a:lnTo>
                  <a:pt x="731" y="26"/>
                </a:lnTo>
                <a:lnTo>
                  <a:pt x="704" y="19"/>
                </a:lnTo>
                <a:lnTo>
                  <a:pt x="676" y="12"/>
                </a:lnTo>
                <a:lnTo>
                  <a:pt x="648" y="7"/>
                </a:lnTo>
                <a:lnTo>
                  <a:pt x="621" y="3"/>
                </a:lnTo>
                <a:lnTo>
                  <a:pt x="593" y="1"/>
                </a:lnTo>
                <a:lnTo>
                  <a:pt x="565" y="0"/>
                </a:lnTo>
                <a:lnTo>
                  <a:pt x="537" y="0"/>
                </a:lnTo>
                <a:lnTo>
                  <a:pt x="509" y="2"/>
                </a:lnTo>
                <a:lnTo>
                  <a:pt x="482" y="6"/>
                </a:lnTo>
                <a:lnTo>
                  <a:pt x="454" y="10"/>
                </a:lnTo>
                <a:lnTo>
                  <a:pt x="427" y="16"/>
                </a:lnTo>
                <a:lnTo>
                  <a:pt x="400" y="23"/>
                </a:lnTo>
                <a:lnTo>
                  <a:pt x="373" y="32"/>
                </a:lnTo>
                <a:lnTo>
                  <a:pt x="347" y="42"/>
                </a:lnTo>
                <a:lnTo>
                  <a:pt x="321" y="53"/>
                </a:lnTo>
                <a:lnTo>
                  <a:pt x="296" y="66"/>
                </a:lnTo>
                <a:lnTo>
                  <a:pt x="272" y="80"/>
                </a:lnTo>
                <a:lnTo>
                  <a:pt x="248" y="94"/>
                </a:lnTo>
                <a:lnTo>
                  <a:pt x="225" y="111"/>
                </a:lnTo>
                <a:lnTo>
                  <a:pt x="203" y="128"/>
                </a:lnTo>
                <a:lnTo>
                  <a:pt x="182" y="146"/>
                </a:lnTo>
                <a:lnTo>
                  <a:pt x="162" y="165"/>
                </a:lnTo>
                <a:lnTo>
                  <a:pt x="143" y="186"/>
                </a:lnTo>
                <a:lnTo>
                  <a:pt x="125" y="207"/>
                </a:lnTo>
                <a:lnTo>
                  <a:pt x="108" y="229"/>
                </a:lnTo>
                <a:lnTo>
                  <a:pt x="92" y="252"/>
                </a:lnTo>
                <a:lnTo>
                  <a:pt x="77" y="276"/>
                </a:lnTo>
                <a:lnTo>
                  <a:pt x="64" y="300"/>
                </a:lnTo>
                <a:lnTo>
                  <a:pt x="51" y="325"/>
                </a:lnTo>
                <a:lnTo>
                  <a:pt x="40" y="351"/>
                </a:lnTo>
                <a:lnTo>
                  <a:pt x="30" y="378"/>
                </a:lnTo>
                <a:lnTo>
                  <a:pt x="22" y="404"/>
                </a:lnTo>
                <a:lnTo>
                  <a:pt x="15" y="431"/>
                </a:lnTo>
                <a:lnTo>
                  <a:pt x="9" y="459"/>
                </a:lnTo>
                <a:lnTo>
                  <a:pt x="5" y="486"/>
                </a:lnTo>
                <a:lnTo>
                  <a:pt x="2" y="514"/>
                </a:lnTo>
                <a:lnTo>
                  <a:pt x="0" y="542"/>
                </a:lnTo>
                <a:lnTo>
                  <a:pt x="0" y="570"/>
                </a:lnTo>
                <a:lnTo>
                  <a:pt x="1" y="598"/>
                </a:lnTo>
                <a:lnTo>
                  <a:pt x="4" y="625"/>
                </a:lnTo>
                <a:lnTo>
                  <a:pt x="8" y="653"/>
                </a:lnTo>
                <a:lnTo>
                  <a:pt x="13" y="681"/>
                </a:lnTo>
                <a:lnTo>
                  <a:pt x="20" y="708"/>
                </a:lnTo>
                <a:lnTo>
                  <a:pt x="28" y="734"/>
                </a:lnTo>
                <a:lnTo>
                  <a:pt x="37" y="762"/>
                </a:lnTo>
                <a:lnTo>
                  <a:pt x="48" y="787"/>
                </a:lnTo>
                <a:lnTo>
                  <a:pt x="60" y="813"/>
                </a:lnTo>
                <a:lnTo>
                  <a:pt x="73" y="837"/>
                </a:lnTo>
                <a:lnTo>
                  <a:pt x="87" y="861"/>
                </a:lnTo>
                <a:lnTo>
                  <a:pt x="103" y="884"/>
                </a:lnTo>
                <a:lnTo>
                  <a:pt x="120" y="907"/>
                </a:lnTo>
                <a:lnTo>
                  <a:pt x="137" y="928"/>
                </a:lnTo>
                <a:lnTo>
                  <a:pt x="156" y="949"/>
                </a:lnTo>
                <a:lnTo>
                  <a:pt x="176" y="968"/>
                </a:lnTo>
                <a:lnTo>
                  <a:pt x="197" y="987"/>
                </a:lnTo>
                <a:lnTo>
                  <a:pt x="219" y="1004"/>
                </a:lnTo>
                <a:lnTo>
                  <a:pt x="241" y="1021"/>
                </a:lnTo>
                <a:lnTo>
                  <a:pt x="265" y="1036"/>
                </a:lnTo>
                <a:lnTo>
                  <a:pt x="289" y="1050"/>
                </a:lnTo>
                <a:lnTo>
                  <a:pt x="313" y="1063"/>
                </a:lnTo>
                <a:lnTo>
                  <a:pt x="340" y="1075"/>
                </a:lnTo>
                <a:lnTo>
                  <a:pt x="366" y="1085"/>
                </a:lnTo>
                <a:lnTo>
                  <a:pt x="392" y="1094"/>
                </a:lnTo>
                <a:lnTo>
                  <a:pt x="419" y="1102"/>
                </a:lnTo>
                <a:lnTo>
                  <a:pt x="446" y="1108"/>
                </a:lnTo>
                <a:lnTo>
                  <a:pt x="473" y="1113"/>
                </a:lnTo>
                <a:lnTo>
                  <a:pt x="501" y="1117"/>
                </a:lnTo>
                <a:lnTo>
                  <a:pt x="529" y="1119"/>
                </a:lnTo>
                <a:lnTo>
                  <a:pt x="557" y="1120"/>
                </a:lnTo>
                <a:lnTo>
                  <a:pt x="585" y="1119"/>
                </a:lnTo>
                <a:lnTo>
                  <a:pt x="613" y="1118"/>
                </a:lnTo>
                <a:lnTo>
                  <a:pt x="640" y="1114"/>
                </a:lnTo>
                <a:lnTo>
                  <a:pt x="668" y="1110"/>
                </a:lnTo>
                <a:lnTo>
                  <a:pt x="696" y="1103"/>
                </a:lnTo>
                <a:lnTo>
                  <a:pt x="723" y="1096"/>
                </a:lnTo>
                <a:lnTo>
                  <a:pt x="749" y="1087"/>
                </a:lnTo>
                <a:lnTo>
                  <a:pt x="775" y="1077"/>
                </a:lnTo>
                <a:lnTo>
                  <a:pt x="801" y="1066"/>
                </a:lnTo>
                <a:lnTo>
                  <a:pt x="826" y="1053"/>
                </a:lnTo>
                <a:lnTo>
                  <a:pt x="850" y="1039"/>
                </a:lnTo>
                <a:lnTo>
                  <a:pt x="874" y="1024"/>
                </a:lnTo>
                <a:lnTo>
                  <a:pt x="896" y="1008"/>
                </a:lnTo>
                <a:lnTo>
                  <a:pt x="918" y="991"/>
                </a:lnTo>
                <a:lnTo>
                  <a:pt x="939" y="973"/>
                </a:lnTo>
              </a:path>
            </a:pathLst>
          </a:custGeom>
          <a:noFill/>
          <a:ln w="1098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26040" y="5605560"/>
            <a:ext cx="3114720" cy="1593720"/>
            <a:chOff x="6026040" y="5605560"/>
            <a:chExt cx="3114720" cy="1593720"/>
          </a:xfrm>
        </p:grpSpPr>
        <p:sp>
          <p:nvSpPr>
            <p:cNvPr id="53" name=""/>
            <p:cNvSpPr/>
            <p:nvPr/>
          </p:nvSpPr>
          <p:spPr>
            <a:xfrm>
              <a:off x="6026040" y="5605560"/>
              <a:ext cx="3114720" cy="1593720"/>
            </a:xfrm>
            <a:prstGeom prst="roundRect">
              <a:avLst>
                <a:gd name="adj" fmla="val 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26040" y="5967720"/>
              <a:ext cx="311472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Arial"/>
                </a:rPr>
                <a:t>Killer T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17520"/>
            <a:ext cx="913284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LiHei Pro"/>
              </a:rPr>
              <a:t>Can you stop the infection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070760" y="3114720"/>
            <a:ext cx="1311120" cy="1646280"/>
            <a:chOff x="7070760" y="3114720"/>
            <a:chExt cx="1311120" cy="16462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7070760" y="3114720"/>
              <a:ext cx="13111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7581960" y="3695760"/>
              <a:ext cx="241200" cy="230040"/>
            </a:xfrm>
            <a:prstGeom prst="ellipse">
              <a:avLst/>
            </a:prstGeom>
            <a:solidFill>
              <a:srgbClr val="28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098720" y="3278160"/>
            <a:ext cx="2252520" cy="1135080"/>
            <a:chOff x="1098720" y="3278160"/>
            <a:chExt cx="2252520" cy="1135080"/>
          </a:xfrm>
        </p:grpSpPr>
        <p:sp>
          <p:nvSpPr>
            <p:cNvPr id="60" name=""/>
            <p:cNvSpPr/>
            <p:nvPr/>
          </p:nvSpPr>
          <p:spPr>
            <a:xfrm>
              <a:off x="1098720" y="3278160"/>
              <a:ext cx="2252520" cy="1135080"/>
            </a:xfrm>
            <a:prstGeom prst="roundRect">
              <a:avLst>
                <a:gd name="adj" fmla="val 1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5192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44520" y="3479760"/>
              <a:ext cx="1886040" cy="677880"/>
            </a:xfrm>
            <a:prstGeom prst="roundRect">
              <a:avLst>
                <a:gd name="adj" fmla="val 26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46120" y="3827520"/>
              <a:ext cx="824040" cy="19080"/>
            </a:xfrm>
            <a:prstGeom prst="line">
              <a:avLst/>
            </a:prstGeom>
            <a:ln w="164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51080" y="3627360"/>
              <a:ext cx="366840" cy="403200"/>
            </a:xfrm>
            <a:custGeom>
              <a:avLst/>
              <a:gdLst/>
              <a:ahLst/>
              <a:rect l="l" t="t" r="r" b="b"/>
              <a:pathLst>
                <a:path w="1018" h="1118">
                  <a:moveTo>
                    <a:pt x="1017" y="236"/>
                  </a:moveTo>
                  <a:lnTo>
                    <a:pt x="1001" y="214"/>
                  </a:lnTo>
                  <a:lnTo>
                    <a:pt x="983" y="193"/>
                  </a:lnTo>
                  <a:lnTo>
                    <a:pt x="964" y="173"/>
                  </a:lnTo>
                  <a:lnTo>
                    <a:pt x="944" y="153"/>
                  </a:lnTo>
                  <a:lnTo>
                    <a:pt x="924" y="134"/>
                  </a:lnTo>
                  <a:lnTo>
                    <a:pt x="902" y="117"/>
                  </a:lnTo>
                  <a:lnTo>
                    <a:pt x="879" y="100"/>
                  </a:lnTo>
                  <a:lnTo>
                    <a:pt x="856" y="85"/>
                  </a:lnTo>
                  <a:lnTo>
                    <a:pt x="832" y="71"/>
                  </a:lnTo>
                  <a:lnTo>
                    <a:pt x="807" y="58"/>
                  </a:lnTo>
                  <a:lnTo>
                    <a:pt x="782" y="46"/>
                  </a:lnTo>
                  <a:lnTo>
                    <a:pt x="756" y="36"/>
                  </a:lnTo>
                  <a:lnTo>
                    <a:pt x="730" y="26"/>
                  </a:lnTo>
                  <a:lnTo>
                    <a:pt x="704" y="19"/>
                  </a:lnTo>
                  <a:lnTo>
                    <a:pt x="676" y="12"/>
                  </a:lnTo>
                  <a:lnTo>
                    <a:pt x="648" y="7"/>
                  </a:lnTo>
                  <a:lnTo>
                    <a:pt x="621" y="3"/>
                  </a:lnTo>
                  <a:lnTo>
                    <a:pt x="593" y="1"/>
                  </a:lnTo>
                  <a:lnTo>
                    <a:pt x="565" y="0"/>
                  </a:lnTo>
                  <a:lnTo>
                    <a:pt x="537" y="0"/>
                  </a:lnTo>
                  <a:lnTo>
                    <a:pt x="509" y="2"/>
                  </a:lnTo>
                  <a:lnTo>
                    <a:pt x="482" y="6"/>
                  </a:lnTo>
                  <a:lnTo>
                    <a:pt x="454" y="10"/>
                  </a:lnTo>
                  <a:lnTo>
                    <a:pt x="427" y="16"/>
                  </a:lnTo>
                  <a:lnTo>
                    <a:pt x="400" y="23"/>
                  </a:lnTo>
                  <a:lnTo>
                    <a:pt x="373" y="32"/>
                  </a:lnTo>
                  <a:lnTo>
                    <a:pt x="347" y="42"/>
                  </a:lnTo>
                  <a:lnTo>
                    <a:pt x="321" y="53"/>
                  </a:lnTo>
                  <a:lnTo>
                    <a:pt x="296" y="66"/>
                  </a:lnTo>
                  <a:lnTo>
                    <a:pt x="272" y="80"/>
                  </a:lnTo>
                  <a:lnTo>
                    <a:pt x="248" y="94"/>
                  </a:lnTo>
                  <a:lnTo>
                    <a:pt x="225" y="111"/>
                  </a:lnTo>
                  <a:lnTo>
                    <a:pt x="203" y="128"/>
                  </a:lnTo>
                  <a:lnTo>
                    <a:pt x="182" y="146"/>
                  </a:lnTo>
                  <a:lnTo>
                    <a:pt x="162" y="165"/>
                  </a:lnTo>
                  <a:lnTo>
                    <a:pt x="143" y="186"/>
                  </a:lnTo>
                  <a:lnTo>
                    <a:pt x="125" y="207"/>
                  </a:lnTo>
                  <a:lnTo>
                    <a:pt x="108" y="228"/>
                  </a:lnTo>
                  <a:lnTo>
                    <a:pt x="92" y="251"/>
                  </a:lnTo>
                  <a:lnTo>
                    <a:pt x="77" y="275"/>
                  </a:lnTo>
                  <a:lnTo>
                    <a:pt x="64" y="299"/>
                  </a:lnTo>
                  <a:lnTo>
                    <a:pt x="51" y="324"/>
                  </a:lnTo>
                  <a:lnTo>
                    <a:pt x="40" y="350"/>
                  </a:lnTo>
                  <a:lnTo>
                    <a:pt x="30" y="376"/>
                  </a:lnTo>
                  <a:lnTo>
                    <a:pt x="22" y="402"/>
                  </a:lnTo>
                  <a:lnTo>
                    <a:pt x="15" y="429"/>
                  </a:lnTo>
                  <a:lnTo>
                    <a:pt x="9" y="457"/>
                  </a:lnTo>
                  <a:lnTo>
                    <a:pt x="5" y="484"/>
                  </a:lnTo>
                  <a:lnTo>
                    <a:pt x="2" y="512"/>
                  </a:lnTo>
                  <a:lnTo>
                    <a:pt x="0" y="540"/>
                  </a:lnTo>
                  <a:lnTo>
                    <a:pt x="0" y="569"/>
                  </a:lnTo>
                  <a:lnTo>
                    <a:pt x="1" y="597"/>
                  </a:lnTo>
                  <a:lnTo>
                    <a:pt x="4" y="624"/>
                  </a:lnTo>
                  <a:lnTo>
                    <a:pt x="8" y="652"/>
                  </a:lnTo>
                  <a:lnTo>
                    <a:pt x="13" y="680"/>
                  </a:lnTo>
                  <a:lnTo>
                    <a:pt x="20" y="707"/>
                  </a:lnTo>
                  <a:lnTo>
                    <a:pt x="28" y="733"/>
                  </a:lnTo>
                  <a:lnTo>
                    <a:pt x="37" y="760"/>
                  </a:lnTo>
                  <a:lnTo>
                    <a:pt x="48" y="785"/>
                  </a:lnTo>
                  <a:lnTo>
                    <a:pt x="60" y="811"/>
                  </a:lnTo>
                  <a:lnTo>
                    <a:pt x="73" y="835"/>
                  </a:lnTo>
                  <a:lnTo>
                    <a:pt x="87" y="859"/>
                  </a:lnTo>
                  <a:lnTo>
                    <a:pt x="103" y="882"/>
                  </a:lnTo>
                  <a:lnTo>
                    <a:pt x="120" y="905"/>
                  </a:lnTo>
                  <a:lnTo>
                    <a:pt x="137" y="926"/>
                  </a:lnTo>
                  <a:lnTo>
                    <a:pt x="156" y="947"/>
                  </a:lnTo>
                  <a:lnTo>
                    <a:pt x="176" y="966"/>
                  </a:lnTo>
                  <a:lnTo>
                    <a:pt x="197" y="985"/>
                  </a:lnTo>
                  <a:lnTo>
                    <a:pt x="219" y="1002"/>
                  </a:lnTo>
                  <a:lnTo>
                    <a:pt x="241" y="1018"/>
                  </a:lnTo>
                  <a:lnTo>
                    <a:pt x="265" y="1033"/>
                  </a:lnTo>
                  <a:lnTo>
                    <a:pt x="289" y="1047"/>
                  </a:lnTo>
                  <a:lnTo>
                    <a:pt x="313" y="1060"/>
                  </a:lnTo>
                  <a:lnTo>
                    <a:pt x="340" y="1072"/>
                  </a:lnTo>
                  <a:lnTo>
                    <a:pt x="366" y="1082"/>
                  </a:lnTo>
                  <a:lnTo>
                    <a:pt x="392" y="1091"/>
                  </a:lnTo>
                  <a:lnTo>
                    <a:pt x="419" y="1099"/>
                  </a:lnTo>
                  <a:lnTo>
                    <a:pt x="446" y="1105"/>
                  </a:lnTo>
                  <a:lnTo>
                    <a:pt x="473" y="1110"/>
                  </a:lnTo>
                  <a:lnTo>
                    <a:pt x="501" y="1114"/>
                  </a:lnTo>
                  <a:lnTo>
                    <a:pt x="529" y="1116"/>
                  </a:lnTo>
                  <a:lnTo>
                    <a:pt x="557" y="1117"/>
                  </a:lnTo>
                  <a:lnTo>
                    <a:pt x="585" y="1116"/>
                  </a:lnTo>
                  <a:lnTo>
                    <a:pt x="613" y="1115"/>
                  </a:lnTo>
                  <a:lnTo>
                    <a:pt x="640" y="1111"/>
                  </a:lnTo>
                  <a:lnTo>
                    <a:pt x="668" y="1107"/>
                  </a:lnTo>
                  <a:lnTo>
                    <a:pt x="696" y="1100"/>
                  </a:lnTo>
                  <a:lnTo>
                    <a:pt x="722" y="1093"/>
                  </a:lnTo>
                  <a:lnTo>
                    <a:pt x="748" y="1084"/>
                  </a:lnTo>
                  <a:lnTo>
                    <a:pt x="774" y="1074"/>
                  </a:lnTo>
                  <a:lnTo>
                    <a:pt x="800" y="1063"/>
                  </a:lnTo>
                  <a:lnTo>
                    <a:pt x="825" y="1050"/>
                  </a:lnTo>
                  <a:lnTo>
                    <a:pt x="849" y="1036"/>
                  </a:lnTo>
                  <a:lnTo>
                    <a:pt x="873" y="1021"/>
                  </a:lnTo>
                  <a:lnTo>
                    <a:pt x="895" y="1005"/>
                  </a:lnTo>
                  <a:lnTo>
                    <a:pt x="917" y="989"/>
                  </a:lnTo>
                  <a:lnTo>
                    <a:pt x="938" y="971"/>
                  </a:lnTo>
                </a:path>
              </a:pathLst>
            </a:custGeom>
            <a:noFill/>
            <a:ln w="109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80960" y="4286160"/>
            <a:ext cx="431964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0800" y="3846600"/>
            <a:ext cx="3059280" cy="1440"/>
          </a:xfrm>
          <a:prstGeom prst="line">
            <a:avLst/>
          </a:prstGeom>
          <a:ln w="73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627360" y="5386320"/>
            <a:ext cx="1311480" cy="1646280"/>
            <a:chOff x="3627360" y="5386320"/>
            <a:chExt cx="1311480" cy="164628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3627360" y="5386320"/>
              <a:ext cx="13114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138560" y="5967360"/>
              <a:ext cx="241200" cy="230400"/>
            </a:xfrm>
            <a:prstGeom prst="ellipse">
              <a:avLst/>
            </a:prstGeom>
            <a:solidFill>
              <a:srgbClr val="28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17600" y="5641920"/>
            <a:ext cx="2252520" cy="1135080"/>
            <a:chOff x="1317600" y="5641920"/>
            <a:chExt cx="2252520" cy="1135080"/>
          </a:xfrm>
        </p:grpSpPr>
        <p:sp>
          <p:nvSpPr>
            <p:cNvPr id="70" name=""/>
            <p:cNvSpPr/>
            <p:nvPr/>
          </p:nvSpPr>
          <p:spPr>
            <a:xfrm>
              <a:off x="1317600" y="5641920"/>
              <a:ext cx="2252520" cy="1135080"/>
            </a:xfrm>
            <a:prstGeom prst="roundRect">
              <a:avLst>
                <a:gd name="adj" fmla="val 1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5192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65200" y="5843520"/>
              <a:ext cx="1886040" cy="677880"/>
            </a:xfrm>
            <a:prstGeom prst="roundRect">
              <a:avLst>
                <a:gd name="adj" fmla="val 26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66800" y="6191280"/>
              <a:ext cx="824040" cy="19080"/>
            </a:xfrm>
            <a:prstGeom prst="line">
              <a:avLst/>
            </a:prstGeom>
            <a:ln w="164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70320" y="5989680"/>
              <a:ext cx="366480" cy="403200"/>
            </a:xfrm>
            <a:custGeom>
              <a:avLst/>
              <a:gdLst/>
              <a:ahLst/>
              <a:rect l="l" t="t" r="r" b="b"/>
              <a:pathLst>
                <a:path w="1019" h="1119">
                  <a:moveTo>
                    <a:pt x="1018" y="237"/>
                  </a:moveTo>
                  <a:lnTo>
                    <a:pt x="1002" y="215"/>
                  </a:lnTo>
                  <a:lnTo>
                    <a:pt x="984" y="193"/>
                  </a:lnTo>
                  <a:lnTo>
                    <a:pt x="965" y="173"/>
                  </a:lnTo>
                  <a:lnTo>
                    <a:pt x="945" y="153"/>
                  </a:lnTo>
                  <a:lnTo>
                    <a:pt x="925" y="134"/>
                  </a:lnTo>
                  <a:lnTo>
                    <a:pt x="903" y="117"/>
                  </a:lnTo>
                  <a:lnTo>
                    <a:pt x="880" y="100"/>
                  </a:lnTo>
                  <a:lnTo>
                    <a:pt x="857" y="85"/>
                  </a:lnTo>
                  <a:lnTo>
                    <a:pt x="833" y="71"/>
                  </a:lnTo>
                  <a:lnTo>
                    <a:pt x="808" y="58"/>
                  </a:lnTo>
                  <a:lnTo>
                    <a:pt x="783" y="46"/>
                  </a:lnTo>
                  <a:lnTo>
                    <a:pt x="757" y="36"/>
                  </a:lnTo>
                  <a:lnTo>
                    <a:pt x="731" y="26"/>
                  </a:lnTo>
                  <a:lnTo>
                    <a:pt x="704" y="19"/>
                  </a:lnTo>
                  <a:lnTo>
                    <a:pt x="676" y="12"/>
                  </a:lnTo>
                  <a:lnTo>
                    <a:pt x="648" y="7"/>
                  </a:lnTo>
                  <a:lnTo>
                    <a:pt x="621" y="3"/>
                  </a:lnTo>
                  <a:lnTo>
                    <a:pt x="593" y="1"/>
                  </a:lnTo>
                  <a:lnTo>
                    <a:pt x="565" y="0"/>
                  </a:lnTo>
                  <a:lnTo>
                    <a:pt x="537" y="0"/>
                  </a:lnTo>
                  <a:lnTo>
                    <a:pt x="509" y="2"/>
                  </a:lnTo>
                  <a:lnTo>
                    <a:pt x="482" y="6"/>
                  </a:lnTo>
                  <a:lnTo>
                    <a:pt x="454" y="10"/>
                  </a:lnTo>
                  <a:lnTo>
                    <a:pt x="427" y="16"/>
                  </a:lnTo>
                  <a:lnTo>
                    <a:pt x="400" y="23"/>
                  </a:lnTo>
                  <a:lnTo>
                    <a:pt x="373" y="32"/>
                  </a:lnTo>
                  <a:lnTo>
                    <a:pt x="347" y="42"/>
                  </a:lnTo>
                  <a:lnTo>
                    <a:pt x="321" y="53"/>
                  </a:lnTo>
                  <a:lnTo>
                    <a:pt x="296" y="66"/>
                  </a:lnTo>
                  <a:lnTo>
                    <a:pt x="272" y="80"/>
                  </a:lnTo>
                  <a:lnTo>
                    <a:pt x="248" y="94"/>
                  </a:lnTo>
                  <a:lnTo>
                    <a:pt x="225" y="111"/>
                  </a:lnTo>
                  <a:lnTo>
                    <a:pt x="203" y="128"/>
                  </a:lnTo>
                  <a:lnTo>
                    <a:pt x="182" y="146"/>
                  </a:lnTo>
                  <a:lnTo>
                    <a:pt x="162" y="165"/>
                  </a:lnTo>
                  <a:lnTo>
                    <a:pt x="143" y="186"/>
                  </a:lnTo>
                  <a:lnTo>
                    <a:pt x="125" y="207"/>
                  </a:lnTo>
                  <a:lnTo>
                    <a:pt x="108" y="229"/>
                  </a:lnTo>
                  <a:lnTo>
                    <a:pt x="92" y="252"/>
                  </a:lnTo>
                  <a:lnTo>
                    <a:pt x="77" y="276"/>
                  </a:lnTo>
                  <a:lnTo>
                    <a:pt x="64" y="300"/>
                  </a:lnTo>
                  <a:lnTo>
                    <a:pt x="51" y="325"/>
                  </a:lnTo>
                  <a:lnTo>
                    <a:pt x="40" y="351"/>
                  </a:lnTo>
                  <a:lnTo>
                    <a:pt x="30" y="377"/>
                  </a:lnTo>
                  <a:lnTo>
                    <a:pt x="22" y="403"/>
                  </a:lnTo>
                  <a:lnTo>
                    <a:pt x="15" y="430"/>
                  </a:lnTo>
                  <a:lnTo>
                    <a:pt x="9" y="458"/>
                  </a:lnTo>
                  <a:lnTo>
                    <a:pt x="5" y="485"/>
                  </a:lnTo>
                  <a:lnTo>
                    <a:pt x="2" y="513"/>
                  </a:lnTo>
                  <a:lnTo>
                    <a:pt x="0" y="541"/>
                  </a:lnTo>
                  <a:lnTo>
                    <a:pt x="0" y="570"/>
                  </a:lnTo>
                  <a:lnTo>
                    <a:pt x="1" y="598"/>
                  </a:lnTo>
                  <a:lnTo>
                    <a:pt x="4" y="624"/>
                  </a:lnTo>
                  <a:lnTo>
                    <a:pt x="8" y="652"/>
                  </a:lnTo>
                  <a:lnTo>
                    <a:pt x="13" y="680"/>
                  </a:lnTo>
                  <a:lnTo>
                    <a:pt x="20" y="707"/>
                  </a:lnTo>
                  <a:lnTo>
                    <a:pt x="28" y="733"/>
                  </a:lnTo>
                  <a:lnTo>
                    <a:pt x="37" y="760"/>
                  </a:lnTo>
                  <a:lnTo>
                    <a:pt x="48" y="785"/>
                  </a:lnTo>
                  <a:lnTo>
                    <a:pt x="60" y="811"/>
                  </a:lnTo>
                  <a:lnTo>
                    <a:pt x="73" y="835"/>
                  </a:lnTo>
                  <a:lnTo>
                    <a:pt x="87" y="859"/>
                  </a:lnTo>
                  <a:lnTo>
                    <a:pt x="103" y="882"/>
                  </a:lnTo>
                  <a:lnTo>
                    <a:pt x="120" y="905"/>
                  </a:lnTo>
                  <a:lnTo>
                    <a:pt x="137" y="926"/>
                  </a:lnTo>
                  <a:lnTo>
                    <a:pt x="156" y="947"/>
                  </a:lnTo>
                  <a:lnTo>
                    <a:pt x="176" y="966"/>
                  </a:lnTo>
                  <a:lnTo>
                    <a:pt x="197" y="985"/>
                  </a:lnTo>
                  <a:lnTo>
                    <a:pt x="219" y="1002"/>
                  </a:lnTo>
                  <a:lnTo>
                    <a:pt x="241" y="1019"/>
                  </a:lnTo>
                  <a:lnTo>
                    <a:pt x="265" y="1034"/>
                  </a:lnTo>
                  <a:lnTo>
                    <a:pt x="289" y="1048"/>
                  </a:lnTo>
                  <a:lnTo>
                    <a:pt x="313" y="1061"/>
                  </a:lnTo>
                  <a:lnTo>
                    <a:pt x="340" y="1073"/>
                  </a:lnTo>
                  <a:lnTo>
                    <a:pt x="366" y="1083"/>
                  </a:lnTo>
                  <a:lnTo>
                    <a:pt x="392" y="1092"/>
                  </a:lnTo>
                  <a:lnTo>
                    <a:pt x="419" y="1100"/>
                  </a:lnTo>
                  <a:lnTo>
                    <a:pt x="446" y="1106"/>
                  </a:lnTo>
                  <a:lnTo>
                    <a:pt x="473" y="1111"/>
                  </a:lnTo>
                  <a:lnTo>
                    <a:pt x="501" y="1115"/>
                  </a:lnTo>
                  <a:lnTo>
                    <a:pt x="529" y="1117"/>
                  </a:lnTo>
                  <a:lnTo>
                    <a:pt x="557" y="1118"/>
                  </a:lnTo>
                  <a:lnTo>
                    <a:pt x="585" y="1117"/>
                  </a:lnTo>
                  <a:lnTo>
                    <a:pt x="613" y="1116"/>
                  </a:lnTo>
                  <a:lnTo>
                    <a:pt x="640" y="1112"/>
                  </a:lnTo>
                  <a:lnTo>
                    <a:pt x="668" y="1108"/>
                  </a:lnTo>
                  <a:lnTo>
                    <a:pt x="696" y="1101"/>
                  </a:lnTo>
                  <a:lnTo>
                    <a:pt x="723" y="1094"/>
                  </a:lnTo>
                  <a:lnTo>
                    <a:pt x="749" y="1085"/>
                  </a:lnTo>
                  <a:lnTo>
                    <a:pt x="775" y="1075"/>
                  </a:lnTo>
                  <a:lnTo>
                    <a:pt x="801" y="1064"/>
                  </a:lnTo>
                  <a:lnTo>
                    <a:pt x="826" y="1051"/>
                  </a:lnTo>
                  <a:lnTo>
                    <a:pt x="850" y="1037"/>
                  </a:lnTo>
                  <a:lnTo>
                    <a:pt x="874" y="1022"/>
                  </a:lnTo>
                  <a:lnTo>
                    <a:pt x="896" y="1006"/>
                  </a:lnTo>
                  <a:lnTo>
                    <a:pt x="918" y="989"/>
                  </a:lnTo>
                  <a:lnTo>
                    <a:pt x="939" y="971"/>
                  </a:lnTo>
                </a:path>
              </a:pathLst>
            </a:custGeom>
            <a:noFill/>
            <a:ln w="109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46160" y="3406680"/>
            <a:ext cx="750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5707080"/>
            <a:ext cx="630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84880" y="5384880"/>
            <a:ext cx="414000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Wait for Killer T ce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17520"/>
            <a:ext cx="913284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LiHei Pro"/>
              </a:rPr>
              <a:t>Can you stop the infection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960" y="4286160"/>
            <a:ext cx="431964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790800" y="3823920"/>
            <a:ext cx="2325960" cy="25560"/>
          </a:xfrm>
          <a:prstGeom prst="line">
            <a:avLst/>
          </a:prstGeom>
          <a:ln w="73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8767800" y="2914560"/>
            <a:ext cx="1311120" cy="1646280"/>
            <a:chOff x="8767800" y="2914560"/>
            <a:chExt cx="1311120" cy="164628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8767800" y="2914560"/>
              <a:ext cx="13111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9275760" y="3497400"/>
              <a:ext cx="241200" cy="230040"/>
            </a:xfrm>
            <a:prstGeom prst="ellipse">
              <a:avLst/>
            </a:prstGeom>
            <a:solidFill>
              <a:srgbClr val="28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458040" y="3170160"/>
            <a:ext cx="2252520" cy="1135080"/>
            <a:chOff x="6458040" y="3170160"/>
            <a:chExt cx="2252520" cy="1135080"/>
          </a:xfrm>
        </p:grpSpPr>
        <p:sp>
          <p:nvSpPr>
            <p:cNvPr id="84" name=""/>
            <p:cNvSpPr/>
            <p:nvPr/>
          </p:nvSpPr>
          <p:spPr>
            <a:xfrm>
              <a:off x="6458040" y="3170160"/>
              <a:ext cx="2252520" cy="1135080"/>
            </a:xfrm>
            <a:prstGeom prst="roundRect">
              <a:avLst>
                <a:gd name="adj" fmla="val 13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51929" dir="2700000" blurRad="0" rotWithShape="0">
                <a:srgbClr val="808080">
                  <a:alpha val="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03840" y="3371760"/>
              <a:ext cx="1886040" cy="677880"/>
            </a:xfrm>
            <a:prstGeom prst="roundRect">
              <a:avLst>
                <a:gd name="adj" fmla="val 26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05440" y="3719520"/>
              <a:ext cx="824040" cy="19080"/>
            </a:xfrm>
            <a:prstGeom prst="line">
              <a:avLst/>
            </a:prstGeom>
            <a:ln w="1645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10400" y="3517920"/>
              <a:ext cx="366840" cy="403200"/>
            </a:xfrm>
            <a:custGeom>
              <a:avLst/>
              <a:gdLst/>
              <a:ahLst/>
              <a:rect l="l" t="t" r="r" b="b"/>
              <a:pathLst>
                <a:path w="1018" h="1119">
                  <a:moveTo>
                    <a:pt x="1017" y="237"/>
                  </a:moveTo>
                  <a:lnTo>
                    <a:pt x="1001" y="215"/>
                  </a:lnTo>
                  <a:lnTo>
                    <a:pt x="983" y="193"/>
                  </a:lnTo>
                  <a:lnTo>
                    <a:pt x="964" y="173"/>
                  </a:lnTo>
                  <a:lnTo>
                    <a:pt x="944" y="153"/>
                  </a:lnTo>
                  <a:lnTo>
                    <a:pt x="924" y="134"/>
                  </a:lnTo>
                  <a:lnTo>
                    <a:pt x="902" y="117"/>
                  </a:lnTo>
                  <a:lnTo>
                    <a:pt x="879" y="100"/>
                  </a:lnTo>
                  <a:lnTo>
                    <a:pt x="856" y="85"/>
                  </a:lnTo>
                  <a:lnTo>
                    <a:pt x="832" y="71"/>
                  </a:lnTo>
                  <a:lnTo>
                    <a:pt x="807" y="58"/>
                  </a:lnTo>
                  <a:lnTo>
                    <a:pt x="782" y="46"/>
                  </a:lnTo>
                  <a:lnTo>
                    <a:pt x="756" y="36"/>
                  </a:lnTo>
                  <a:lnTo>
                    <a:pt x="730" y="26"/>
                  </a:lnTo>
                  <a:lnTo>
                    <a:pt x="703" y="19"/>
                  </a:lnTo>
                  <a:lnTo>
                    <a:pt x="676" y="12"/>
                  </a:lnTo>
                  <a:lnTo>
                    <a:pt x="648" y="7"/>
                  </a:lnTo>
                  <a:lnTo>
                    <a:pt x="621" y="3"/>
                  </a:lnTo>
                  <a:lnTo>
                    <a:pt x="593" y="1"/>
                  </a:lnTo>
                  <a:lnTo>
                    <a:pt x="565" y="0"/>
                  </a:lnTo>
                  <a:lnTo>
                    <a:pt x="537" y="0"/>
                  </a:lnTo>
                  <a:lnTo>
                    <a:pt x="508" y="2"/>
                  </a:lnTo>
                  <a:lnTo>
                    <a:pt x="481" y="6"/>
                  </a:lnTo>
                  <a:lnTo>
                    <a:pt x="453" y="10"/>
                  </a:lnTo>
                  <a:lnTo>
                    <a:pt x="426" y="16"/>
                  </a:lnTo>
                  <a:lnTo>
                    <a:pt x="399" y="23"/>
                  </a:lnTo>
                  <a:lnTo>
                    <a:pt x="372" y="32"/>
                  </a:lnTo>
                  <a:lnTo>
                    <a:pt x="346" y="42"/>
                  </a:lnTo>
                  <a:lnTo>
                    <a:pt x="321" y="53"/>
                  </a:lnTo>
                  <a:lnTo>
                    <a:pt x="296" y="66"/>
                  </a:lnTo>
                  <a:lnTo>
                    <a:pt x="272" y="80"/>
                  </a:lnTo>
                  <a:lnTo>
                    <a:pt x="248" y="94"/>
                  </a:lnTo>
                  <a:lnTo>
                    <a:pt x="225" y="111"/>
                  </a:lnTo>
                  <a:lnTo>
                    <a:pt x="203" y="128"/>
                  </a:lnTo>
                  <a:lnTo>
                    <a:pt x="182" y="146"/>
                  </a:lnTo>
                  <a:lnTo>
                    <a:pt x="162" y="165"/>
                  </a:lnTo>
                  <a:lnTo>
                    <a:pt x="143" y="186"/>
                  </a:lnTo>
                  <a:lnTo>
                    <a:pt x="125" y="207"/>
                  </a:lnTo>
                  <a:lnTo>
                    <a:pt x="108" y="229"/>
                  </a:lnTo>
                  <a:lnTo>
                    <a:pt x="92" y="252"/>
                  </a:lnTo>
                  <a:lnTo>
                    <a:pt x="77" y="276"/>
                  </a:lnTo>
                  <a:lnTo>
                    <a:pt x="64" y="300"/>
                  </a:lnTo>
                  <a:lnTo>
                    <a:pt x="51" y="325"/>
                  </a:lnTo>
                  <a:lnTo>
                    <a:pt x="40" y="351"/>
                  </a:lnTo>
                  <a:lnTo>
                    <a:pt x="30" y="377"/>
                  </a:lnTo>
                  <a:lnTo>
                    <a:pt x="22" y="403"/>
                  </a:lnTo>
                  <a:lnTo>
                    <a:pt x="15" y="430"/>
                  </a:lnTo>
                  <a:lnTo>
                    <a:pt x="9" y="458"/>
                  </a:lnTo>
                  <a:lnTo>
                    <a:pt x="5" y="485"/>
                  </a:lnTo>
                  <a:lnTo>
                    <a:pt x="2" y="513"/>
                  </a:lnTo>
                  <a:lnTo>
                    <a:pt x="0" y="541"/>
                  </a:lnTo>
                  <a:lnTo>
                    <a:pt x="0" y="570"/>
                  </a:lnTo>
                  <a:lnTo>
                    <a:pt x="1" y="598"/>
                  </a:lnTo>
                  <a:lnTo>
                    <a:pt x="4" y="624"/>
                  </a:lnTo>
                  <a:lnTo>
                    <a:pt x="8" y="652"/>
                  </a:lnTo>
                  <a:lnTo>
                    <a:pt x="13" y="680"/>
                  </a:lnTo>
                  <a:lnTo>
                    <a:pt x="20" y="707"/>
                  </a:lnTo>
                  <a:lnTo>
                    <a:pt x="28" y="733"/>
                  </a:lnTo>
                  <a:lnTo>
                    <a:pt x="37" y="760"/>
                  </a:lnTo>
                  <a:lnTo>
                    <a:pt x="48" y="785"/>
                  </a:lnTo>
                  <a:lnTo>
                    <a:pt x="60" y="811"/>
                  </a:lnTo>
                  <a:lnTo>
                    <a:pt x="73" y="835"/>
                  </a:lnTo>
                  <a:lnTo>
                    <a:pt x="87" y="859"/>
                  </a:lnTo>
                  <a:lnTo>
                    <a:pt x="103" y="882"/>
                  </a:lnTo>
                  <a:lnTo>
                    <a:pt x="120" y="905"/>
                  </a:lnTo>
                  <a:lnTo>
                    <a:pt x="137" y="926"/>
                  </a:lnTo>
                  <a:lnTo>
                    <a:pt x="156" y="947"/>
                  </a:lnTo>
                  <a:lnTo>
                    <a:pt x="176" y="966"/>
                  </a:lnTo>
                  <a:lnTo>
                    <a:pt x="197" y="985"/>
                  </a:lnTo>
                  <a:lnTo>
                    <a:pt x="219" y="1002"/>
                  </a:lnTo>
                  <a:lnTo>
                    <a:pt x="241" y="1019"/>
                  </a:lnTo>
                  <a:lnTo>
                    <a:pt x="265" y="1034"/>
                  </a:lnTo>
                  <a:lnTo>
                    <a:pt x="289" y="1048"/>
                  </a:lnTo>
                  <a:lnTo>
                    <a:pt x="313" y="1061"/>
                  </a:lnTo>
                  <a:lnTo>
                    <a:pt x="339" y="1073"/>
                  </a:lnTo>
                  <a:lnTo>
                    <a:pt x="365" y="1083"/>
                  </a:lnTo>
                  <a:lnTo>
                    <a:pt x="391" y="1092"/>
                  </a:lnTo>
                  <a:lnTo>
                    <a:pt x="418" y="1100"/>
                  </a:lnTo>
                  <a:lnTo>
                    <a:pt x="445" y="1106"/>
                  </a:lnTo>
                  <a:lnTo>
                    <a:pt x="472" y="1111"/>
                  </a:lnTo>
                  <a:lnTo>
                    <a:pt x="500" y="1115"/>
                  </a:lnTo>
                  <a:lnTo>
                    <a:pt x="529" y="1117"/>
                  </a:lnTo>
                  <a:lnTo>
                    <a:pt x="557" y="1118"/>
                  </a:lnTo>
                  <a:lnTo>
                    <a:pt x="585" y="1117"/>
                  </a:lnTo>
                  <a:lnTo>
                    <a:pt x="613" y="1116"/>
                  </a:lnTo>
                  <a:lnTo>
                    <a:pt x="640" y="1112"/>
                  </a:lnTo>
                  <a:lnTo>
                    <a:pt x="668" y="1108"/>
                  </a:lnTo>
                  <a:lnTo>
                    <a:pt x="695" y="1101"/>
                  </a:lnTo>
                  <a:lnTo>
                    <a:pt x="722" y="1094"/>
                  </a:lnTo>
                  <a:lnTo>
                    <a:pt x="748" y="1085"/>
                  </a:lnTo>
                  <a:lnTo>
                    <a:pt x="774" y="1075"/>
                  </a:lnTo>
                  <a:lnTo>
                    <a:pt x="800" y="1064"/>
                  </a:lnTo>
                  <a:lnTo>
                    <a:pt x="825" y="1051"/>
                  </a:lnTo>
                  <a:lnTo>
                    <a:pt x="849" y="1037"/>
                  </a:lnTo>
                  <a:lnTo>
                    <a:pt x="873" y="1022"/>
                  </a:lnTo>
                  <a:lnTo>
                    <a:pt x="895" y="1006"/>
                  </a:lnTo>
                  <a:lnTo>
                    <a:pt x="917" y="989"/>
                  </a:lnTo>
                  <a:lnTo>
                    <a:pt x="938" y="971"/>
                  </a:lnTo>
                </a:path>
              </a:pathLst>
            </a:custGeom>
            <a:noFill/>
            <a:ln w="1098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6160" y="3406680"/>
            <a:ext cx="7506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5080" y="5707080"/>
            <a:ext cx="630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00160" y="3040200"/>
            <a:ext cx="3114720" cy="1593720"/>
            <a:chOff x="1100160" y="3040200"/>
            <a:chExt cx="3114720" cy="1593720"/>
          </a:xfrm>
        </p:grpSpPr>
        <p:sp>
          <p:nvSpPr>
            <p:cNvPr id="91" name=""/>
            <p:cNvSpPr/>
            <p:nvPr/>
          </p:nvSpPr>
          <p:spPr>
            <a:xfrm>
              <a:off x="1100160" y="3040200"/>
              <a:ext cx="3114720" cy="1593720"/>
            </a:xfrm>
            <a:prstGeom prst="roundRect">
              <a:avLst>
                <a:gd name="adj" fmla="val 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00160" y="3402360"/>
              <a:ext cx="311472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Arial"/>
                </a:rPr>
                <a:t>Killer T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00160" y="5275440"/>
            <a:ext cx="3114720" cy="1593720"/>
            <a:chOff x="1100160" y="5275440"/>
            <a:chExt cx="3114720" cy="1593720"/>
          </a:xfrm>
        </p:grpSpPr>
        <p:sp>
          <p:nvSpPr>
            <p:cNvPr id="94" name=""/>
            <p:cNvSpPr/>
            <p:nvPr/>
          </p:nvSpPr>
          <p:spPr>
            <a:xfrm>
              <a:off x="1100160" y="5275440"/>
              <a:ext cx="3114720" cy="1593720"/>
            </a:xfrm>
            <a:prstGeom prst="roundRect">
              <a:avLst>
                <a:gd name="adj" fmla="val 9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00160" y="5637600"/>
              <a:ext cx="3114720" cy="8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Arial"/>
                </a:rPr>
                <a:t>Killer T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137200" y="5254560"/>
            <a:ext cx="49435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Killer T opens infected cel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