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38BC-4096-4C84-9861-0716E699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5BE3-366F-4D9C-905F-677FB66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5C99-6E0A-4888-B46B-C70F0568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F592-B5ED-40EB-A8EB-4012436D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F701-C60E-4F70-B02E-260FEB6E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C56-84AD-44BE-B9CE-30464131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E59C-0855-4AA5-8B85-C7149D0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636A-7D0A-4DF3-BFFC-53929F6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5853-2219-47AF-92BF-8F9E3E72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754D-9FA1-4D2E-B4E7-45A1C21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BBA2-7380-4CCF-8E70-0EF69A9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75B8-C118-4B9E-A410-B03A61DA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159-3405-4CBD-AD4A-586DE23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DC0-2AE6-4934-92F9-972CCD8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CD3D-734B-4381-9886-4B173A0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558D-D937-4C1A-B09A-91C03C40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042D-06D2-47C4-92E4-B333F991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575A-1AE5-4FAD-BBB5-5DA0B10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4411-D6F6-4535-8C9A-A8F09DA3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17EA-8C4D-4B78-8705-30D629E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C1F4-F9BC-4C75-96A2-76DA23B9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916E-753B-4B2A-B995-DB4F351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678C-BD7E-4F48-A619-AFC77F3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FE57-4EFA-46C9-AA3D-66E599E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0A4-E5C2-4B0D-A348-1803E42CC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803-3A4F-47F8-B699-BF3EEDE39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NA Extraction and Amplific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C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OLATION OF DNA FROM INSECT S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IMINATION OF CELLULAR DEBRI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UTION OF PURIFIED D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EP ONE OVERVIEW:ISO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ell Lysis Solution-destroys cell membran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einase K-Destroys DNA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ein Precipitating Solution precipitates Protein (duh)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is point you have a “soup” of cellular components. The DNA must now be remo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EP TWO-ELIMINATION OF CELLULAR DEB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ell “soup” is added to a spin colum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filter in the column attracts DN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series of buffers/centrifugations will wash out everything but the DN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3-DNA E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DNA is still stuck to the original filter in the spin colum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verything else should be gon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final Elution Buffer is added, the sample is centrifuged, this removes the DN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laces where your students (but certainly not you) will mess this up</a:t>
            </a:r>
            <a:r>
              <a:rPr b="1" lang="en-US" sz="4000" spc="-1" strike="noStrike">
                <a:solidFill>
                  <a:srgbClr val="e5e5ff"/>
                </a:solidFill>
                <a:latin typeface="Wingdings"/>
                <a:ea typeface="Wingdings"/>
              </a:rPr>
              <a:t>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sing track of what you have or have not added (see organization chart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 labeling tubes properl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iting too long to add Proteinase 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 changing pipette tips and macerato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rowing out their eluted DNA (yes, this is a common mistake!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NA AMPLIFICATION- PC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luted or Control DNA (+ and -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aster Mix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q Polyme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ff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NTP’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imers-Forward and Reverse (W spec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re places for your students (but not you) to mess up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ube Label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eeping track of what has been adde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are using “pelleted” master mix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e organizational char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3:32:50Z</dcterms:created>
  <dc:creator> </dc:creator>
  <dc:description/>
  <dc:language>en-US</dc:language>
  <cp:lastModifiedBy>Seth Bordenstein</cp:lastModifiedBy>
  <dcterms:modified xsi:type="dcterms:W3CDTF">2007-07-27T13:44:55Z</dcterms:modified>
  <cp:revision>11</cp:revision>
  <dc:subject/>
  <dc:title>DNA Extraction and Amplification</dc:title>
</cp:coreProperties>
</file>